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93F-1740-4320-9967-6B9545FB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C78-BD09-4398-A916-4ACDE694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1B3-6677-4342-94B0-B859D524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F61B-DD1C-4D9C-B0D5-A3B1E736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6B3-AC52-4C83-89D1-28D58C03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7A81-E431-4809-82E2-F018DBDC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2054-C559-424B-8545-0846BC51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E6A0-0A73-42CD-A95B-646827CD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59BA-6A59-470D-8DC5-4E6BDEF1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E2C0-DD7A-455F-BD69-30778C83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098-4D01-4616-BEAA-AD2B8047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4D84-7061-463A-84AE-A4BBF02C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C615-E6E8-4AEE-B9A0-A9441B8D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A83B-AF38-4815-9650-E0DECC49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C68C-2544-4138-B393-0416FE7B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7208-1758-443F-B94A-BA868A0F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1922-D180-4EB7-9B4B-3EE33F0D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FA52-6CDD-4C8F-A2C7-0FF62690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B27-09D0-46C5-B2C1-4FC609CF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C7F-AF5D-4A42-B9DD-C767DEB5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CB0-DA87-4553-AAF4-3BBABFD7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522-8892-4A06-8D15-7AF8730B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C5B-B413-4B1A-89CA-ADFAD6DC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8CE-9306-4A54-8411-479143A2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05680" y="63702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35F3-95F2-427B-AE6A-D41849AA371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9640" y="730080"/>
            <a:ext cx="8064720" cy="5761080"/>
          </a:xfrm>
          <a:prstGeom prst="roundRect">
            <a:avLst>
              <a:gd name="adj" fmla="val 565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632280" y="6462720"/>
            <a:ext cx="17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Copy right b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雁行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49280" y="282600"/>
            <a:ext cx="824040" cy="8240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1258920" y="304920"/>
          <a:ext cx="115236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304920"/>
                    <a:ext cx="11523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" name=""/>
          <p:cNvGrpSpPr/>
          <p:nvPr/>
        </p:nvGrpSpPr>
        <p:grpSpPr>
          <a:xfrm>
            <a:off x="3603600" y="6237360"/>
            <a:ext cx="1895040" cy="501480"/>
            <a:chOff x="3603600" y="6237360"/>
            <a:chExt cx="1895040" cy="501480"/>
          </a:xfrm>
        </p:grpSpPr>
        <p:pic>
          <p:nvPicPr>
            <p:cNvPr id="12" name="new_emlogo" descr=""/>
            <p:cNvPicPr/>
            <p:nvPr/>
          </p:nvPicPr>
          <p:blipFill>
            <a:blip r:embed="rId5"/>
            <a:srcRect l="0" t="4521" r="3940" b="0"/>
            <a:stretch/>
          </p:blipFill>
          <p:spPr>
            <a:xfrm>
              <a:off x="3603600" y="6237360"/>
              <a:ext cx="676440" cy="50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经管" descr=""/>
            <p:cNvPicPr/>
            <p:nvPr/>
          </p:nvPicPr>
          <p:blipFill>
            <a:blip r:embed="rId6"/>
            <a:stretch/>
          </p:blipFill>
          <p:spPr>
            <a:xfrm>
              <a:off x="4270680" y="6246720"/>
              <a:ext cx="122796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" name=""/>
          <p:cNvSpPr/>
          <p:nvPr/>
        </p:nvSpPr>
        <p:spPr>
          <a:xfrm>
            <a:off x="2916360" y="404640"/>
            <a:ext cx="322740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632280" y="6462720"/>
            <a:ext cx="17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Copy right b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雁行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31B0-6087-45BC-BFE6-6533B48EF1A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按一下以編輯母片標題樣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按一下以編輯母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第二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第三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第四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第五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730080"/>
            <a:ext cx="8064720" cy="5761080"/>
          </a:xfrm>
          <a:prstGeom prst="roundRect">
            <a:avLst>
              <a:gd name="adj" fmla="val 5657"/>
            </a:avLst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08600" y="1585800"/>
            <a:ext cx="48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ood Service is Good Bus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32280" y="6462720"/>
            <a:ext cx="17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Copy right b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雁行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244800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059280" y="1484280"/>
          <a:ext cx="122364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1484280"/>
                    <a:ext cx="12236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157720" y="45396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2276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哈佛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商业评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案例大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9360" y="-2844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宋体"/>
              </a:rPr>
              <a:t>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宋体"/>
              </a:rPr>
              <a:t>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A4A6-A167-4A6D-9461-0D51D0DA61EE}" type="slidenum">
              <a:rPr b="0" lang="zh-TW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宋体"/>
              </a:rPr>
              <a:t>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622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宋体"/>
              </a:rPr>
              <a:t>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730080"/>
            <a:ext cx="8064720" cy="5761080"/>
          </a:xfrm>
          <a:prstGeom prst="roundRect">
            <a:avLst>
              <a:gd name="adj" fmla="val 5657"/>
            </a:avLst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27200" y="42840"/>
            <a:ext cx="2230200" cy="223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3014640" y="1106640"/>
          <a:ext cx="1451160" cy="62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4640" y="1106640"/>
                    <a:ext cx="1451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427640" y="1700280"/>
            <a:ext cx="40320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2205000"/>
            <a:ext cx="575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宋体"/>
                <a:ea typeface="宋体"/>
              </a:rPr>
              <a:t>案例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3300"/>
                </a:solidFill>
                <a:latin typeface="Arial"/>
                <a:ea typeface="宋体"/>
              </a:rPr>
              <a:t>The strategy that wouldn't tra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68600" y="4911840"/>
            <a:ext cx="30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00"/>
                </a:solidFill>
                <a:latin typeface="Arial"/>
                <a:ea typeface="宋体"/>
              </a:rPr>
              <a:t>Report by</a:t>
            </a:r>
            <a:r>
              <a:rPr b="1" i="1" lang="zh-TW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i="1" lang="zh-TW" sz="2400" spc="-1" strike="noStrike">
                <a:solidFill>
                  <a:srgbClr val="000000"/>
                </a:solidFill>
                <a:latin typeface="宋体"/>
                <a:ea typeface="宋体"/>
              </a:rPr>
              <a:t>雁行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529080" y="6027840"/>
            <a:ext cx="2131560" cy="648720"/>
            <a:chOff x="3529080" y="6027840"/>
            <a:chExt cx="2131560" cy="648720"/>
          </a:xfrm>
        </p:grpSpPr>
        <p:pic>
          <p:nvPicPr>
            <p:cNvPr id="156" name="new_emlogo" descr=""/>
            <p:cNvPicPr/>
            <p:nvPr/>
          </p:nvPicPr>
          <p:blipFill>
            <a:blip r:embed="rId4"/>
            <a:srcRect l="0" t="4521" r="3940" b="0"/>
            <a:stretch/>
          </p:blipFill>
          <p:spPr>
            <a:xfrm>
              <a:off x="3529080" y="6027840"/>
              <a:ext cx="761040" cy="64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经管" descr=""/>
            <p:cNvPicPr/>
            <p:nvPr/>
          </p:nvPicPr>
          <p:blipFill>
            <a:blip r:embed="rId5"/>
            <a:stretch/>
          </p:blipFill>
          <p:spPr>
            <a:xfrm>
              <a:off x="4279680" y="6039720"/>
              <a:ext cx="13809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4498920" y="1225440"/>
            <a:ext cx="39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哈佛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商业评论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案例大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423040" y="4751280"/>
            <a:ext cx="2842920" cy="897120"/>
            <a:chOff x="5423040" y="4751280"/>
            <a:chExt cx="2842920" cy="897120"/>
          </a:xfrm>
        </p:grpSpPr>
        <p:pic>
          <p:nvPicPr>
            <p:cNvPr id="160" name="" descr=""/>
            <p:cNvPicPr/>
            <p:nvPr/>
          </p:nvPicPr>
          <p:blipFill>
            <a:blip r:embed="rId6"/>
            <a:stretch/>
          </p:blipFill>
          <p:spPr>
            <a:xfrm>
              <a:off x="7001640" y="4751280"/>
              <a:ext cx="126432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423040" y="4751280"/>
              <a:ext cx="243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吴欣芝 贺恒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99"/>
                  </a:solidFill>
                  <a:latin typeface="Arial"/>
                  <a:ea typeface="宋体"/>
                </a:rPr>
                <a:t>王东明 王春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08000" y="5443920"/>
              <a:ext cx="160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19160" y="5507280"/>
              <a:ext cx="154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031840" y="1482840"/>
            <a:ext cx="4991400" cy="158436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344680" y="1670040"/>
            <a:ext cx="46213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信息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拉伯克工厂经常达到每个月的目标，同时操做成本和维修成本都有所减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35280" y="3284640"/>
            <a:ext cx="1008000" cy="1114200"/>
          </a:xfrm>
          <a:prstGeom prst="downArrow">
            <a:avLst>
              <a:gd name="adj1" fmla="val 50000"/>
              <a:gd name="adj2" fmla="val 2763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68360" y="4638600"/>
            <a:ext cx="6491520" cy="86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拉伯克的员工已经意识到高层改革的动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员工还是愿意配合变革，并非劳工冲突所引发的全面性抵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68760" y="476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会与转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98720" y="3529080"/>
            <a:ext cx="30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变革其实是有在发生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908000" y="1413000"/>
            <a:ext cx="5315040" cy="13446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00360" y="1484280"/>
            <a:ext cx="381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信息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他们只愿意出席有食品和啤酒的垒球比赛，但是不打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0" y="2852640"/>
            <a:ext cx="1008000" cy="1673280"/>
          </a:xfrm>
          <a:prstGeom prst="downArrow">
            <a:avLst>
              <a:gd name="adj1" fmla="val 50000"/>
              <a:gd name="adj2" fmla="val 415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4724280"/>
            <a:ext cx="7489800" cy="86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员工还是会遵守公司的新措施，但是限于对他们有好处的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证明并非是由劳动阶层有组织的对抗管理阶层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变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革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68760" y="4618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会与转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87640" y="3284640"/>
            <a:ext cx="295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员工不参与改革的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780000" y="47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宋体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84720" y="2276640"/>
            <a:ext cx="2399040" cy="2950920"/>
          </a:xfrm>
          <a:custGeom>
            <a:avLst/>
            <a:gdLst>
              <a:gd name="textAreaLeft" fmla="*/ 117000 w 2399040"/>
              <a:gd name="textAreaRight" fmla="*/ 2282040 w 2399040"/>
              <a:gd name="textAreaTop" fmla="*/ 117000 h 2950920"/>
              <a:gd name="textAreaBottom" fmla="*/ 2833920 h 2950920"/>
            </a:gdLst>
            <a:ahLst/>
            <a:rect l="textAreaLeft" t="textAreaTop" r="textAreaRight" b="textAreaBottom"/>
            <a:pathLst>
              <a:path w="21600" h="26568">
                <a:moveTo>
                  <a:pt x="3600" y="0"/>
                </a:moveTo>
                <a:arcTo wR="3600" hR="3600" stAng="16200000" swAng="-5400000"/>
                <a:lnTo>
                  <a:pt x="0" y="22968"/>
                </a:lnTo>
                <a:arcTo wR="3600" hR="3600" stAng="10800000" swAng="-5400000"/>
                <a:lnTo>
                  <a:pt x="18000" y="26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2400" y="1712880"/>
            <a:ext cx="5200560" cy="4246560"/>
          </a:xfrm>
          <a:prstGeom prst="rightArrow">
            <a:avLst>
              <a:gd name="adj1" fmla="val 79306"/>
              <a:gd name="adj2" fmla="val 30333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1844640"/>
            <a:ext cx="3716280" cy="934920"/>
          </a:xfrm>
          <a:prstGeom prst="roundRect">
            <a:avLst>
              <a:gd name="adj" fmla="val 9106"/>
            </a:avLst>
          </a:prstGeom>
          <a:solidFill>
            <a:srgbClr val="96969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寻找新的大卫</a:t>
            </a:r>
            <a:r>
              <a:rPr b="1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·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凯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71640" y="3860640"/>
            <a:ext cx="3682800" cy="9352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说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革的愿景及政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71640" y="4869000"/>
            <a:ext cx="3716280" cy="9349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9999"/>
              </a:gs>
              <a:gs pos="100000">
                <a:srgbClr val="4cb7b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激励员工参与改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84720" y="2492280"/>
            <a:ext cx="273708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目标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卸下心防 强化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管理阶层的信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建立有针对性的社   会化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重建变革的信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积极参与变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71640" y="2852640"/>
            <a:ext cx="3716280" cy="9352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3399"/>
              </a:gs>
              <a:gs pos="100000">
                <a:srgbClr val="7070b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审视两地的文化差异</a:t>
            </a:r>
            <a:r>
              <a:rPr b="1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124000" y="263700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拉伯克危机排除了，变革该如何继续呢</a:t>
            </a:r>
            <a:r>
              <a:rPr b="1" i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1144800" cy="17985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492360" y="47628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普适变革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419640" y="4762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普适变革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4360" y="1268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变</a:t>
            </a:r>
            <a:r>
              <a:rPr b="1" lang="zh-TW" sz="2400" spc="-1" strike="noStrike">
                <a:solidFill>
                  <a:srgbClr val="333399"/>
                </a:solidFill>
                <a:latin typeface="Arial"/>
              </a:rPr>
              <a:t>革的</a:t>
            </a:r>
            <a:r>
              <a:rPr b="1" lang="zh-TW" sz="2400" spc="-1" strike="noStrike">
                <a:solidFill>
                  <a:srgbClr val="333399"/>
                </a:solidFill>
                <a:latin typeface="Arial"/>
              </a:rPr>
              <a:t>MOVEMENT</a:t>
            </a:r>
            <a:r>
              <a:rPr b="1" lang="zh-TW" sz="2400" spc="-1" strike="noStrike">
                <a:solidFill>
                  <a:srgbClr val="333399"/>
                </a:solidFill>
                <a:latin typeface="Arial"/>
              </a:rPr>
              <a:t>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443640" y="2924280"/>
            <a:ext cx="149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指导团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77080" y="3676680"/>
            <a:ext cx="25272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变革愿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300720" y="4581360"/>
            <a:ext cx="18273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99"/>
                </a:solidFill>
                <a:latin typeface="Arial"/>
              </a:rPr>
              <a:t>有效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沟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95760" y="3616200"/>
            <a:ext cx="12967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99"/>
                </a:solidFill>
                <a:latin typeface="Arial"/>
              </a:rPr>
              <a:t>不要放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74840" y="2693880"/>
            <a:ext cx="12718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巩固</a:t>
            </a:r>
            <a:r>
              <a:rPr b="1" lang="zh-TW" sz="1600" spc="-1" strike="noStrike">
                <a:solidFill>
                  <a:srgbClr val="333399"/>
                </a:solidFill>
                <a:latin typeface="Arial"/>
              </a:rPr>
              <a:t>成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787920" y="2322360"/>
            <a:ext cx="3571560" cy="2989440"/>
          </a:xfrm>
          <a:prstGeom prst="ellipse">
            <a:avLst/>
          </a:prstGeom>
          <a:noFill/>
          <a:ln w="57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48360" y="2060640"/>
            <a:ext cx="17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紧迫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5157720"/>
            <a:ext cx="18799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授权行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33880" y="4565520"/>
            <a:ext cx="15094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99"/>
                </a:solidFill>
                <a:latin typeface="Arial"/>
              </a:rPr>
              <a:t>短期成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0320" y="34844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5640" y="1773360"/>
            <a:ext cx="3097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ore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rganize a director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ision build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fective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ake  team power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arly effect 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ever loo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ighten achie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27640" y="2421000"/>
            <a:ext cx="505080" cy="28728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236000" y="3213000"/>
            <a:ext cx="144360" cy="50328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049880" y="4233960"/>
            <a:ext cx="215640" cy="431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940000" y="5084640"/>
            <a:ext cx="576360" cy="216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4470480" y="5041440"/>
            <a:ext cx="637920" cy="2574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01600" y="4078440"/>
            <a:ext cx="265320" cy="6458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3730680" y="3154320"/>
            <a:ext cx="222120" cy="603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2349000"/>
            <a:ext cx="503280" cy="360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598760" y="3333600"/>
            <a:ext cx="57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Thank you for your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245120" y="4724280"/>
            <a:ext cx="3701880" cy="1212840"/>
            <a:chOff x="4245120" y="4724280"/>
            <a:chExt cx="3701880" cy="121284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6300720" y="4724280"/>
              <a:ext cx="16462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4245120" y="4724280"/>
              <a:ext cx="316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吴欣芝 贺恒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  <a:ea typeface="宋体"/>
                </a:rPr>
                <a:t>王东明 王春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56000" y="566100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70400" y="5746680"/>
              <a:ext cx="20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3992400" y="465120"/>
            <a:ext cx="11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682720" y="4363920"/>
            <a:ext cx="1370160" cy="1013040"/>
          </a:xfrm>
          <a:prstGeom prst="hexagon">
            <a:avLst>
              <a:gd name="adj" fmla="val 33813"/>
              <a:gd name="vf" fmla="val 115470"/>
            </a:avLst>
          </a:prstGeom>
          <a:solidFill>
            <a:srgbClr val="ffcc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11520" y="1871640"/>
            <a:ext cx="1382760" cy="1074600"/>
          </a:xfrm>
          <a:prstGeom prst="hexagon">
            <a:avLst>
              <a:gd name="adj" fmla="val 32169"/>
              <a:gd name="vf" fmla="val 115470"/>
            </a:avLst>
          </a:prstGeom>
          <a:solidFill>
            <a:srgbClr val="ffcc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32200" y="461880"/>
            <a:ext cx="37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卡伦 希梅内斯的困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43160" y="3119400"/>
            <a:ext cx="1481400" cy="1154160"/>
          </a:xfrm>
          <a:prstGeom prst="hexagon">
            <a:avLst>
              <a:gd name="adj" fmla="val 32088"/>
              <a:gd name="vf" fmla="val 11547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21160" y="2320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何让丹尼尔觉得专案并未失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10000" y="3648240"/>
            <a:ext cx="4788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项目的拖延可能降低高层变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渴望并危及到项目的资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30600" y="492912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没有一个清晰的思路来决定怎么做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42320" y="2060640"/>
            <a:ext cx="911880" cy="33116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高层的会议就要开始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  <a:ea typeface="宋体"/>
              </a:rPr>
              <a:t>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981000" cy="1800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32200" y="2927520"/>
            <a:ext cx="4321080" cy="18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59120" y="5403960"/>
            <a:ext cx="417528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22680" y="429408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02120" y="4762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决希梅内斯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84240" y="1413000"/>
            <a:ext cx="66722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变革要持续的推动 </a:t>
            </a:r>
            <a:r>
              <a:rPr b="1" lang="zh-TW" sz="2400" spc="-1" strike="noStrike">
                <a:solidFill>
                  <a:srgbClr val="ff3300"/>
                </a:solidFill>
                <a:latin typeface="宋体"/>
                <a:ea typeface="宋体"/>
              </a:rPr>
              <a:t>變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革成果是可以被期待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984240" y="568008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983880" y="4842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983880" y="4011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83880" y="318276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983880" y="2341440"/>
            <a:ext cx="503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36520" y="233532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36520" y="320688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36520" y="4024440"/>
            <a:ext cx="0" cy="815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36520" y="4842000"/>
            <a:ext cx="0" cy="815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45560" y="2344680"/>
            <a:ext cx="576000" cy="846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84720" y="2344680"/>
            <a:ext cx="3343320" cy="54144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65960" y="3176640"/>
            <a:ext cx="576360" cy="8413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4560" y="3176640"/>
            <a:ext cx="3593880" cy="53964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84920" y="4008600"/>
            <a:ext cx="573120" cy="84456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07120" y="4842000"/>
            <a:ext cx="577800" cy="846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3600" y="4846680"/>
            <a:ext cx="4081320" cy="53964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95800" y="2498760"/>
            <a:ext cx="1838160" cy="272268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19640" y="2852640"/>
            <a:ext cx="2766960" cy="304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支持公司全面及长久的变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716280"/>
            <a:ext cx="3016440" cy="298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可达到提高生产力及士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30520" y="4008600"/>
            <a:ext cx="3834000" cy="54432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551480"/>
            <a:ext cx="3263760" cy="298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拉伯克的问题分析及解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01800" y="5388120"/>
            <a:ext cx="3513240" cy="296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宋体"/>
              </a:rPr>
              <a:t>拉伯克市的小成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70000" y="256536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提出普适的变革模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3429000"/>
            <a:ext cx="316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提出现行解决方案及愿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4292640"/>
            <a:ext cx="3209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分析变革中可能出现的问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16000" y="5157720"/>
            <a:ext cx="25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汇报第二阶段改革的进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349800" y="461880"/>
            <a:ext cx="26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打开黑箱看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987640" y="2924280"/>
            <a:ext cx="1616040" cy="1701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V="1">
            <a:off x="1116000" y="3425400"/>
            <a:ext cx="1903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17440" y="3962520"/>
            <a:ext cx="189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4508640"/>
            <a:ext cx="1917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73320" y="3068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解决会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03200" y="3630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宋体"/>
              </a:rPr>
              <a:t>SPITS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宋体"/>
              </a:rPr>
              <a:t>小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19040" y="41227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宋体"/>
              </a:rPr>
              <a:t>垒球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572000" y="2781360"/>
            <a:ext cx="647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4292640"/>
            <a:ext cx="6922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452920" y="2015640"/>
            <a:ext cx="2897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54720" y="2552760"/>
            <a:ext cx="2921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2920" y="3090960"/>
            <a:ext cx="302904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64000" y="1630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参加逐次增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49960" y="216072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获得直接解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07120" y="26845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参加踊跃 拉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r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raw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距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51480" y="4669920"/>
            <a:ext cx="2897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52920" y="5207040"/>
            <a:ext cx="2921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451480" y="5745240"/>
            <a:ext cx="302904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62560" y="4284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没有人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48160" y="48150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没有机会建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48160" y="533880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没有人参加球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06960" y="2076480"/>
            <a:ext cx="10047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3300"/>
                </a:solidFill>
                <a:latin typeface="Arial"/>
                <a:ea typeface="宋体"/>
              </a:rPr>
              <a:t>威奇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55920" y="4832280"/>
            <a:ext cx="9399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3300"/>
                </a:solidFill>
                <a:latin typeface="Arial"/>
                <a:ea typeface="宋体"/>
              </a:rPr>
              <a:t>拉伯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00080" y="1411200"/>
            <a:ext cx="206712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黑箱模型拆解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117960" y="4921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QBQ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背后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508360" y="2492280"/>
            <a:ext cx="177156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325400" y="4516560"/>
            <a:ext cx="19080" cy="155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1403280" y="2565000"/>
            <a:ext cx="1889280" cy="91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478320" y="3219480"/>
            <a:ext cx="2155680" cy="1285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481120" y="1427040"/>
            <a:ext cx="34038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文化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地域性的差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知识本土化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1844640"/>
            <a:ext cx="71280" cy="504720"/>
          </a:xfrm>
          <a:custGeom>
            <a:avLst/>
            <a:gdLst>
              <a:gd name="textAreaLeft" fmla="*/ 45720 w 71280"/>
              <a:gd name="textAreaRight" fmla="*/ 71640 w 71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1773360"/>
            <a:ext cx="421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威奇托：以德国裔为主具率直性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拉伯克：以拉丁美裔为主具自由散漫性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17440" y="4576680"/>
            <a:ext cx="29196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人员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具号召力的领导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群体压力的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41760" y="4538520"/>
            <a:ext cx="28796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历史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劳工冲突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改革态度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58120" y="4970520"/>
            <a:ext cx="71280" cy="57636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88000" y="4941720"/>
            <a:ext cx="2340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威奇托：曾经爆发劳工问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拉伯克：问题较轻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335400" y="43164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变革现况的归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94040" y="2647800"/>
            <a:ext cx="554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变革要持续 </a:t>
            </a:r>
            <a:r>
              <a:rPr b="1" i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那么现有的优势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300720" y="4653000"/>
            <a:ext cx="16462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3425760" y="1700280"/>
            <a:ext cx="2143440" cy="4341240"/>
            <a:chOff x="3425760" y="1700280"/>
            <a:chExt cx="2143440" cy="4341240"/>
          </a:xfrm>
        </p:grpSpPr>
        <p:sp>
          <p:nvSpPr>
            <p:cNvPr id="245" name=""/>
            <p:cNvSpPr/>
            <p:nvPr/>
          </p:nvSpPr>
          <p:spPr>
            <a:xfrm>
              <a:off x="3425760" y="2031840"/>
              <a:ext cx="2140920" cy="3074400"/>
            </a:xfrm>
            <a:custGeom>
              <a:avLst/>
              <a:gdLst>
                <a:gd name="textAreaLeft" fmla="*/ 109800 w 2140920"/>
                <a:gd name="textAreaRight" fmla="*/ 2031120 w 2140920"/>
                <a:gd name="textAreaTop" fmla="*/ 109800 h 3074400"/>
                <a:gd name="textAreaBottom" fmla="*/ 2964600 h 3074400"/>
              </a:gdLst>
              <a:ahLst/>
              <a:rect l="textAreaLeft" t="textAreaTop" r="textAreaRight" b="textAreaBottom"/>
              <a:pathLst>
                <a:path w="21600" h="31016">
                  <a:moveTo>
                    <a:pt x="3782" y="0"/>
                  </a:moveTo>
                  <a:arcTo wR="3782" hR="3782" stAng="16200000" swAng="-5400000"/>
                  <a:lnTo>
                    <a:pt x="0" y="27234"/>
                  </a:lnTo>
                  <a:arcTo wR="3782" hR="3782" stAng="10800000" swAng="-5400000"/>
                  <a:lnTo>
                    <a:pt x="17818" y="3101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59240" y="2040480"/>
              <a:ext cx="2075400" cy="3015360"/>
            </a:xfrm>
            <a:custGeom>
              <a:avLst/>
              <a:gdLst>
                <a:gd name="textAreaLeft" fmla="*/ 101160 w 2075400"/>
                <a:gd name="textAreaRight" fmla="*/ 1974240 w 2075400"/>
                <a:gd name="textAreaTop" fmla="*/ 101160 h 3015360"/>
                <a:gd name="textAreaBottom" fmla="*/ 2914200 h 3015360"/>
              </a:gdLst>
              <a:ahLst/>
              <a:rect l="textAreaLeft" t="textAreaTop" r="textAreaRight" b="textAreaBottom"/>
              <a:pathLst>
                <a:path w="21600" h="31381">
                  <a:moveTo>
                    <a:pt x="3600" y="0"/>
                  </a:moveTo>
                  <a:arcTo wR="3600" hR="3600" stAng="16200000" swAng="-5400000"/>
                  <a:lnTo>
                    <a:pt x="0" y="27781"/>
                  </a:lnTo>
                  <a:arcTo wR="3600" hR="3600" stAng="10800000" swAng="-5400000"/>
                  <a:lnTo>
                    <a:pt x="18000" y="313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75800" y="4260240"/>
              <a:ext cx="2048040" cy="762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75800" y="2063520"/>
              <a:ext cx="2048040" cy="761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62680" y="1700280"/>
              <a:ext cx="635040" cy="69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68080" y="1705680"/>
              <a:ext cx="615960" cy="6692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76360" y="1708560"/>
              <a:ext cx="601560" cy="6537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83560" y="1715760"/>
              <a:ext cx="570960" cy="609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16680" y="1733040"/>
              <a:ext cx="507240" cy="49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36080" y="18666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</a:t>
              </a:r>
              <a:r>
                <a:rPr b="1" lang="zh-TW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革的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方法可以借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1000" y="2520360"/>
              <a:ext cx="20336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28280" y="5106240"/>
              <a:ext cx="2140920" cy="9352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73280" y="5130720"/>
              <a:ext cx="2047680" cy="83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969160" y="1766880"/>
            <a:ext cx="2260080" cy="4241520"/>
            <a:chOff x="5969160" y="1766880"/>
            <a:chExt cx="2260080" cy="4241520"/>
          </a:xfrm>
        </p:grpSpPr>
        <p:sp>
          <p:nvSpPr>
            <p:cNvPr id="259" name=""/>
            <p:cNvSpPr/>
            <p:nvPr/>
          </p:nvSpPr>
          <p:spPr>
            <a:xfrm>
              <a:off x="5976000" y="2091240"/>
              <a:ext cx="2253240" cy="3003480"/>
            </a:xfrm>
            <a:custGeom>
              <a:avLst/>
              <a:gdLst>
                <a:gd name="textAreaLeft" fmla="*/ 115560 w 2253240"/>
                <a:gd name="textAreaRight" fmla="*/ 2137680 w 2253240"/>
                <a:gd name="textAreaTop" fmla="*/ 115560 h 3003480"/>
                <a:gd name="textAreaBottom" fmla="*/ 2887920 h 3003480"/>
              </a:gdLst>
              <a:ahLst/>
              <a:rect l="textAreaLeft" t="textAreaTop" r="textAreaRight" b="textAreaBottom"/>
              <a:pathLst>
                <a:path w="21600" h="28791">
                  <a:moveTo>
                    <a:pt x="3782" y="0"/>
                  </a:moveTo>
                  <a:arcTo wR="3782" hR="3782" stAng="16200000" swAng="-5400000"/>
                  <a:lnTo>
                    <a:pt x="0" y="25009"/>
                  </a:lnTo>
                  <a:arcTo wR="3782" hR="3782" stAng="10800000" swAng="-5400000"/>
                  <a:lnTo>
                    <a:pt x="17818" y="28791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98320" y="2124360"/>
              <a:ext cx="2185560" cy="2946240"/>
            </a:xfrm>
            <a:custGeom>
              <a:avLst/>
              <a:gdLst>
                <a:gd name="textAreaLeft" fmla="*/ 106560 w 2185560"/>
                <a:gd name="textAreaRight" fmla="*/ 2079000 w 2185560"/>
                <a:gd name="textAreaTop" fmla="*/ 106560 h 2946240"/>
                <a:gd name="textAreaBottom" fmla="*/ 2839680 h 2946240"/>
              </a:gdLst>
              <a:ahLst/>
              <a:rect l="textAreaLeft" t="textAreaTop" r="textAreaRight" b="textAreaBottom"/>
              <a:pathLst>
                <a:path w="21600" h="29117">
                  <a:moveTo>
                    <a:pt x="3600" y="0"/>
                  </a:moveTo>
                  <a:arcTo wR="3600" hR="3600" stAng="16200000" swAng="-5400000"/>
                  <a:lnTo>
                    <a:pt x="0" y="25517"/>
                  </a:lnTo>
                  <a:arcTo wR="3600" hR="3600" stAng="10800000" swAng="-5400000"/>
                  <a:lnTo>
                    <a:pt x="18000" y="291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28560" y="4268160"/>
              <a:ext cx="2156400" cy="745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28560" y="2121840"/>
              <a:ext cx="2156400" cy="74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751080" y="1766880"/>
              <a:ext cx="669600" cy="675000"/>
              <a:chOff x="6751080" y="1766880"/>
              <a:chExt cx="669600" cy="675000"/>
            </a:xfrm>
          </p:grpSpPr>
          <p:sp>
            <p:nvSpPr>
              <p:cNvPr id="264" name=""/>
              <p:cNvSpPr/>
              <p:nvPr/>
            </p:nvSpPr>
            <p:spPr>
              <a:xfrm>
                <a:off x="6751080" y="1766880"/>
                <a:ext cx="669600" cy="6750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57920" y="1771920"/>
                <a:ext cx="647640" cy="6537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65840" y="1775880"/>
                <a:ext cx="632520" cy="637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73040" y="1782000"/>
                <a:ext cx="601200" cy="595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807960" y="1798200"/>
                <a:ext cx="534240" cy="483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6545160" y="19040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高層仍然支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53400" y="2568240"/>
              <a:ext cx="2144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69160" y="5094720"/>
              <a:ext cx="2253240" cy="9136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14880" y="5118480"/>
              <a:ext cx="2156400" cy="812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900000" y="2063880"/>
            <a:ext cx="2097360" cy="3124080"/>
          </a:xfrm>
          <a:custGeom>
            <a:avLst/>
            <a:gdLst>
              <a:gd name="textAreaLeft" fmla="*/ 107280 w 2097360"/>
              <a:gd name="textAreaRight" fmla="*/ 1990080 w 2097360"/>
              <a:gd name="textAreaTop" fmla="*/ 107280 h 3124080"/>
              <a:gd name="textAreaBottom" fmla="*/ 3016800 h 3124080"/>
            </a:gdLst>
            <a:ahLst/>
            <a:rect l="textAreaLeft" t="textAreaTop" r="textAreaRight" b="textAreaBottom"/>
            <a:pathLst>
              <a:path w="21600" h="32172">
                <a:moveTo>
                  <a:pt x="3782" y="0"/>
                </a:moveTo>
                <a:arcTo wR="3782" hR="3782" stAng="16200000" swAng="-5400000"/>
                <a:lnTo>
                  <a:pt x="0" y="28390"/>
                </a:lnTo>
                <a:arcTo wR="3782" hR="3782" stAng="10800000" swAng="-5400000"/>
                <a:lnTo>
                  <a:pt x="17818" y="32172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33480" y="2073240"/>
            <a:ext cx="2033640" cy="3065400"/>
          </a:xfrm>
          <a:custGeom>
            <a:avLst/>
            <a:gdLst>
              <a:gd name="textAreaLeft" fmla="*/ 99000 w 2033640"/>
              <a:gd name="textAreaRight" fmla="*/ 1934640 w 2033640"/>
              <a:gd name="textAreaTop" fmla="*/ 99000 h 3065400"/>
              <a:gd name="textAreaBottom" fmla="*/ 2966400 h 3065400"/>
            </a:gdLst>
            <a:ahLst/>
            <a:rect l="textAreaLeft" t="textAreaTop" r="textAreaRight" b="textAreaBottom"/>
            <a:pathLst>
              <a:path w="21600" h="32557">
                <a:moveTo>
                  <a:pt x="3600" y="0"/>
                </a:moveTo>
                <a:arcTo wR="3600" hR="3600" stAng="16200000" swAng="-5400000"/>
                <a:lnTo>
                  <a:pt x="0" y="28957"/>
                </a:lnTo>
                <a:arcTo wR="3600" hR="3600" stAng="10800000" swAng="-5400000"/>
                <a:lnTo>
                  <a:pt x="18000" y="32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49320" y="4329000"/>
            <a:ext cx="2006640" cy="776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49320" y="2097000"/>
            <a:ext cx="2006640" cy="774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6480" y="5187960"/>
            <a:ext cx="2097000" cy="95256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729eb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49320" y="5214960"/>
            <a:ext cx="2006640" cy="84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af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22520" y="1727280"/>
            <a:ext cx="622080" cy="7030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28640" y="1733400"/>
            <a:ext cx="603360" cy="6796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35120" y="1736640"/>
            <a:ext cx="588960" cy="6638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41600" y="1743120"/>
            <a:ext cx="561960" cy="61920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1760400"/>
            <a:ext cx="4986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00160" y="1857240"/>
            <a:ext cx="18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宋体"/>
              </a:rPr>
              <a:t>威奇拖的成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98720" y="46188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宋体"/>
              </a:rPr>
              <a:t>优势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73160" y="2492280"/>
            <a:ext cx="187164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打破阶层隔阂，互相解决问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2.SPITS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拥有自行处理问的能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员工对非正式活动参与意愿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生产力及士气皆获大幅提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5280" y="2492280"/>
            <a:ext cx="17971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问题交流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2.SP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垒球比赛等交流活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56360" y="2492280"/>
            <a:ext cx="2016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丹尼尔已经对外宣称改革的决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丹尼尔已经在股东会上做过宣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在着名的华尔街财经杂志谈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57880" y="5227560"/>
            <a:ext cx="180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高层支持的决心短期不会改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48160" y="5259240"/>
            <a:ext cx="211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这些方法，对问题解决是有效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44720" y="5256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成功经验可以被引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635280" y="476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现存的危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909720" y="1752480"/>
            <a:ext cx="7203960" cy="4230720"/>
            <a:chOff x="909720" y="1752480"/>
            <a:chExt cx="7203960" cy="4230720"/>
          </a:xfrm>
        </p:grpSpPr>
        <p:sp>
          <p:nvSpPr>
            <p:cNvPr id="294" name=""/>
            <p:cNvSpPr/>
            <p:nvPr/>
          </p:nvSpPr>
          <p:spPr>
            <a:xfrm>
              <a:off x="909720" y="1752480"/>
              <a:ext cx="7035840" cy="13240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1054080" y="1863720"/>
              <a:ext cx="1104840" cy="1155600"/>
              <a:chOff x="1054080" y="1863720"/>
              <a:chExt cx="1104840" cy="1155600"/>
            </a:xfrm>
          </p:grpSpPr>
          <p:sp>
            <p:nvSpPr>
              <p:cNvPr id="296" name=""/>
              <p:cNvSpPr/>
              <p:nvPr/>
            </p:nvSpPr>
            <p:spPr>
              <a:xfrm>
                <a:off x="1054080" y="1863720"/>
                <a:ext cx="1104840" cy="1155600"/>
              </a:xfrm>
              <a:custGeom>
                <a:avLst/>
                <a:gdLst>
                  <a:gd name="textAreaLeft" fmla="*/ 38520 w 1104840"/>
                  <a:gd name="textAreaRight" fmla="*/ 1066320 w 1104840"/>
                  <a:gd name="textAreaTop" fmla="*/ 38520 h 1155600"/>
                  <a:gd name="textAreaBottom" fmla="*/ 1117080 h 1155600"/>
                </a:gdLst>
                <a:ahLst/>
                <a:rect l="textAreaLeft" t="textAreaTop" r="textAreaRight" b="textAreaBottom"/>
                <a:pathLst>
                  <a:path w="21600" h="22592">
                    <a:moveTo>
                      <a:pt x="2575" y="0"/>
                    </a:moveTo>
                    <a:arcTo wR="2575" hR="2575" stAng="16200000" swAng="-5400000"/>
                    <a:lnTo>
                      <a:pt x="0" y="20017"/>
                    </a:lnTo>
                    <a:arcTo wR="2575" hR="2575" stAng="10800000" swAng="-5400000"/>
                    <a:lnTo>
                      <a:pt x="19025" y="22592"/>
                    </a:lnTo>
                    <a:arcTo wR="2575" hR="2575" stAng="5400000" swAng="-5400000"/>
                    <a:lnTo>
                      <a:pt x="21600" y="2575"/>
                    </a:lnTo>
                    <a:arcTo wR="2575" hR="257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829b9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23200" y="1937880"/>
                <a:ext cx="550800" cy="577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edee"/>
                  </a:gs>
                  <a:gs pos="50000">
                    <a:srgbClr val="bbe0e3">
                      <a:alpha val="0"/>
                    </a:srgbClr>
                  </a:gs>
                  <a:gs pos="100000">
                    <a:srgbClr val="d9ede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325160" y="2223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ffffff"/>
                    </a:solidFill>
                    <a:latin typeface="Arial"/>
                    <a:ea typeface="標楷體"/>
                  </a:rPr>
                  <a:t>凱勒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938160" y="3327480"/>
              <a:ext cx="7050240" cy="12128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1066680" y="3448080"/>
              <a:ext cx="1111320" cy="990720"/>
              <a:chOff x="1066680" y="3448080"/>
              <a:chExt cx="1111320" cy="990720"/>
            </a:xfrm>
          </p:grpSpPr>
          <p:sp>
            <p:nvSpPr>
              <p:cNvPr id="301" name=""/>
              <p:cNvSpPr/>
              <p:nvPr/>
            </p:nvSpPr>
            <p:spPr>
              <a:xfrm>
                <a:off x="1066680" y="3448080"/>
                <a:ext cx="1111320" cy="990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5b4b4"/>
                  </a:gs>
                  <a:gs pos="100000">
                    <a:srgbClr val="00999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36160" y="3511800"/>
                <a:ext cx="554040" cy="4953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92d2d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522440" y="3651120"/>
                <a:ext cx="18360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039680" y="3728880"/>
              <a:ext cx="11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员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82800" y="4805280"/>
              <a:ext cx="7053120" cy="11779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098720" y="4930920"/>
              <a:ext cx="1118880" cy="1027080"/>
              <a:chOff x="1098720" y="4930920"/>
              <a:chExt cx="1118880" cy="1027080"/>
            </a:xfrm>
          </p:grpSpPr>
          <p:sp>
            <p:nvSpPr>
              <p:cNvPr id="307" name=""/>
              <p:cNvSpPr/>
              <p:nvPr/>
            </p:nvSpPr>
            <p:spPr>
              <a:xfrm>
                <a:off x="1098720" y="4930920"/>
                <a:ext cx="1118880" cy="1027080"/>
              </a:xfrm>
              <a:prstGeom prst="roundRect">
                <a:avLst>
                  <a:gd name="adj" fmla="val 11921"/>
                </a:avLst>
              </a:prstGeom>
              <a:solidFill>
                <a:srgbClr val="99cc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68560" y="4996800"/>
                <a:ext cx="557640" cy="5133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92d2d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557360" y="5141520"/>
                <a:ext cx="183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069920" y="5214960"/>
              <a:ext cx="117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高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54400" y="2031840"/>
              <a:ext cx="5759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.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革推动的关键者无法继续参加组织重整计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.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凯勒的经验与知识无法有效的被传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40000" y="3500280"/>
              <a:ext cx="5545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.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拒绝参加任何小组建设和工作小组开发的活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.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增加诱因后（垒球赛）仍无显着改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68440" y="5011560"/>
              <a:ext cx="5040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.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对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革抱持高度的期待与现行绩效的落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.</a:t>
              </a:r>
              <a:r>
                <a:rPr b="0" lang="zh-TW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變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革停止对高层的杀伤力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124000" y="263700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希梅内斯没有注意到的机会及转机</a:t>
            </a:r>
            <a:r>
              <a:rPr b="1" i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…</a:t>
            </a:r>
            <a:r>
              <a:rPr b="1" i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1144800" cy="17985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606840" y="476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会与转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07:26:52Z</dcterms:created>
  <dc:creator>catherine</dc:creator>
  <dc:description/>
  <dc:language>en-US</dc:language>
  <cp:lastModifiedBy>april.yuan</cp:lastModifiedBy>
  <dcterms:modified xsi:type="dcterms:W3CDTF">2005-12-09T02:19:40Z</dcterms:modified>
  <cp:revision>36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45916131</vt:r8>
  </property>
  <property fmtid="{D5CDD505-2E9C-101B-9397-08002B2CF9AE}" pid="3" name="_AuthorEmail">
    <vt:lpwstr>echo.ren@hbrchina.com</vt:lpwstr>
  </property>
  <property fmtid="{D5CDD505-2E9C-101B-9397-08002B2CF9AE}" pid="4" name="_AuthorEmailDisplayName">
    <vt:lpwstr>echo ren</vt:lpwstr>
  </property>
  <property fmtid="{D5CDD505-2E9C-101B-9397-08002B2CF9AE}" pid="5" name="_EmailSubject">
    <vt:lpwstr/>
  </property>
  <property fmtid="{D5CDD505-2E9C-101B-9397-08002B2CF9AE}" pid="6" name="_PreviousAdHocReviewCycleID">
    <vt:r8>-1634112284</vt:r8>
  </property>
  <property fmtid="{D5CDD505-2E9C-101B-9397-08002B2CF9AE}" pid="7" name="_ReviewingToolsShownOnce">
    <vt:lpwstr/>
  </property>
</Properties>
</file>