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741-BBBC-416C-BA96-F1D07B8F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67A-497B-4406-9F05-3DA92D3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111-93FB-4CE7-A764-4A5A6E2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3FE-5921-49EF-BAA4-4AE60882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09E08-7A6C-48B2-83AA-146C800B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B216-BC4D-43B0-860E-185B4AE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0CA8-4CDA-4D84-9588-E325AC30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44DA9-1FA1-4F32-B0D2-9DC73C5E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4A38B-0FD6-4183-BD11-6BAB4C22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ACD45-1769-457E-8877-07786343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78028-1356-496F-AF3D-038B1AF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084-E77E-442A-9D09-4D08DD5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6D84B-5EE9-488A-8820-AEB6594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5F924-82E0-4F5C-AD5D-FA0FC92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B6EDB-B2A5-45C7-B2A8-AB038E5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69BCB-8D33-4529-A9FD-BD8EF55E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488F-4A7B-4E5D-84A3-D25D6DD9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146-A86D-4FD7-A4E5-8035B67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628-96FD-4B46-A7D1-EEE69E8C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FCC-6068-4D68-98F4-D150668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089-30DF-4504-8776-3815BC6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32A-5547-4E2B-91F2-EC3454A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A05-2126-4B68-8BBB-0214F95E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31B-F417-42C9-B2D4-A189EA1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E68-B8AE-4905-A487-223167563D4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AC6A-229B-4BD7-B8CA-220928874C3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800600" y="3733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CM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变革看变革管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057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成功战略何以延续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5867280"/>
            <a:ext cx="3494160" cy="990720"/>
            <a:chOff x="0" y="5867280"/>
            <a:chExt cx="3494160" cy="990720"/>
          </a:xfrm>
        </p:grpSpPr>
        <p:graphicFrame>
          <p:nvGraphicFramePr>
            <p:cNvPr id="125" name=""/>
            <p:cNvGraphicFramePr/>
            <p:nvPr/>
          </p:nvGraphicFramePr>
          <p:xfrm>
            <a:off x="0" y="5867280"/>
            <a:ext cx="243828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867280"/>
                      <a:ext cx="24382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2438280" y="5867280"/>
              <a:ext cx="105588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2209680" y="5029200"/>
            <a:ext cx="668340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Pacemaker :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任远 王湘鄂 王星月 于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拉伯克的解决方案－－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组织保障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Kare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会前和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沟通，通报进展，争取更多的支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调整变革小组，甄选在拉伯克的意见领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向全体人员公布变革的目的，变革的紧迫性，变革后的愿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重新确定变革的动力和阻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143000" y="3809880"/>
            <a:ext cx="6324120" cy="1841400"/>
            <a:chOff x="1143000" y="3809880"/>
            <a:chExt cx="6324120" cy="1841400"/>
          </a:xfrm>
        </p:grpSpPr>
        <p:sp>
          <p:nvSpPr>
            <p:cNvPr id="269" name=""/>
            <p:cNvSpPr/>
            <p:nvPr/>
          </p:nvSpPr>
          <p:spPr>
            <a:xfrm>
              <a:off x="6383160" y="5190840"/>
              <a:ext cx="1083960" cy="460440"/>
            </a:xfrm>
            <a:prstGeom prst="borderCallout1">
              <a:avLst>
                <a:gd name="adj1" fmla="val 18750"/>
                <a:gd name="adj2" fmla="val -8333"/>
                <a:gd name="adj3" fmla="val -68750"/>
                <a:gd name="adj4" fmla="val -84375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04080" y="3809880"/>
              <a:ext cx="722520" cy="460440"/>
            </a:xfrm>
            <a:prstGeom prst="borderCallout1">
              <a:avLst>
                <a:gd name="adj1" fmla="val 18750"/>
                <a:gd name="adj2" fmla="val -8333"/>
                <a:gd name="adj3" fmla="val 168750"/>
                <a:gd name="adj4" fmla="val 226736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3000" y="5190840"/>
              <a:ext cx="1204560" cy="460440"/>
            </a:xfrm>
            <a:prstGeom prst="borderCallout1">
              <a:avLst>
                <a:gd name="adj1" fmla="val 18750"/>
                <a:gd name="adj2" fmla="val -8333"/>
                <a:gd name="adj3" fmla="val -101300"/>
                <a:gd name="adj4" fmla="val 167083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92000" y="5190840"/>
              <a:ext cx="722520" cy="460440"/>
            </a:xfrm>
            <a:prstGeom prst="borderCallout1">
              <a:avLst>
                <a:gd name="adj1" fmla="val 18750"/>
                <a:gd name="adj2" fmla="val -8333"/>
                <a:gd name="adj3" fmla="val -111458"/>
                <a:gd name="adj4" fmla="val -36805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6680" y="5190840"/>
              <a:ext cx="1083960" cy="460440"/>
            </a:xfrm>
            <a:prstGeom prst="borderCallout1">
              <a:avLst>
                <a:gd name="adj1" fmla="val 18750"/>
                <a:gd name="adj2" fmla="val -8333"/>
                <a:gd name="adj3" fmla="val -123958"/>
                <a:gd name="adj4" fmla="val -36689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75000" y="3809880"/>
              <a:ext cx="722520" cy="460440"/>
            </a:xfrm>
            <a:prstGeom prst="borderCallout1">
              <a:avLst>
                <a:gd name="adj1" fmla="val 18750"/>
                <a:gd name="adj2" fmla="val -8333"/>
                <a:gd name="adj3" fmla="val 185939"/>
                <a:gd name="adj4" fmla="val -78300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2680" y="3809880"/>
              <a:ext cx="722520" cy="460440"/>
            </a:xfrm>
            <a:prstGeom prst="borderCallout1">
              <a:avLst>
                <a:gd name="adj1" fmla="val 18750"/>
                <a:gd name="adj2" fmla="val -8333"/>
                <a:gd name="adj3" fmla="val 160157"/>
                <a:gd name="adj4" fmla="val -119967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9360" y="4500360"/>
              <a:ext cx="2891160" cy="402840"/>
            </a:xfrm>
            <a:prstGeom prst="flowChartAlternateProcess">
              <a:avLst/>
            </a:prstGeom>
            <a:solidFill>
              <a:srgbClr val="46341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71520" y="4560120"/>
              <a:ext cx="2406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变革的阻力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3000" y="5304600"/>
              <a:ext cx="108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个人利益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26120" y="3809880"/>
              <a:ext cx="539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惰性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36560" y="3809880"/>
              <a:ext cx="539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时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5560" y="3809880"/>
              <a:ext cx="722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突然性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54640" y="5304600"/>
              <a:ext cx="537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误解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6200" y="5190840"/>
              <a:ext cx="842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不同评价结果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44720" y="5190840"/>
              <a:ext cx="1022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</a:rPr>
                <a:t>来自同事的压力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拉伯克的解决方案－－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组织保障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邀请威奇托工厂的蓝、白领向拉伯克的同事介绍威奇托变革情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将取得的短期成果通报给大家，让大家对变革充满信心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将强制性的蓝、白领共同例会改为开放式。每周分别与蓝领和白领开会讨论如何变革，了解双方的建议。适时邀请双方的代表人物参加对方会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"/>
              <a:tabLst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取消在拉伯克不受欢迎的垒球比赛。寻找蓝、白领的共同爱好，开展相关活动，建立团队精神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2007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设立激励机制鼓励员工积极参与变革（如鼓励员工提出建议，对积极参与者给予相应奖励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设立有效的沟通渠道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EO Open Day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举报信箱制度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4572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拉伯克的解决方案－－运行体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推广到其他三家工厂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752480"/>
            <a:ext cx="60958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高效的变革团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每个具体的工厂进行全面而准确的问题诊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选择有针对性的正确的变革方案以及措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全员参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给变革以足够的时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合理的评估以及激励措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变革是变革的继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12408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变革是变革的背叛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谢 谢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Q &amp; 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5867280"/>
            <a:ext cx="3494160" cy="990720"/>
            <a:chOff x="0" y="5867280"/>
            <a:chExt cx="3494160" cy="990720"/>
          </a:xfrm>
        </p:grpSpPr>
        <p:graphicFrame>
          <p:nvGraphicFramePr>
            <p:cNvPr id="295" name=""/>
            <p:cNvGraphicFramePr/>
            <p:nvPr/>
          </p:nvGraphicFramePr>
          <p:xfrm>
            <a:off x="0" y="5867280"/>
            <a:ext cx="243828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867280"/>
                      <a:ext cx="24382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2438280" y="5867280"/>
              <a:ext cx="105588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时间：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45PM</a:t>
            </a:r>
            <a:br>
              <a:rPr sz="2400"/>
            </a:b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地点：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Acme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矿物提取公司办公室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724280" y="2057400"/>
            <a:ext cx="3884760" cy="3967200"/>
            <a:chOff x="4724280" y="2057400"/>
            <a:chExt cx="3884760" cy="39672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724280" y="2057400"/>
              <a:ext cx="388476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638680" y="2743200"/>
              <a:ext cx="3049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08800" y="2576520"/>
              <a:ext cx="914400" cy="990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638680" y="2666880"/>
              <a:ext cx="762120" cy="838440"/>
              <a:chOff x="5638680" y="2666880"/>
              <a:chExt cx="762120" cy="838440"/>
            </a:xfrm>
          </p:grpSpPr>
          <p:sp>
            <p:nvSpPr>
              <p:cNvPr id="135" name=""/>
              <p:cNvSpPr/>
              <p:nvPr/>
            </p:nvSpPr>
            <p:spPr>
              <a:xfrm>
                <a:off x="5638680" y="2666880"/>
                <a:ext cx="152640" cy="38124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791320" y="2895480"/>
                <a:ext cx="152280" cy="15264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43600" y="2895480"/>
                <a:ext cx="304920" cy="22860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48520" y="3124080"/>
                <a:ext cx="152280" cy="38124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304920" y="3809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人物：</a:t>
            </a:r>
            <a:r>
              <a:rPr b="0" lang="zh-CN" sz="24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Karen Jimen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4232160"/>
            <a:ext cx="2297160" cy="276480"/>
          </a:xfrm>
          <a:prstGeom prst="flowChartMerge">
            <a:avLst/>
          </a:prstGeom>
          <a:gradFill rotWithShape="0">
            <a:gsLst>
              <a:gs pos="0">
                <a:srgbClr val="66ffff"/>
              </a:gs>
              <a:gs pos="50000">
                <a:srgbClr val="2f7575"/>
              </a:gs>
              <a:gs pos="100000">
                <a:srgbClr val="66ffff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17680" y="609480"/>
            <a:ext cx="6986520" cy="1163880"/>
            <a:chOff x="1417680" y="609480"/>
            <a:chExt cx="6986520" cy="1163880"/>
          </a:xfrm>
        </p:grpSpPr>
        <p:grpSp>
          <p:nvGrpSpPr>
            <p:cNvPr id="142" name=""/>
            <p:cNvGrpSpPr/>
            <p:nvPr/>
          </p:nvGrpSpPr>
          <p:grpSpPr>
            <a:xfrm>
              <a:off x="1417680" y="1181160"/>
              <a:ext cx="6986520" cy="592200"/>
              <a:chOff x="1417680" y="1181160"/>
              <a:chExt cx="6986520" cy="592200"/>
            </a:xfrm>
          </p:grpSpPr>
          <p:sp>
            <p:nvSpPr>
              <p:cNvPr id="143" name=""/>
              <p:cNvSpPr/>
              <p:nvPr/>
            </p:nvSpPr>
            <p:spPr>
              <a:xfrm>
                <a:off x="1417680" y="1773360"/>
                <a:ext cx="6986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0680" y="1181160"/>
                <a:ext cx="0" cy="568440"/>
              </a:xfrm>
              <a:prstGeom prst="line">
                <a:avLst/>
              </a:prstGeom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359080" y="609480"/>
              <a:ext cx="5014800" cy="568440"/>
              <a:chOff x="2359080" y="609480"/>
              <a:chExt cx="5014800" cy="568440"/>
            </a:xfrm>
          </p:grpSpPr>
          <p:sp>
            <p:nvSpPr>
              <p:cNvPr id="146" name="_s1033"/>
              <p:cNvSpPr/>
              <p:nvPr/>
            </p:nvSpPr>
            <p:spPr>
              <a:xfrm>
                <a:off x="2359080" y="609480"/>
                <a:ext cx="5014800" cy="568440"/>
              </a:xfrm>
              <a:prstGeom prst="roundRect">
                <a:avLst>
                  <a:gd name="adj" fmla="val 1666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38440" y="698400"/>
                <a:ext cx="4454640" cy="45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c0904"/>
                    </a:solidFill>
                    <a:latin typeface="Arial"/>
                  </a:rPr>
                  <a:t>Acme </a:t>
                </a:r>
                <a:r>
                  <a:rPr b="1" lang="zh-CN" sz="2400" spc="-1" strike="noStrike">
                    <a:solidFill>
                      <a:srgbClr val="0c0904"/>
                    </a:solidFill>
                    <a:latin typeface="Arial"/>
                  </a:rPr>
                  <a:t>公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3189240" y="4219560"/>
            <a:ext cx="2297160" cy="276120"/>
          </a:xfrm>
          <a:prstGeom prst="flowChartMerge">
            <a:avLst/>
          </a:prstGeom>
          <a:gradFill rotWithShape="0">
            <a:gsLst>
              <a:gs pos="0">
                <a:srgbClr val="66ffff"/>
              </a:gs>
              <a:gs pos="50000">
                <a:srgbClr val="2f7575"/>
              </a:gs>
              <a:gs pos="100000">
                <a:srgbClr val="66ffff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280" y="1816200"/>
            <a:ext cx="8763120" cy="2325600"/>
            <a:chOff x="152280" y="1816200"/>
            <a:chExt cx="8763120" cy="2325600"/>
          </a:xfrm>
        </p:grpSpPr>
        <p:grpSp>
          <p:nvGrpSpPr>
            <p:cNvPr id="150" name=""/>
            <p:cNvGrpSpPr/>
            <p:nvPr/>
          </p:nvGrpSpPr>
          <p:grpSpPr>
            <a:xfrm>
              <a:off x="7772400" y="1828800"/>
              <a:ext cx="1143000" cy="1917720"/>
              <a:chOff x="7772400" y="1828800"/>
              <a:chExt cx="1143000" cy="1917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864560" y="1828800"/>
                <a:ext cx="1050480" cy="1917720"/>
                <a:chOff x="7864560" y="1828800"/>
                <a:chExt cx="1050480" cy="1917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418960" y="1828800"/>
                  <a:ext cx="0" cy="355680"/>
                </a:xfrm>
                <a:prstGeom prst="line">
                  <a:avLst/>
                </a:prstGeom>
                <a:ln cap="sq"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_s1033"/>
                <p:cNvSpPr/>
                <p:nvPr/>
              </p:nvSpPr>
              <p:spPr>
                <a:xfrm>
                  <a:off x="7864560" y="2041560"/>
                  <a:ext cx="1050480" cy="1704960"/>
                </a:xfrm>
                <a:custGeom>
                  <a:avLst/>
                  <a:gdLst>
                    <a:gd name="textAreaLeft" fmla="*/ 51120 w 1050480"/>
                    <a:gd name="textAreaRight" fmla="*/ 999360 w 1050480"/>
                    <a:gd name="textAreaTop" fmla="*/ 51120 h 1704960"/>
                    <a:gd name="textAreaBottom" fmla="*/ 1653840 h 1704960"/>
                  </a:gdLst>
                  <a:ahLst/>
                  <a:rect l="textAreaLeft" t="textAreaTop" r="textAreaRight" b="textAreaBottom"/>
                  <a:pathLst>
                    <a:path w="21600" h="35053">
                      <a:moveTo>
                        <a:pt x="3600" y="0"/>
                      </a:moveTo>
                      <a:arcTo wR="3600" hR="3600" stAng="16200000" swAng="-5400000"/>
                      <a:lnTo>
                        <a:pt x="0" y="31453"/>
                      </a:lnTo>
                      <a:arcTo wR="3600" hR="3600" stAng="10800000" swAng="-5400000"/>
                      <a:lnTo>
                        <a:pt x="18000" y="3505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772400" y="2133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99"/>
                    </a:solidFill>
                    <a:latin typeface="Arial"/>
                  </a:rPr>
                  <a:t>工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705720" y="1828800"/>
              <a:ext cx="1143000" cy="1917720"/>
              <a:chOff x="6705720" y="1828800"/>
              <a:chExt cx="1143000" cy="19177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751800" y="1828800"/>
                <a:ext cx="1050480" cy="1917720"/>
                <a:chOff x="6751800" y="1828800"/>
                <a:chExt cx="1050480" cy="1917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306200" y="1828800"/>
                  <a:ext cx="0" cy="355680"/>
                </a:xfrm>
                <a:prstGeom prst="line">
                  <a:avLst/>
                </a:prstGeom>
                <a:ln cap="sq"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_s1033"/>
                <p:cNvSpPr/>
                <p:nvPr/>
              </p:nvSpPr>
              <p:spPr>
                <a:xfrm>
                  <a:off x="6751800" y="2041560"/>
                  <a:ext cx="1050480" cy="1704960"/>
                </a:xfrm>
                <a:custGeom>
                  <a:avLst/>
                  <a:gdLst>
                    <a:gd name="textAreaLeft" fmla="*/ 51120 w 1050480"/>
                    <a:gd name="textAreaRight" fmla="*/ 999360 w 1050480"/>
                    <a:gd name="textAreaTop" fmla="*/ 51120 h 1704960"/>
                    <a:gd name="textAreaBottom" fmla="*/ 1653840 h 1704960"/>
                  </a:gdLst>
                  <a:ahLst/>
                  <a:rect l="textAreaLeft" t="textAreaTop" r="textAreaRight" b="textAreaBottom"/>
                  <a:pathLst>
                    <a:path w="21600" h="35053">
                      <a:moveTo>
                        <a:pt x="3600" y="0"/>
                      </a:moveTo>
                      <a:arcTo wR="3600" hR="3600" stAng="16200000" swAng="-5400000"/>
                      <a:lnTo>
                        <a:pt x="0" y="31453"/>
                      </a:lnTo>
                      <a:arcTo wR="3600" hR="3600" stAng="10800000" swAng="-5400000"/>
                      <a:lnTo>
                        <a:pt x="18000" y="3505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6705720" y="2133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99"/>
                    </a:solidFill>
                    <a:latin typeface="Arial"/>
                  </a:rPr>
                  <a:t>工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38680" y="1828800"/>
              <a:ext cx="1143000" cy="1917720"/>
              <a:chOff x="5638680" y="1828800"/>
              <a:chExt cx="1143000" cy="19177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5643720" y="1828800"/>
                <a:ext cx="1050480" cy="1917720"/>
                <a:chOff x="5643720" y="1828800"/>
                <a:chExt cx="1050480" cy="19177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98120" y="1828800"/>
                  <a:ext cx="0" cy="355680"/>
                </a:xfrm>
                <a:prstGeom prst="line">
                  <a:avLst/>
                </a:prstGeom>
                <a:ln cap="sq"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_s1033"/>
                <p:cNvSpPr/>
                <p:nvPr/>
              </p:nvSpPr>
              <p:spPr>
                <a:xfrm>
                  <a:off x="5643720" y="2041560"/>
                  <a:ext cx="1050480" cy="1704960"/>
                </a:xfrm>
                <a:custGeom>
                  <a:avLst/>
                  <a:gdLst>
                    <a:gd name="textAreaLeft" fmla="*/ 51120 w 1050480"/>
                    <a:gd name="textAreaRight" fmla="*/ 999360 w 1050480"/>
                    <a:gd name="textAreaTop" fmla="*/ 51120 h 1704960"/>
                    <a:gd name="textAreaBottom" fmla="*/ 1653840 h 1704960"/>
                  </a:gdLst>
                  <a:ahLst/>
                  <a:rect l="textAreaLeft" t="textAreaTop" r="textAreaRight" b="textAreaBottom"/>
                  <a:pathLst>
                    <a:path w="21600" h="35053">
                      <a:moveTo>
                        <a:pt x="3600" y="0"/>
                      </a:moveTo>
                      <a:arcTo wR="3600" hR="3600" stAng="16200000" swAng="-5400000"/>
                      <a:lnTo>
                        <a:pt x="0" y="31453"/>
                      </a:lnTo>
                      <a:arcTo wR="3600" hR="3600" stAng="10800000" swAng="-5400000"/>
                      <a:lnTo>
                        <a:pt x="18000" y="3505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5638680" y="2133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99"/>
                    </a:solidFill>
                    <a:latin typeface="Arial"/>
                  </a:rPr>
                  <a:t>工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52280" y="1828800"/>
              <a:ext cx="2382840" cy="2313000"/>
              <a:chOff x="152280" y="1828800"/>
              <a:chExt cx="2382840" cy="2313000"/>
            </a:xfrm>
          </p:grpSpPr>
          <p:sp>
            <p:nvSpPr>
              <p:cNvPr id="166" name=""/>
              <p:cNvSpPr/>
              <p:nvPr/>
            </p:nvSpPr>
            <p:spPr>
              <a:xfrm>
                <a:off x="1409760" y="1828800"/>
                <a:ext cx="0" cy="428760"/>
              </a:xfrm>
              <a:prstGeom prst="line">
                <a:avLst/>
              </a:prstGeom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_s1033"/>
              <p:cNvSpPr/>
              <p:nvPr/>
            </p:nvSpPr>
            <p:spPr>
              <a:xfrm>
                <a:off x="152280" y="2085840"/>
                <a:ext cx="2382840" cy="2055960"/>
              </a:xfrm>
              <a:prstGeom prst="roundRect">
                <a:avLst>
                  <a:gd name="adj" fmla="val 1666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680" y="2222640"/>
                <a:ext cx="176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99"/>
                    </a:solidFill>
                    <a:latin typeface="Arial"/>
                  </a:rPr>
                  <a:t>威奇托工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89240" y="1816200"/>
              <a:ext cx="2382840" cy="2313000"/>
              <a:chOff x="3189240" y="1816200"/>
              <a:chExt cx="2382840" cy="2313000"/>
            </a:xfrm>
          </p:grpSpPr>
          <p:sp>
            <p:nvSpPr>
              <p:cNvPr id="170" name=""/>
              <p:cNvSpPr/>
              <p:nvPr/>
            </p:nvSpPr>
            <p:spPr>
              <a:xfrm>
                <a:off x="4446720" y="1816200"/>
                <a:ext cx="0" cy="428400"/>
              </a:xfrm>
              <a:prstGeom prst="line">
                <a:avLst/>
              </a:prstGeom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_s1033"/>
              <p:cNvSpPr/>
              <p:nvPr/>
            </p:nvSpPr>
            <p:spPr>
              <a:xfrm>
                <a:off x="3189240" y="2073240"/>
                <a:ext cx="2382840" cy="2055960"/>
              </a:xfrm>
              <a:prstGeom prst="roundRect">
                <a:avLst>
                  <a:gd name="adj" fmla="val 1666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71920" y="2222640"/>
                <a:ext cx="176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99"/>
                    </a:solidFill>
                    <a:latin typeface="Arial"/>
                  </a:rPr>
                  <a:t>拉伯克工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131760" y="2602080"/>
            <a:ext cx="2382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战斗计划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开放式会议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特别行动小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垒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8006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劳资关系改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士气提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生产力显著提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成本下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80060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劳资关系依然紧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士气下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生产力略有提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成本略有下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2590920"/>
            <a:ext cx="2382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战斗计划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开放式会议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特别行动小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904"/>
                </a:solidFill>
                <a:latin typeface="Arial"/>
              </a:rPr>
              <a:t>垒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91320" y="2590920"/>
            <a:ext cx="2971800" cy="1008360"/>
            <a:chOff x="5791320" y="2590920"/>
            <a:chExt cx="2971800" cy="1008360"/>
          </a:xfrm>
        </p:grpSpPr>
        <p:sp>
          <p:nvSpPr>
            <p:cNvPr id="178" name=""/>
            <p:cNvSpPr/>
            <p:nvPr/>
          </p:nvSpPr>
          <p:spPr>
            <a:xfrm>
              <a:off x="5791320" y="25909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0" y="259092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1000" y="259092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90920" y="2133720"/>
            <a:ext cx="546120" cy="1981080"/>
            <a:chOff x="2590920" y="2133720"/>
            <a:chExt cx="546120" cy="1981080"/>
          </a:xfrm>
        </p:grpSpPr>
        <p:sp>
          <p:nvSpPr>
            <p:cNvPr id="182" name=""/>
            <p:cNvSpPr/>
            <p:nvPr/>
          </p:nvSpPr>
          <p:spPr>
            <a:xfrm>
              <a:off x="2619360" y="2133720"/>
              <a:ext cx="517680" cy="198108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27352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克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867280" y="4876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让我们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acemake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来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kare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分析一下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革管理致胜三角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09640" y="683280"/>
            <a:ext cx="6348600" cy="5946120"/>
            <a:chOff x="1709640" y="683280"/>
            <a:chExt cx="6348600" cy="5946120"/>
          </a:xfrm>
        </p:grpSpPr>
        <p:sp>
          <p:nvSpPr>
            <p:cNvPr id="187" name=""/>
            <p:cNvSpPr/>
            <p:nvPr/>
          </p:nvSpPr>
          <p:spPr>
            <a:xfrm>
              <a:off x="1709640" y="685800"/>
              <a:ext cx="6348600" cy="59436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566000">
              <a:off x="2591640" y="1095120"/>
              <a:ext cx="16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外部环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73320" y="1174680"/>
            <a:ext cx="5532480" cy="5035680"/>
            <a:chOff x="2173320" y="1174680"/>
            <a:chExt cx="5532480" cy="5035680"/>
          </a:xfrm>
        </p:grpSpPr>
        <p:sp>
          <p:nvSpPr>
            <p:cNvPr id="190" name=""/>
            <p:cNvSpPr/>
            <p:nvPr/>
          </p:nvSpPr>
          <p:spPr>
            <a:xfrm>
              <a:off x="2173320" y="1174680"/>
              <a:ext cx="5532480" cy="50356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611000">
              <a:off x="2797560" y="1676160"/>
              <a:ext cx="16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c0904"/>
                  </a:solidFill>
                  <a:latin typeface="Times New Roman"/>
                  <a:ea typeface="楷体_GB2312"/>
                </a:rPr>
                <a:t>内部环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78840" y="4041720"/>
            <a:ext cx="1712880" cy="2308320"/>
            <a:chOff x="7278840" y="4041720"/>
            <a:chExt cx="1712880" cy="2308320"/>
          </a:xfrm>
        </p:grpSpPr>
        <p:sp>
          <p:nvSpPr>
            <p:cNvPr id="193" name=""/>
            <p:cNvSpPr/>
            <p:nvPr/>
          </p:nvSpPr>
          <p:spPr>
            <a:xfrm>
              <a:off x="7278840" y="4041720"/>
              <a:ext cx="1712880" cy="2308320"/>
            </a:xfrm>
            <a:custGeom>
              <a:avLst/>
              <a:gdLst>
                <a:gd name="textAreaLeft" fmla="*/ 83520 w 1712880"/>
                <a:gd name="textAreaRight" fmla="*/ 1629360 w 1712880"/>
                <a:gd name="textAreaTop" fmla="*/ 83520 h 2308320"/>
                <a:gd name="textAreaBottom" fmla="*/ 2224800 h 2308320"/>
              </a:gdLst>
              <a:ahLst/>
              <a:rect l="textAreaLeft" t="textAreaTop" r="textAreaRight" b="textAreaBottom"/>
              <a:pathLst>
                <a:path w="21600" h="29107">
                  <a:moveTo>
                    <a:pt x="3600" y="0"/>
                  </a:moveTo>
                  <a:arcTo wR="3600" hR="3600" stAng="16200000" swAng="-5400000"/>
                  <a:lnTo>
                    <a:pt x="0" y="25507"/>
                  </a:lnTo>
                  <a:arcTo wR="3600" hR="3600" stAng="10800000" swAng="-5400000"/>
                  <a:lnTo>
                    <a:pt x="18000" y="291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cc"/>
                </a:gs>
                <a:gs pos="100000">
                  <a:srgbClr val="ffffff"/>
                </a:gs>
              </a:gsLst>
              <a:lin ang="10800000"/>
            </a:gradFill>
            <a:ln cap="sq"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6341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buClr>
                  <a:srgbClr val="003399"/>
                </a:buClr>
                <a:buFont typeface="宋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8840" y="4162320"/>
              <a:ext cx="1712880" cy="16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99"/>
                  </a:solidFill>
                  <a:latin typeface="Arial"/>
                </a:rPr>
                <a:t>团队的组建：组织构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99"/>
                  </a:solidFill>
                  <a:latin typeface="Arial"/>
                </a:rPr>
                <a:t>变革的领袖：管理层的支持和行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99"/>
                  </a:solidFill>
                  <a:latin typeface="Arial"/>
                </a:rPr>
                <a:t>推动力量：中层的执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3399"/>
                  </a:solidFill>
                  <a:latin typeface="Arial"/>
                </a:rPr>
                <a:t>强大的基础：基层的积极参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宋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95480" y="1523880"/>
            <a:ext cx="4170600" cy="3776760"/>
            <a:chOff x="2895480" y="1523880"/>
            <a:chExt cx="4170600" cy="3776760"/>
          </a:xfrm>
        </p:grpSpPr>
        <p:sp>
          <p:nvSpPr>
            <p:cNvPr id="196" name=""/>
            <p:cNvSpPr/>
            <p:nvPr/>
          </p:nvSpPr>
          <p:spPr>
            <a:xfrm>
              <a:off x="2981160" y="2152440"/>
              <a:ext cx="3927600" cy="27972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4111560"/>
              <a:ext cx="1285920" cy="118908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25800" y="4215960"/>
              <a:ext cx="98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运作体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2640" y="1523880"/>
              <a:ext cx="1284120" cy="118908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75160" y="1869120"/>
              <a:ext cx="9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战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81600" y="4111560"/>
              <a:ext cx="1284480" cy="118908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1520" y="4231800"/>
              <a:ext cx="100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组织保障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92640" y="3201840"/>
              <a:ext cx="1284120" cy="11890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9a9a3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52920" y="3407040"/>
              <a:ext cx="7840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使命愿景价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199" idx="4"/>
              <a:endCxn id="203" idx="0"/>
            </p:cNvCxnSpPr>
            <p:nvPr/>
          </p:nvCxnSpPr>
          <p:spPr>
            <a:xfrm>
              <a:off x="4935240" y="2712960"/>
              <a:ext cx="1080" cy="489600"/>
            </a:xfrm>
            <a:prstGeom prst="straightConnector1">
              <a:avLst/>
            </a:prstGeom>
            <a:ln w="57240">
              <a:solidFill>
                <a:srgbClr val="003399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206" name=""/>
            <p:cNvSpPr/>
            <p:nvPr/>
          </p:nvSpPr>
          <p:spPr>
            <a:xfrm flipV="1">
              <a:off x="4052880" y="4111560"/>
              <a:ext cx="357120" cy="3492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5479560" y="4111560"/>
              <a:ext cx="428760" cy="3492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1520" y="3114360"/>
              <a:ext cx="8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沟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9440" y="4562280"/>
              <a:ext cx="7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沟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8840" y="312408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沟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66680" y="4532400"/>
            <a:ext cx="1712880" cy="1677960"/>
            <a:chOff x="1066680" y="4532400"/>
            <a:chExt cx="1712880" cy="1677960"/>
          </a:xfrm>
        </p:grpSpPr>
        <p:sp>
          <p:nvSpPr>
            <p:cNvPr id="212" name=""/>
            <p:cNvSpPr/>
            <p:nvPr/>
          </p:nvSpPr>
          <p:spPr>
            <a:xfrm>
              <a:off x="1066680" y="4532400"/>
              <a:ext cx="1712880" cy="167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cc"/>
                </a:gs>
                <a:gs pos="100000">
                  <a:srgbClr val="ffffff"/>
                </a:gs>
              </a:gsLst>
              <a:lin ang="10800000"/>
            </a:gradFill>
            <a:ln cap="sq"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6341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4648320"/>
              <a:ext cx="160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制度保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绩效评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激励体系：</a:t>
              </a:r>
              <a:r>
                <a:rPr b="0" lang="zh-CN" sz="1800" spc="-1" strike="noStrike">
                  <a:solidFill>
                    <a:srgbClr val="003399"/>
                  </a:solidFill>
                  <a:latin typeface="Arial"/>
                </a:rPr>
                <a:t>薪酬和福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工作流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850000" y="1104840"/>
            <a:ext cx="1922400" cy="1189080"/>
            <a:chOff x="5850000" y="1104840"/>
            <a:chExt cx="1922400" cy="1189080"/>
          </a:xfrm>
        </p:grpSpPr>
        <p:sp>
          <p:nvSpPr>
            <p:cNvPr id="215" name=""/>
            <p:cNvSpPr/>
            <p:nvPr/>
          </p:nvSpPr>
          <p:spPr>
            <a:xfrm>
              <a:off x="5850000" y="1104840"/>
              <a:ext cx="1922400" cy="11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cc"/>
                </a:gs>
                <a:gs pos="100000">
                  <a:srgbClr val="ffffff"/>
                </a:gs>
              </a:gsLst>
              <a:lin ang="10800000"/>
            </a:gradFill>
            <a:ln cap="sq"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46341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3650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219320"/>
              <a:ext cx="175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变革的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 algn="ctr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清晰的战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 algn="ctr"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99"/>
                  </a:solidFill>
                  <a:latin typeface="Arial"/>
                </a:rPr>
                <a:t>策略的选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c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司变革的内外环境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66880" y="297144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面临严重的财务危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不断恶化的劳资关系，士气低下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年发生公开冲突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连续多年不能完成业绩指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人事更替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空降兵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ill Daniel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来自以成功实施变革著称的咨询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组建变革团队，进行内部变革实施和管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2666520" y="1432080"/>
            <a:ext cx="3876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外部竞争加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来自股民的巨大压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01640" y="1447920"/>
            <a:ext cx="1584360" cy="647640"/>
            <a:chOff x="701640" y="1447920"/>
            <a:chExt cx="1584360" cy="647640"/>
          </a:xfrm>
        </p:grpSpPr>
        <p:sp>
          <p:nvSpPr>
            <p:cNvPr id="221" name=""/>
            <p:cNvSpPr/>
            <p:nvPr/>
          </p:nvSpPr>
          <p:spPr>
            <a:xfrm>
              <a:off x="701640" y="1447920"/>
              <a:ext cx="1584360" cy="647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6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外部环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01640" y="3048120"/>
            <a:ext cx="1584360" cy="647640"/>
            <a:chOff x="701640" y="3048120"/>
            <a:chExt cx="1584360" cy="647640"/>
          </a:xfrm>
        </p:grpSpPr>
        <p:sp>
          <p:nvSpPr>
            <p:cNvPr id="224" name=""/>
            <p:cNvSpPr/>
            <p:nvPr/>
          </p:nvSpPr>
          <p:spPr>
            <a:xfrm>
              <a:off x="701640" y="3048120"/>
              <a:ext cx="1584360" cy="647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7600" y="3124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内部环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cme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革管理分析－战略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600" y="2620800"/>
            <a:ext cx="3157560" cy="22082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8120" y="4167360"/>
            <a:ext cx="1031760" cy="938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50880" y="2057400"/>
            <a:ext cx="1103400" cy="102240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191120"/>
            <a:ext cx="1033560" cy="938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47984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运作体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27280" y="241848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战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4560" y="4451400"/>
            <a:ext cx="8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组织保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79680" y="3449520"/>
            <a:ext cx="1033200" cy="9381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89200" y="3648600"/>
            <a:ext cx="630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使命愿景价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"/>
          <p:cNvCxnSpPr>
            <a:endCxn id="234" idx="0"/>
          </p:cNvCxnSpPr>
          <p:nvPr/>
        </p:nvCxnSpPr>
        <p:spPr>
          <a:xfrm>
            <a:off x="2096640" y="3063600"/>
            <a:ext cx="1080" cy="386280"/>
          </a:xfrm>
          <a:prstGeom prst="straightConnector1">
            <a:avLst/>
          </a:prstGeom>
          <a:ln w="57240">
            <a:solidFill>
              <a:srgbClr val="00ffcc"/>
            </a:solidFill>
            <a:miter/>
            <a:headEnd len="med" type="stealth" w="med"/>
            <a:tailEnd len="med" type="stealth" w="med"/>
          </a:ln>
        </p:spPr>
      </p:cxnSp>
      <p:sp>
        <p:nvSpPr>
          <p:cNvPr id="237" name=""/>
          <p:cNvSpPr/>
          <p:nvPr/>
        </p:nvSpPr>
        <p:spPr>
          <a:xfrm flipV="1">
            <a:off x="1387440" y="4167000"/>
            <a:ext cx="287280" cy="276120"/>
          </a:xfrm>
          <a:prstGeom prst="line">
            <a:avLst/>
          </a:prstGeom>
          <a:ln w="57240">
            <a:solidFill>
              <a:srgbClr val="00ff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534760" y="4167000"/>
            <a:ext cx="344520" cy="276120"/>
          </a:xfrm>
          <a:prstGeom prst="line">
            <a:avLst/>
          </a:prstGeom>
          <a:ln w="57240">
            <a:solidFill>
              <a:srgbClr val="00ff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13372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变革需求：比较明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战略规划：缺乏总体规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策略选择：过度依靠简单的策略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威奇托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VS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拉伯克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之组织保障分析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2808360"/>
          <a:ext cx="325440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08360"/>
                    <a:ext cx="325440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09480" y="1741320"/>
          <a:ext cx="8153640" cy="4538880"/>
        </p:xfrm>
        <a:graphic>
          <a:graphicData uri="http://schemas.openxmlformats.org/drawingml/2006/table">
            <a:tbl>
              <a:tblPr/>
              <a:tblGrid>
                <a:gridCol w="1540080"/>
                <a:gridCol w="3382920"/>
                <a:gridCol w="3230640"/>
              </a:tblGrid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奇托工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拉伯克工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团队的组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所有变革小组均来自内部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意见领袖：大卫凯勒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变革小组中以外部顾问为主（现场负责），仅</a:t>
                      </a: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人来自内部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缺乏意见领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75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革的领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高层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鼓励与支持变革，但具体参与不够（与中基层沟通不够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变革的阻力估计不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推动力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层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选择了合适的沟通方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积极调动了基层的参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稳扎稳打，步步为营的态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特别行动小组，开放式会议效果良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选择了不恰当的沟通方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没有成功调动基层参与，急于求成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缺乏耐心而且顾虑重重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特别行动小组，开放式会议效果不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强大的基础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基层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革试点，员工的热情度较高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放式的沟通拉近与普通员工的距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体员工对目标的认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革推行，员工 的热情较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部沟通严重不足造成变革基础薄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体员工缺乏共同目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609480" y="903240"/>
            <a:ext cx="1524240" cy="1447920"/>
            <a:chOff x="609480" y="903240"/>
            <a:chExt cx="1524240" cy="1447920"/>
          </a:xfrm>
        </p:grpSpPr>
        <p:sp>
          <p:nvSpPr>
            <p:cNvPr id="245" name=""/>
            <p:cNvSpPr/>
            <p:nvPr/>
          </p:nvSpPr>
          <p:spPr>
            <a:xfrm>
              <a:off x="609480" y="90324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4160" y="1162080"/>
              <a:ext cx="99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cc"/>
                  </a:solidFill>
                  <a:latin typeface="Arial"/>
                </a:rPr>
                <a:t>组织保障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威奇托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VS 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拉伯克 之运作体系分析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2144880"/>
          <a:ext cx="8153640" cy="2936880"/>
        </p:xfrm>
        <a:graphic>
          <a:graphicData uri="http://schemas.openxmlformats.org/drawingml/2006/table">
            <a:tbl>
              <a:tblPr/>
              <a:tblGrid>
                <a:gridCol w="1540080"/>
                <a:gridCol w="249876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奇托工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拉伯克工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绩效评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c0904"/>
                          </a:solidFill>
                          <a:latin typeface="Arial"/>
                        </a:rPr>
                        <a:t>没有量化的绩效评估体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激励体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员工的每一步进步都得到了褒奖和激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建立及时跟进的激励机制 ，在产量提高而且成本也有所下降的情况下，卡伦也没有对工人们予以表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流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ball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了很好的切入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简单地复制威奇的经验，没有找到团队建设的兴趣切入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>
                      <a:noFill/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609480" y="1219320"/>
            <a:ext cx="1523880" cy="1523880"/>
            <a:chOff x="609480" y="1219320"/>
            <a:chExt cx="1523880" cy="1523880"/>
          </a:xfrm>
        </p:grpSpPr>
        <p:sp>
          <p:nvSpPr>
            <p:cNvPr id="250" name=""/>
            <p:cNvSpPr/>
            <p:nvPr/>
          </p:nvSpPr>
          <p:spPr>
            <a:xfrm>
              <a:off x="609480" y="121932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4040" y="1524240"/>
              <a:ext cx="9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cc"/>
                  </a:solidFill>
                  <a:latin typeface="Arial"/>
                </a:rPr>
                <a:t>运作体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2133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解决方案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09480" y="1333440"/>
            <a:ext cx="1584360" cy="647640"/>
            <a:chOff x="609480" y="1333440"/>
            <a:chExt cx="1584360" cy="647640"/>
          </a:xfrm>
        </p:grpSpPr>
        <p:sp>
          <p:nvSpPr>
            <p:cNvPr id="254" name=""/>
            <p:cNvSpPr/>
            <p:nvPr/>
          </p:nvSpPr>
          <p:spPr>
            <a:xfrm>
              <a:off x="609480" y="1333440"/>
              <a:ext cx="1584360" cy="647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440" y="14094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战略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09480" y="2590920"/>
            <a:ext cx="1584360" cy="647640"/>
            <a:chOff x="609480" y="2590920"/>
            <a:chExt cx="1584360" cy="647640"/>
          </a:xfrm>
        </p:grpSpPr>
        <p:sp>
          <p:nvSpPr>
            <p:cNvPr id="257" name=""/>
            <p:cNvSpPr/>
            <p:nvPr/>
          </p:nvSpPr>
          <p:spPr>
            <a:xfrm>
              <a:off x="609480" y="2590920"/>
              <a:ext cx="1584360" cy="647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44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组织保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09480" y="4381560"/>
            <a:ext cx="1584360" cy="647640"/>
            <a:chOff x="609480" y="4381560"/>
            <a:chExt cx="1584360" cy="647640"/>
          </a:xfrm>
        </p:grpSpPr>
        <p:sp>
          <p:nvSpPr>
            <p:cNvPr id="260" name=""/>
            <p:cNvSpPr/>
            <p:nvPr/>
          </p:nvSpPr>
          <p:spPr>
            <a:xfrm>
              <a:off x="609480" y="4381560"/>
              <a:ext cx="1584360" cy="647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440" y="4457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运作体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66880" y="15238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1219320"/>
            <a:ext cx="617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明确变革目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制定系统战略规划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描绘组织共同愿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511360"/>
            <a:ext cx="6172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</a:rPr>
              <a:t>变革领袖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：应该对变革予以更多的关注，以激发组织成员的承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</a:rPr>
              <a:t>组织中层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：清晰理解变革目标，协调变革的动力以及阻力，制定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并执行切实的具体变革方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Arial"/>
              </a:rPr>
              <a:t>组织基层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：理解认可组织共同目标，积极广泛参与变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4278240"/>
            <a:ext cx="6400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以制度保障变革的顺利进行，并巩固变革的成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工作流程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绩效评估：将员工的绩效与变革的效果挂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激励体系：通过薪酬和福利来激发组织成员对变革的参与和支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ril.yuan</cp:lastModifiedBy>
  <dcterms:modified xsi:type="dcterms:W3CDTF">2005-12-16T07:46:2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280307655</vt:r8>
  </property>
  <property fmtid="{D5CDD505-2E9C-101B-9397-08002B2CF9AE}" pid="4" name="_AuthorEmail">
    <vt:lpwstr>echo.ren@hbrchina.com</vt:lpwstr>
  </property>
  <property fmtid="{D5CDD505-2E9C-101B-9397-08002B2CF9AE}" pid="5" name="_AuthorEmailDisplayName">
    <vt:lpwstr>echo ren</vt:lpwstr>
  </property>
  <property fmtid="{D5CDD505-2E9C-101B-9397-08002B2CF9AE}" pid="6" name="_EmailSubject">
    <vt:lpwstr/>
  </property>
  <property fmtid="{D5CDD505-2E9C-101B-9397-08002B2CF9AE}" pid="7" name="_ReviewingToolsShownOnce">
    <vt:lpwstr/>
  </property>
</Properties>
</file>