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7345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360" y="2349000"/>
            <a:ext cx="79200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360" y="4342320"/>
            <a:ext cx="79200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7345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2349000"/>
            <a:ext cx="3864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2640" y="2349000"/>
            <a:ext cx="3864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360" y="4342320"/>
            <a:ext cx="3864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2640" y="4342320"/>
            <a:ext cx="3864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7345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360" y="2349000"/>
            <a:ext cx="25498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2040" y="2349000"/>
            <a:ext cx="25498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9720" y="2349000"/>
            <a:ext cx="25498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360" y="4342320"/>
            <a:ext cx="25498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2040" y="4342320"/>
            <a:ext cx="25498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9720" y="4342320"/>
            <a:ext cx="25498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7345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黑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4360" y="234900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7345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234900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7345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2349000"/>
            <a:ext cx="3864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42640" y="2349000"/>
            <a:ext cx="3864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7345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11280" y="1341360"/>
            <a:ext cx="73454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7345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黑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2349000"/>
            <a:ext cx="3864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2640" y="2349000"/>
            <a:ext cx="3864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4360" y="4342320"/>
            <a:ext cx="3864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7345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360" y="234900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7345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黑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2349000"/>
            <a:ext cx="3864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2640" y="2349000"/>
            <a:ext cx="3864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2640" y="4342320"/>
            <a:ext cx="3864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7345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黑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2349000"/>
            <a:ext cx="3864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2640" y="2349000"/>
            <a:ext cx="3864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342320"/>
            <a:ext cx="79200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7345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黑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2349000"/>
            <a:ext cx="79200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4360" y="4342320"/>
            <a:ext cx="79200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7345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2349000"/>
            <a:ext cx="3864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2640" y="2349000"/>
            <a:ext cx="3864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4360" y="4342320"/>
            <a:ext cx="3864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42640" y="4342320"/>
            <a:ext cx="3864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7345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黑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2349000"/>
            <a:ext cx="25498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62040" y="2349000"/>
            <a:ext cx="25498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39720" y="2349000"/>
            <a:ext cx="25498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4360" y="4342320"/>
            <a:ext cx="25498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62040" y="4342320"/>
            <a:ext cx="25498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39720" y="4342320"/>
            <a:ext cx="25498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7345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234900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7345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2349000"/>
            <a:ext cx="3864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2640" y="2349000"/>
            <a:ext cx="3864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7345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黑体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1280" y="1341360"/>
            <a:ext cx="73454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7345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360" y="2349000"/>
            <a:ext cx="3864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2640" y="2349000"/>
            <a:ext cx="3864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360" y="4342320"/>
            <a:ext cx="3864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7345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360" y="2349000"/>
            <a:ext cx="3864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2349000"/>
            <a:ext cx="3864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2640" y="4342320"/>
            <a:ext cx="3864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7345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360" y="2349000"/>
            <a:ext cx="3864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2349000"/>
            <a:ext cx="3864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360" y="4342320"/>
            <a:ext cx="79200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7345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663300"/>
              </a:solidFill>
              <a:latin typeface="黑体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00cc99">
                  <a:alpha val="0"/>
                </a:srgbClr>
              </a:gs>
              <a:gs pos="100000">
                <a:srgbClr val="1c89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360" y="234900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901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  <a:p>
            <a:pPr lvl="1" marL="609120" indent="-23436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  <a:p>
            <a:pPr lvl="2" marL="937080" indent="-1872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  <a:p>
            <a:pPr lvl="3" marL="1311840" indent="-18720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  <a:p>
            <a:pPr lvl="4" marL="1686960" indent="-18720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  <a:p>
            <a:pPr lvl="5" marL="1686960" indent="-18720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  <a:p>
            <a:pPr lvl="6" marL="1686960" indent="-18720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0" y="2133360"/>
            <a:ext cx="8693280" cy="55440"/>
          </a:xfrm>
          <a:prstGeom prst="rect">
            <a:avLst/>
          </a:prstGeom>
          <a:gradFill rotWithShape="0">
            <a:gsLst>
              <a:gs pos="0">
                <a:srgbClr val="1c8952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82520"/>
            <a:ext cx="9144000" cy="216000"/>
          </a:xfrm>
          <a:prstGeom prst="rect">
            <a:avLst/>
          </a:prstGeom>
          <a:gradFill rotWithShape="0">
            <a:gsLst>
              <a:gs pos="0">
                <a:srgbClr val="504000">
                  <a:alpha val="0"/>
                </a:srgbClr>
              </a:gs>
              <a:gs pos="100000">
                <a:srgbClr val="ffcc00">
                  <a:alpha val="7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357720"/>
            <a:ext cx="6659640" cy="1079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8000" y="3141720"/>
            <a:ext cx="77724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黑体"/>
              </a:rPr>
              <a:t>Click to edit the title text format</a:t>
            </a:r>
            <a:endParaRPr b="0" lang="en-US" sz="3600" spc="-1" strike="noStrike">
              <a:solidFill>
                <a:srgbClr val="663300"/>
              </a:solidFill>
              <a:latin typeface="黑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楷体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3357720"/>
            <a:ext cx="665964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黑体"/>
                <a:ea typeface="黑体"/>
              </a:rPr>
              <a:t>基于价值链的薪酬方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88000" y="4797360"/>
            <a:ext cx="295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鲲鹏小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4681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黑体"/>
              </a:rPr>
              <a:t>改进的薪酬方案</a:t>
            </a:r>
            <a:endParaRPr b="1" lang="en-US" sz="4000" spc="-1" strike="noStrike">
              <a:solidFill>
                <a:srgbClr val="663300"/>
              </a:solidFill>
              <a:latin typeface="黑体"/>
            </a:endParaRPr>
          </a:p>
        </p:txBody>
      </p:sp>
      <p:sp>
        <p:nvSpPr>
          <p:cNvPr id="165" name=""/>
          <p:cNvSpPr/>
          <p:nvPr/>
        </p:nvSpPr>
        <p:spPr>
          <a:xfrm>
            <a:off x="968400" y="2276640"/>
            <a:ext cx="444600" cy="2157120"/>
          </a:xfrm>
          <a:custGeom>
            <a:avLst/>
            <a:gdLst>
              <a:gd name="textAreaLeft" fmla="*/ 284040 w 444600"/>
              <a:gd name="textAreaRight" fmla="*/ 444960 w 444600"/>
              <a:gd name="textAreaTop" fmla="*/ 56160 h 2157120"/>
              <a:gd name="textAreaBottom" fmla="*/ 2100960 h 21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2496960"/>
            <a:ext cx="734760" cy="18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支持活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4529160"/>
            <a:ext cx="7347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主体活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13000" y="2276640"/>
            <a:ext cx="7191360" cy="4319280"/>
          </a:xfrm>
          <a:custGeom>
            <a:avLst/>
            <a:gdLst>
              <a:gd name="textAreaLeft" fmla="*/ 0 w 7191360"/>
              <a:gd name="textAreaRight" fmla="*/ 7191720 w 7191360"/>
              <a:gd name="textAreaTop" fmla="*/ 0 h 4319280"/>
              <a:gd name="textAreaBottom" fmla="*/ 4319640 h 43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1412640" y="4433760"/>
            <a:ext cx="608796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5698800" y="2276640"/>
            <a:ext cx="1801800" cy="2157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698800" y="4433760"/>
            <a:ext cx="1801800" cy="21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27400" y="4435560"/>
            <a:ext cx="1440" cy="21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17760" y="4435560"/>
            <a:ext cx="1800" cy="216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56000" y="4435560"/>
            <a:ext cx="1800" cy="216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05400" y="4435560"/>
            <a:ext cx="0" cy="216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13000" y="2873520"/>
            <a:ext cx="47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13000" y="3344760"/>
            <a:ext cx="519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13000" y="3876840"/>
            <a:ext cx="562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27400" y="2873520"/>
            <a:ext cx="0" cy="15602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319560" y="2873520"/>
            <a:ext cx="0" cy="15602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357800" y="2873520"/>
            <a:ext cx="1440" cy="15602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5405400" y="2874600"/>
            <a:ext cx="0" cy="1560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68400" y="4438800"/>
            <a:ext cx="444600" cy="2158920"/>
          </a:xfrm>
          <a:custGeom>
            <a:avLst/>
            <a:gdLst>
              <a:gd name="textAreaLeft" fmla="*/ 284040 w 444600"/>
              <a:gd name="textAreaRight" fmla="*/ 444960 w 444600"/>
              <a:gd name="textAreaTop" fmla="*/ 56160 h 2158920"/>
              <a:gd name="textAreaBottom" fmla="*/ 2102760 h 21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54800" y="2604960"/>
            <a:ext cx="671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43760" y="3403440"/>
            <a:ext cx="6714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69120" y="4822920"/>
            <a:ext cx="6714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708600" y="5484960"/>
            <a:ext cx="6732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75320" y="4716360"/>
            <a:ext cx="812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服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4724280"/>
            <a:ext cx="81252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市场销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4724280"/>
            <a:ext cx="81288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包装部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62320" y="4724280"/>
            <a:ext cx="81108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生产经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15960" y="4716360"/>
            <a:ext cx="81144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内部后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32160" y="2400480"/>
            <a:ext cx="28540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企业基础设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32160" y="2874960"/>
            <a:ext cx="2855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力资源管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32160" y="3403440"/>
            <a:ext cx="285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财务部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32160" y="3962520"/>
            <a:ext cx="2855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技术研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7003800" y="4292640"/>
            <a:ext cx="1463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固定薪金比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4681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黑体"/>
              </a:rPr>
              <a:t>改进的薪酬方案</a:t>
            </a:r>
            <a:endParaRPr b="1" lang="en-US" sz="4000" spc="-1" strike="noStrike">
              <a:solidFill>
                <a:srgbClr val="663300"/>
              </a:solidFill>
              <a:latin typeface="黑体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52280" y="2438280"/>
            <a:ext cx="6375240" cy="3606840"/>
            <a:chOff x="152280" y="2438280"/>
            <a:chExt cx="6375240" cy="3606840"/>
          </a:xfrm>
        </p:grpSpPr>
        <p:pic>
          <p:nvPicPr>
            <p:cNvPr id="200" name="" descr=""/>
            <p:cNvPicPr/>
            <p:nvPr/>
          </p:nvPicPr>
          <p:blipFill>
            <a:blip r:embed="rId2"/>
            <a:stretch/>
          </p:blipFill>
          <p:spPr>
            <a:xfrm>
              <a:off x="152280" y="2438280"/>
              <a:ext cx="6375240" cy="36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750600" y="5751360"/>
              <a:ext cx="5400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755640" y="5734080"/>
            <a:ext cx="54007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227640" y="4437000"/>
            <a:ext cx="247680" cy="238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6156360" y="3284640"/>
            <a:ext cx="295200" cy="2570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7003800" y="3141720"/>
            <a:ext cx="1463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弹性薪金比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5640" y="5734080"/>
            <a:ext cx="93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部门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35280" y="5734080"/>
            <a:ext cx="936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部门２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87640" y="5734080"/>
            <a:ext cx="93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部门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067280" y="5734080"/>
            <a:ext cx="936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部门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92720" y="5734080"/>
            <a:ext cx="93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部门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0920" y="1341360"/>
            <a:ext cx="33130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黑体"/>
              </a:rPr>
              <a:t>其它问题</a:t>
            </a:r>
            <a:endParaRPr b="1" lang="en-US" sz="4000" spc="-1" strike="noStrike">
              <a:solidFill>
                <a:srgbClr val="663300"/>
              </a:solidFill>
              <a:latin typeface="黑体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2492280"/>
            <a:ext cx="79200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1001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</a:rPr>
              <a:t>团队内部搭便车现象</a:t>
            </a:r>
            <a:endParaRPr b="1" lang="en-US" sz="4000" spc="-1" strike="noStrike">
              <a:solidFill>
                <a:srgbClr val="000000"/>
              </a:solidFill>
              <a:latin typeface="华文楷体"/>
            </a:endParaRPr>
          </a:p>
          <a:p>
            <a:pPr marL="343080" indent="0">
              <a:lnSpc>
                <a:spcPct val="1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34920" y="2997000"/>
            <a:ext cx="583236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3300"/>
                </a:solidFill>
                <a:latin typeface="华文楷体"/>
                <a:ea typeface="华文楷体"/>
              </a:rPr>
              <a:t>谢谢大家！</a:t>
            </a:r>
            <a:endParaRPr b="1" lang="en-US" sz="7200" spc="-1" strike="noStrike">
              <a:solidFill>
                <a:srgbClr val="6633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84360" y="234900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</a:rPr>
              <a:t>质量检验管理阶段（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</a:rPr>
              <a:t>QC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华文楷体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华文楷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</a:rPr>
              <a:t>世纪前，由工人自己完成质量管理，</a:t>
            </a:r>
            <a:r>
              <a:rPr b="0" lang="en-US" sz="2000" spc="-1" strike="noStrike">
                <a:solidFill>
                  <a:srgbClr val="000000"/>
                </a:solidFill>
                <a:latin typeface="华文楷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</a:rPr>
              <a:t>世纪初，美国泰勒创计划、标准化和统一管理三原则，提出计划与执行分工、检验与生产分工、建立终端检验。</a:t>
            </a:r>
            <a:endParaRPr b="1" lang="en-US" sz="2000" spc="-1" strike="noStrike">
              <a:solidFill>
                <a:srgbClr val="000000"/>
              </a:solidFill>
              <a:latin typeface="华文楷体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</a:rPr>
              <a:t>统计质量管理阶段（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</a:rPr>
              <a:t>QA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华文楷体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</a:rPr>
              <a:t>把质量管理的重点由生产线的“终端”移至生产过程的“工序”，全检改为随机抽样检验，制作控制图，再用控制图控制工序，杜绝了大量的不合格品。</a:t>
            </a:r>
            <a:endParaRPr b="1" lang="en-US" sz="2000" spc="-1" strike="noStrike">
              <a:solidFill>
                <a:srgbClr val="000000"/>
              </a:solidFill>
              <a:latin typeface="华文楷体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</a:rPr>
              <a:t>全面质量管理（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</a:rPr>
              <a:t>TQM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华文楷体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</a:rPr>
              <a:t>四全、一科学：全过程、全企业、全指标、全参与，数理统计方法为中心的科学管理方法，提出</a:t>
            </a:r>
            <a:r>
              <a:rPr b="0" lang="en-US" sz="2000" spc="-1" strike="noStrike">
                <a:solidFill>
                  <a:srgbClr val="000000"/>
                </a:solidFill>
                <a:latin typeface="华文楷体"/>
              </a:rPr>
              <a:t>PDCA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</a:rPr>
              <a:t>循环。</a:t>
            </a:r>
            <a:endParaRPr b="1" lang="en-US" sz="2000" spc="-1" strike="noStrike">
              <a:solidFill>
                <a:srgbClr val="000000"/>
              </a:solidFill>
              <a:latin typeface="华文楷体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</a:rPr>
              <a:t>标准质量管理阶段（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</a:rPr>
              <a:t>ISO9000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611280" y="1341360"/>
            <a:ext cx="73454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黑体"/>
              </a:rPr>
              <a:t>QC——QA——TQM——ISO9000</a:t>
            </a:r>
            <a:endParaRPr b="1" lang="en-US" sz="3600" spc="-1" strike="noStrike">
              <a:solidFill>
                <a:srgbClr val="6633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4920" y="1341360"/>
            <a:ext cx="82090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ISO14000</a:t>
            </a:r>
            <a:r>
              <a:rPr b="0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与</a:t>
            </a:r>
            <a:r>
              <a:rPr b="0" lang="en-US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ISO9000</a:t>
            </a:r>
            <a:r>
              <a:rPr b="0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OHSAS18001</a:t>
            </a:r>
            <a:r>
              <a:rPr b="0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：</a:t>
            </a:r>
            <a:r>
              <a:rPr b="0" lang="en-US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1999</a:t>
            </a:r>
            <a:r>
              <a:rPr b="0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的</a:t>
            </a:r>
            <a:r>
              <a:rPr b="0" lang="en-US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PDCA</a:t>
            </a:r>
            <a:endParaRPr b="1" lang="en-US" sz="2800" spc="-1" strike="noStrike">
              <a:solidFill>
                <a:srgbClr val="663300"/>
              </a:solidFill>
              <a:latin typeface="黑体"/>
            </a:endParaRPr>
          </a:p>
        </p:txBody>
      </p:sp>
      <p:sp>
        <p:nvSpPr>
          <p:cNvPr id="217" name=""/>
          <p:cNvSpPr/>
          <p:nvPr/>
        </p:nvSpPr>
        <p:spPr>
          <a:xfrm>
            <a:off x="2682720" y="3218040"/>
            <a:ext cx="3062520" cy="2962080"/>
          </a:xfrm>
          <a:prstGeom prst="ellipse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6920" y="5824440"/>
            <a:ext cx="607320" cy="52056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输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57520" y="6113520"/>
            <a:ext cx="3553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99160" y="6113520"/>
            <a:ext cx="35568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67120" y="6113520"/>
            <a:ext cx="27781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73600" y="2638440"/>
            <a:ext cx="439920" cy="1555560"/>
          </a:xfrm>
          <a:custGeom>
            <a:avLst/>
            <a:gdLst>
              <a:gd name="textAreaLeft" fmla="*/ 146520 w 439920"/>
              <a:gd name="textAreaRight" fmla="*/ 376920 w 439920"/>
              <a:gd name="textAreaTop" fmla="*/ 896040 h 1555560"/>
              <a:gd name="textAreaBottom" fmla="*/ 1332360 h 1555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84480" y="2276640"/>
            <a:ext cx="4414680" cy="3682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持  续  改  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38400" y="5607000"/>
            <a:ext cx="1567080" cy="3376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D</a:t>
            </a:r>
            <a:r>
              <a:rPr b="1" lang="zh-CN" sz="20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产品实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48040" y="5607000"/>
            <a:ext cx="925560" cy="3376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D</a:t>
            </a:r>
            <a:r>
              <a:rPr b="1" lang="zh-CN" sz="20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产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36320" y="5824440"/>
            <a:ext cx="607320" cy="52056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输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81320" y="2927520"/>
            <a:ext cx="2278080" cy="52056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A </a:t>
            </a:r>
            <a:r>
              <a:rPr b="1" lang="zh-CN" sz="2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管理职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62720" y="4303800"/>
            <a:ext cx="1643760" cy="459720"/>
          </a:xfrm>
          <a:prstGeom prst="rect">
            <a:avLst/>
          </a:prstGeom>
          <a:solidFill>
            <a:srgbClr val="1c895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测量分析改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47000" y="4303800"/>
            <a:ext cx="1278000" cy="45972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资源管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16000" y="2349360"/>
            <a:ext cx="641520" cy="4190760"/>
          </a:xfrm>
          <a:prstGeom prst="rect">
            <a:avLst/>
          </a:prstGeom>
          <a:solidFill>
            <a:srgbClr val="00008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954840" y="2349360"/>
            <a:ext cx="569880" cy="4190760"/>
          </a:xfrm>
          <a:prstGeom prst="rect">
            <a:avLst/>
          </a:prstGeom>
          <a:solidFill>
            <a:srgbClr val="00008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57520" y="3218040"/>
            <a:ext cx="1423800" cy="0"/>
          </a:xfrm>
          <a:prstGeom prst="line">
            <a:avLst/>
          </a:prstGeom>
          <a:ln w="284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88000" y="4508640"/>
            <a:ext cx="427320" cy="0"/>
          </a:xfrm>
          <a:prstGeom prst="line">
            <a:avLst/>
          </a:prstGeom>
          <a:ln w="284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1341360"/>
            <a:ext cx="40129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黑体"/>
              </a:rPr>
              <a:t>案例分析思路</a:t>
            </a:r>
            <a:endParaRPr b="1" lang="en-US" sz="4000" spc="-1" strike="noStrike">
              <a:solidFill>
                <a:srgbClr val="663300"/>
              </a:solidFill>
              <a:latin typeface="黑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0360" y="2349360"/>
            <a:ext cx="71992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华文楷体"/>
              </a:rPr>
              <a:t>引言</a:t>
            </a:r>
            <a:endParaRPr b="1" lang="en-US" sz="4000" spc="-1" strike="noStrike">
              <a:solidFill>
                <a:srgbClr val="000000"/>
              </a:solidFill>
              <a:latin typeface="华文楷体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华文楷体"/>
              </a:rPr>
              <a:t>当前薪酬方案分析</a:t>
            </a:r>
            <a:endParaRPr b="1" lang="en-US" sz="4000" spc="-1" strike="noStrike">
              <a:solidFill>
                <a:srgbClr val="000000"/>
              </a:solidFill>
              <a:latin typeface="华文楷体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</a:rPr>
              <a:t>如何设计薪酬方案</a:t>
            </a:r>
            <a:endParaRPr b="1" lang="en-US" sz="4000" spc="-1" strike="noStrike">
              <a:solidFill>
                <a:srgbClr val="000000"/>
              </a:solidFill>
              <a:latin typeface="华文楷体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华文楷体"/>
              </a:rPr>
              <a:t>改进薪酬方案</a:t>
            </a:r>
            <a:endParaRPr b="1" lang="en-US" sz="4000" spc="-1" strike="noStrike">
              <a:solidFill>
                <a:srgbClr val="000000"/>
              </a:solidFill>
              <a:latin typeface="华文楷体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华文楷体"/>
              </a:rPr>
              <a:t>其它问题</a:t>
            </a:r>
            <a:endParaRPr b="1" lang="en-US" sz="40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6000" y="1341360"/>
            <a:ext cx="14400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663300"/>
                </a:solidFill>
                <a:latin typeface="黑体"/>
              </a:rPr>
              <a:t>引言</a:t>
            </a:r>
            <a:endParaRPr b="1" lang="en-US" sz="4000" spc="-1" strike="noStrike">
              <a:solidFill>
                <a:srgbClr val="663300"/>
              </a:solidFill>
              <a:latin typeface="黑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640" y="2349000"/>
            <a:ext cx="6624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隶书"/>
                <a:ea typeface="隶书"/>
              </a:rPr>
              <a:t>变革是永恒的！</a:t>
            </a:r>
            <a:endParaRPr b="1" lang="en-US" sz="4400" spc="-1" strike="noStrike">
              <a:solidFill>
                <a:srgbClr val="000000"/>
              </a:solidFill>
              <a:latin typeface="华文楷体"/>
            </a:endParaRPr>
          </a:p>
          <a:p>
            <a:pPr marL="3430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</a:rPr>
              <a:t>Top Chemical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</a:rPr>
              <a:t>公司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华文楷体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华文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年前，推出</a:t>
            </a:r>
            <a:r>
              <a:rPr b="0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QFA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计划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华文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推行薪酬变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780000" y="2637000"/>
            <a:ext cx="1441440" cy="863280"/>
          </a:xfrm>
          <a:prstGeom prst="rect">
            <a:avLst/>
          </a:prstGeom>
          <a:solidFill>
            <a:srgbClr val="1c8952">
              <a:alpha val="80000"/>
            </a:srgbClr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924280"/>
            <a:ext cx="2089080" cy="576000"/>
          </a:xfrm>
          <a:prstGeom prst="rect">
            <a:avLst/>
          </a:prstGeom>
          <a:solidFill>
            <a:srgbClr val="1c8952">
              <a:alpha val="80000"/>
            </a:srgbClr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708360" y="2732040"/>
          <a:ext cx="5256360" cy="350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8360" y="2732040"/>
                    <a:ext cx="5256360" cy="35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900000" y="4070520"/>
            <a:ext cx="2735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924280"/>
            <a:ext cx="4716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弹性薪金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团队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%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度增长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质量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成本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市场化的速度：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安全环境承诺：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部门的财务业绩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5473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黑体"/>
              </a:rPr>
              <a:t>当前薪酬方案分析</a:t>
            </a:r>
            <a:endParaRPr b="1" lang="en-US" sz="4000" spc="-1" strike="noStrike">
              <a:solidFill>
                <a:srgbClr val="6633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5473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黑体"/>
              </a:rPr>
              <a:t>当前薪酬方案分析</a:t>
            </a:r>
            <a:endParaRPr b="1" lang="en-US" sz="4000" spc="-1" strike="noStrike">
              <a:solidFill>
                <a:srgbClr val="663300"/>
              </a:solidFill>
              <a:latin typeface="黑体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24000" y="2276640"/>
            <a:ext cx="8207280" cy="4031640"/>
            <a:chOff x="324000" y="2276640"/>
            <a:chExt cx="8207280" cy="4031640"/>
          </a:xfrm>
        </p:grpSpPr>
        <p:sp>
          <p:nvSpPr>
            <p:cNvPr id="95" name=""/>
            <p:cNvSpPr/>
            <p:nvPr/>
          </p:nvSpPr>
          <p:spPr>
            <a:xfrm>
              <a:off x="962640" y="2276640"/>
              <a:ext cx="441000" cy="2013120"/>
            </a:xfrm>
            <a:custGeom>
              <a:avLst/>
              <a:gdLst>
                <a:gd name="textAreaLeft" fmla="*/ 281880 w 441000"/>
                <a:gd name="textAreaRight" fmla="*/ 441360 w 441000"/>
                <a:gd name="textAreaTop" fmla="*/ 52200 h 2013120"/>
                <a:gd name="textAreaBottom" fmla="*/ 1960920 h 20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24000" y="2276640"/>
              <a:ext cx="8207280" cy="4031640"/>
              <a:chOff x="324000" y="2276640"/>
              <a:chExt cx="8207280" cy="4031640"/>
            </a:xfrm>
          </p:grpSpPr>
          <p:sp>
            <p:nvSpPr>
              <p:cNvPr id="97" name=""/>
              <p:cNvSpPr/>
              <p:nvPr/>
            </p:nvSpPr>
            <p:spPr>
              <a:xfrm>
                <a:off x="324000" y="2482200"/>
                <a:ext cx="727560" cy="172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支持活动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324000" y="2276640"/>
                <a:ext cx="8207280" cy="4031640"/>
                <a:chOff x="324000" y="2276640"/>
                <a:chExt cx="8207280" cy="4031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324000" y="4378320"/>
                  <a:ext cx="72756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华文楷体"/>
                    </a:rPr>
                    <a:t>主体活动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0" name=""/>
                <p:cNvGrpSpPr/>
                <p:nvPr/>
              </p:nvGrpSpPr>
              <p:grpSpPr>
                <a:xfrm>
                  <a:off x="1403640" y="2276640"/>
                  <a:ext cx="7127640" cy="4031640"/>
                  <a:chOff x="1403640" y="2276640"/>
                  <a:chExt cx="7127640" cy="4031640"/>
                </a:xfrm>
              </p:grpSpPr>
              <p:grpSp>
                <p:nvGrpSpPr>
                  <p:cNvPr id="101" name=""/>
                  <p:cNvGrpSpPr/>
                  <p:nvPr/>
                </p:nvGrpSpPr>
                <p:grpSpPr>
                  <a:xfrm>
                    <a:off x="1403640" y="2276640"/>
                    <a:ext cx="7127640" cy="4030200"/>
                    <a:chOff x="1403640" y="2276640"/>
                    <a:chExt cx="7127640" cy="4030200"/>
                  </a:xfrm>
                </p:grpSpPr>
                <p:grpSp>
                  <p:nvGrpSpPr>
                    <p:cNvPr id="102" name=""/>
                    <p:cNvGrpSpPr/>
                    <p:nvPr/>
                  </p:nvGrpSpPr>
                  <p:grpSpPr>
                    <a:xfrm>
                      <a:off x="1403640" y="2276640"/>
                      <a:ext cx="7127640" cy="4030200"/>
                      <a:chOff x="1403640" y="2276640"/>
                      <a:chExt cx="7127640" cy="4030200"/>
                    </a:xfrm>
                  </p:grpSpPr>
                  <p:sp>
                    <p:nvSpPr>
                      <p:cNvPr id="103" name=""/>
                      <p:cNvSpPr/>
                      <p:nvPr/>
                    </p:nvSpPr>
                    <p:spPr>
                      <a:xfrm>
                        <a:off x="1404000" y="2276640"/>
                        <a:ext cx="7127280" cy="4030200"/>
                      </a:xfrm>
                      <a:custGeom>
                        <a:avLst/>
                        <a:gdLst>
                          <a:gd name="textAreaLeft" fmla="*/ 0 w 7127280"/>
                          <a:gd name="textAreaRight" fmla="*/ 7127640 w 7127280"/>
                          <a:gd name="textAreaTop" fmla="*/ 0 h 4030200"/>
                          <a:gd name="textAreaBottom" fmla="*/ 4030560 h 40302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16200" y="0"/>
                            </a:lnTo>
                            <a:lnTo>
                              <a:pt x="21600" y="10800"/>
                            </a:lnTo>
                            <a:lnTo>
                              <a:pt x="16200" y="21600"/>
                            </a:lnTo>
                            <a:lnTo>
                              <a:pt x="0" y="2160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4" name=""/>
                      <p:cNvSpPr/>
                      <p:nvPr/>
                    </p:nvSpPr>
                    <p:spPr>
                      <a:xfrm flipH="1">
                        <a:off x="1403640" y="4289760"/>
                        <a:ext cx="6033240" cy="180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05" name=""/>
                    <p:cNvSpPr/>
                    <p:nvPr/>
                  </p:nvSpPr>
                  <p:spPr>
                    <a:xfrm flipH="1" flipV="1">
                      <a:off x="5651640" y="2276640"/>
                      <a:ext cx="1785240" cy="20131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 flipH="1">
                      <a:off x="5651640" y="4289760"/>
                      <a:ext cx="1785240" cy="20167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" name=""/>
                  <p:cNvSpPr/>
                  <p:nvPr/>
                </p:nvSpPr>
                <p:spPr>
                  <a:xfrm>
                    <a:off x="2309760" y="4291560"/>
                    <a:ext cx="1080" cy="2014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3291840" y="4291560"/>
                    <a:ext cx="1080" cy="2016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4321080" y="4291560"/>
                    <a:ext cx="1800" cy="2016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5360040" y="4291560"/>
                    <a:ext cx="1080" cy="2016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1404000" y="2833200"/>
                    <a:ext cx="4729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1404000" y="3274200"/>
                    <a:ext cx="5145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1404000" y="3769200"/>
                    <a:ext cx="5579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 flipV="1">
                    <a:off x="2309760" y="2832840"/>
                    <a:ext cx="0" cy="1456200"/>
                  </a:xfrm>
                  <a:prstGeom prst="line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flipV="1">
                    <a:off x="3293280" y="2832840"/>
                    <a:ext cx="720" cy="1456200"/>
                  </a:xfrm>
                  <a:prstGeom prst="line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 flipV="1">
                    <a:off x="4323240" y="2832840"/>
                    <a:ext cx="720" cy="1456200"/>
                  </a:xfrm>
                  <a:prstGeom prst="line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flipV="1">
                    <a:off x="5360040" y="2835000"/>
                    <a:ext cx="1080" cy="1456200"/>
                  </a:xfrm>
                  <a:prstGeom prst="line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" name=""/>
                <p:cNvSpPr/>
                <p:nvPr/>
              </p:nvSpPr>
              <p:spPr>
                <a:xfrm>
                  <a:off x="962640" y="4294440"/>
                  <a:ext cx="441000" cy="2013840"/>
                </a:xfrm>
                <a:custGeom>
                  <a:avLst/>
                  <a:gdLst>
                    <a:gd name="textAreaLeft" fmla="*/ 281880 w 441000"/>
                    <a:gd name="textAreaRight" fmla="*/ 441360 w 441000"/>
                    <a:gd name="textAreaTop" fmla="*/ 52200 h 2013840"/>
                    <a:gd name="textAreaBottom" fmla="*/ 1961640 h 201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9" name=""/>
          <p:cNvSpPr/>
          <p:nvPr/>
        </p:nvSpPr>
        <p:spPr>
          <a:xfrm>
            <a:off x="2819520" y="2819520"/>
            <a:ext cx="2233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发部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16720" y="2779560"/>
            <a:ext cx="477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5800" y="3355920"/>
            <a:ext cx="4780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65800" y="4724280"/>
            <a:ext cx="4780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661080" y="5300640"/>
            <a:ext cx="4780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64000" y="4508640"/>
            <a:ext cx="574560" cy="15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包装部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95640" y="2349360"/>
            <a:ext cx="2447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培训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5400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黑体"/>
              </a:rPr>
              <a:t>当前薪酬方案分析</a:t>
            </a:r>
            <a:endParaRPr b="1" lang="en-US" sz="4000" spc="-1" strike="noStrike">
              <a:solidFill>
                <a:srgbClr val="663300"/>
              </a:solidFill>
              <a:latin typeface="黑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496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</a:rPr>
              <a:t>策略性薪金法：</a:t>
            </a: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  <a:p>
            <a:pPr marL="329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</a:rPr>
              <a:t>（新工资方法，</a:t>
            </a:r>
            <a:r>
              <a:rPr b="0" lang="en-US" sz="3600" spc="-1" strike="noStrike">
                <a:solidFill>
                  <a:srgbClr val="000000"/>
                </a:solidFill>
                <a:latin typeface="华文楷体"/>
              </a:rPr>
              <a:t>New pay approach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  <a:p>
            <a:pPr lvl="2" marL="1097280" indent="-2192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固定薪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弹性薪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间接薪金（福利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0920" y="1341360"/>
            <a:ext cx="5040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黑体"/>
              </a:rPr>
              <a:t>如何设计薪酬方案</a:t>
            </a:r>
            <a:endParaRPr b="1" lang="en-US" sz="4000" spc="-1" strike="noStrike">
              <a:solidFill>
                <a:srgbClr val="663300"/>
              </a:solidFill>
              <a:latin typeface="黑体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-1090080" y="591840"/>
            <a:ext cx="11514960" cy="11514960"/>
            <a:chOff x="-1090080" y="591840"/>
            <a:chExt cx="11514960" cy="11514960"/>
          </a:xfrm>
        </p:grpSpPr>
        <p:sp>
          <p:nvSpPr>
            <p:cNvPr id="130" name=""/>
            <p:cNvSpPr/>
            <p:nvPr/>
          </p:nvSpPr>
          <p:spPr>
            <a:xfrm rot="976200">
              <a:off x="668160" y="2332440"/>
              <a:ext cx="8146440" cy="814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690" y="1170"/>
                  </a:moveTo>
                  <a:arcTo wR="10800" hR="10800" stAng="-3784811" swAng="2831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5690" y="1170"/>
                  </a:moveTo>
                  <a:arcTo wR="10800" hR="10800" stAng="-3784811" swAng="2831747"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8942600">
              <a:off x="595080" y="2278440"/>
              <a:ext cx="8143920" cy="8141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35" y="2521"/>
                  </a:moveTo>
                  <a:arcTo wR="10800" hR="10800" stAng="-3002901" swAng="2809455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35" y="2521"/>
                  </a:moveTo>
                  <a:arcTo wR="10800" hR="10800" stAng="-3002901" swAng="2809455"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976200">
              <a:off x="2834640" y="4685760"/>
              <a:ext cx="3574800" cy="345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042" y="3286"/>
                  </a:moveTo>
                  <a:arcTo wR="10800" hR="10800" stAng="-8154804" swAng="7201740"/>
                  <a:lnTo>
                    <a:pt x="10800" y="10800"/>
                  </a:lnTo>
                  <a:close/>
                </a:path>
                <a:path fill="none" w="21600" h="21600">
                  <a:moveTo>
                    <a:pt x="3042" y="3286"/>
                  </a:moveTo>
                  <a:arcTo wR="10800" hR="10800" stAng="-8154804" swAng="7201740"/>
                </a:path>
              </a:pathLst>
            </a:custGeom>
            <a:solidFill>
              <a:srgbClr val="1c8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6480800">
              <a:off x="547560" y="2274480"/>
              <a:ext cx="8142120" cy="814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839" y="1846"/>
                  </a:moveTo>
                  <a:arcTo wR="10800" hR="10800" stAng="-3360170" swAng="27702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6839" y="1846"/>
                  </a:moveTo>
                  <a:arcTo wR="10800" hR="10800" stAng="-3360170" swAng="2770273"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rot="20623800">
              <a:off x="487080" y="2345400"/>
              <a:ext cx="8146440" cy="8148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111" y="2036"/>
                  </a:moveTo>
                  <a:arcTo wR="10800" hR="10800" stAng="-3254446" swAng="23013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7111" y="2036"/>
                  </a:moveTo>
                  <a:arcTo wR="10800" hR="10800" stAng="-3254446" swAng="2301382"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rot="20520000">
              <a:off x="2859480" y="4664160"/>
              <a:ext cx="3753360" cy="344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27" y="201"/>
                  </a:moveTo>
                  <a:arcTo wR="10800" hR="10800" stAng="-6064029" swAng="4999892"/>
                  <a:lnTo>
                    <a:pt x="10800" y="10800"/>
                  </a:lnTo>
                  <a:close/>
                </a:path>
                <a:path fill="none" w="21600" h="21600">
                  <a:moveTo>
                    <a:pt x="8727" y="201"/>
                  </a:moveTo>
                  <a:arcTo wR="10800" hR="10800" stAng="-6064029" swAng="4999892"/>
                </a:path>
              </a:pathLst>
            </a:custGeom>
            <a:solidFill>
              <a:srgbClr val="1c8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rot="16200000">
              <a:off x="4622400" y="4823280"/>
              <a:ext cx="761760" cy="671400"/>
            </a:xfrm>
            <a:custGeom>
              <a:avLst/>
              <a:gdLst/>
              <a:ahLst/>
              <a:rect l="l" t="t" r="r" b="b"/>
              <a:pathLst>
                <a:path w="984" h="420">
                  <a:moveTo>
                    <a:pt x="0" y="219"/>
                  </a:moveTo>
                  <a:lnTo>
                    <a:pt x="810" y="102"/>
                  </a:lnTo>
                  <a:lnTo>
                    <a:pt x="810" y="0"/>
                  </a:lnTo>
                  <a:lnTo>
                    <a:pt x="984" y="222"/>
                  </a:lnTo>
                  <a:lnTo>
                    <a:pt x="810" y="420"/>
                  </a:lnTo>
                  <a:lnTo>
                    <a:pt x="810" y="321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rot="11990400">
              <a:off x="2983320" y="5669640"/>
              <a:ext cx="760680" cy="671400"/>
            </a:xfrm>
            <a:custGeom>
              <a:avLst/>
              <a:gdLst/>
              <a:ahLst/>
              <a:rect l="l" t="t" r="r" b="b"/>
              <a:pathLst>
                <a:path w="984" h="420">
                  <a:moveTo>
                    <a:pt x="0" y="219"/>
                  </a:moveTo>
                  <a:lnTo>
                    <a:pt x="810" y="102"/>
                  </a:lnTo>
                  <a:lnTo>
                    <a:pt x="810" y="0"/>
                  </a:lnTo>
                  <a:lnTo>
                    <a:pt x="984" y="222"/>
                  </a:lnTo>
                  <a:lnTo>
                    <a:pt x="810" y="420"/>
                  </a:lnTo>
                  <a:lnTo>
                    <a:pt x="810" y="321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9048000">
              <a:off x="5484600" y="5525280"/>
              <a:ext cx="761760" cy="671400"/>
            </a:xfrm>
            <a:custGeom>
              <a:avLst/>
              <a:gdLst/>
              <a:ahLst/>
              <a:rect l="l" t="t" r="r" b="b"/>
              <a:pathLst>
                <a:path w="984" h="420">
                  <a:moveTo>
                    <a:pt x="0" y="219"/>
                  </a:moveTo>
                  <a:lnTo>
                    <a:pt x="810" y="102"/>
                  </a:lnTo>
                  <a:lnTo>
                    <a:pt x="810" y="0"/>
                  </a:lnTo>
                  <a:lnTo>
                    <a:pt x="984" y="222"/>
                  </a:lnTo>
                  <a:lnTo>
                    <a:pt x="810" y="420"/>
                  </a:lnTo>
                  <a:lnTo>
                    <a:pt x="810" y="321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07280" y="5135400"/>
              <a:ext cx="2736720" cy="7650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华文楷体"/>
                </a:rPr>
                <a:t>回报员工方式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80000" y="5638680"/>
              <a:ext cx="1855800" cy="7920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c0832"/>
                  </a:solidFill>
                  <a:latin typeface="华文楷体"/>
                  <a:ea typeface="华文楷体"/>
                </a:rPr>
                <a:t>薪酬理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00720" y="3179520"/>
              <a:ext cx="2663640" cy="7923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华文楷体"/>
                </a:rPr>
                <a:t>企业发展阶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35280" y="3190680"/>
              <a:ext cx="2520720" cy="7920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华文楷体"/>
                </a:rPr>
                <a:t>企业文化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rot="15220200">
              <a:off x="3657240" y="4894920"/>
              <a:ext cx="762120" cy="671400"/>
            </a:xfrm>
            <a:custGeom>
              <a:avLst/>
              <a:gdLst/>
              <a:ahLst/>
              <a:rect l="l" t="t" r="r" b="b"/>
              <a:pathLst>
                <a:path w="984" h="420">
                  <a:moveTo>
                    <a:pt x="0" y="219"/>
                  </a:moveTo>
                  <a:lnTo>
                    <a:pt x="810" y="102"/>
                  </a:lnTo>
                  <a:lnTo>
                    <a:pt x="810" y="0"/>
                  </a:lnTo>
                  <a:lnTo>
                    <a:pt x="984" y="222"/>
                  </a:lnTo>
                  <a:lnTo>
                    <a:pt x="810" y="420"/>
                  </a:lnTo>
                  <a:lnTo>
                    <a:pt x="810" y="321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8360" y="5135400"/>
              <a:ext cx="2158920" cy="7920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华文楷体"/>
                </a:rPr>
                <a:t>企业战略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09480" y="2286000"/>
            <a:ext cx="78343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70000"/>
              </a:lnSpc>
              <a:spcBef>
                <a:spcPts val="901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</a:rPr>
              <a:t>固定薪金和弹性薪金的设计原则</a:t>
            </a: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  <a:p>
            <a:pPr marL="322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</a:rPr>
              <a:t>不同阶层</a:t>
            </a: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  <a:p>
            <a:pPr marL="3222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</a:rPr>
              <a:t>不同职类</a:t>
            </a: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  <a:p>
            <a:pPr marL="322200" indent="-3222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</a:rPr>
              <a:t>提供激励性因素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</a:rPr>
              <a:t>雷尼尔效应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marL="322200" indent="-32220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</a:rPr>
              <a:t>与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</a:rPr>
              <a:t>QFA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</a:rPr>
              <a:t>相结合</a:t>
            </a: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  <a:p>
            <a:pPr lvl="4" marL="193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49356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610920" y="1341360"/>
            <a:ext cx="5040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黑体"/>
              </a:rPr>
              <a:t>如何设计薪酬方案</a:t>
            </a:r>
            <a:endParaRPr b="1" lang="en-US" sz="4000" spc="-1" strike="noStrike">
              <a:solidFill>
                <a:srgbClr val="6633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H="1" flipV="1">
            <a:off x="1828800" y="2209680"/>
            <a:ext cx="6480" cy="383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35280" y="6051600"/>
            <a:ext cx="5187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90680" y="2631960"/>
            <a:ext cx="2044800" cy="13874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35480" y="2631960"/>
            <a:ext cx="1967040" cy="13874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90680" y="4019400"/>
            <a:ext cx="2044800" cy="1384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35480" y="4019400"/>
            <a:ext cx="1967040" cy="1384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40000" y="278136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特殊知识</a:t>
            </a:r>
            <a:r>
              <a:rPr b="0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40000" y="44845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辅助知识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56000" y="2781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核心知识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56000" y="44845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事务知识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5530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2286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64360" y="560376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80000" y="5454720"/>
            <a:ext cx="12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  <a:ea typeface="华文楷体"/>
              </a:rPr>
              <a:t>价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75240" y="3292560"/>
            <a:ext cx="6678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  <a:ea typeface="华文楷体"/>
              </a:rPr>
              <a:t>唯一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0920" y="1341360"/>
            <a:ext cx="5040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黑体"/>
              </a:rPr>
              <a:t>如何设计薪酬方案</a:t>
            </a:r>
            <a:endParaRPr b="1" lang="en-US" sz="4000" spc="-1" strike="noStrike">
              <a:solidFill>
                <a:srgbClr val="6633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3:17:35Z</dcterms:created>
  <dc:creator>Henry</dc:creator>
  <dc:description/>
  <dc:language>en-US</dc:language>
  <cp:lastModifiedBy>april.yuan</cp:lastModifiedBy>
  <dcterms:modified xsi:type="dcterms:W3CDTF">2005-12-09T07:17:12Z</dcterms:modified>
  <cp:revision>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56963467</vt:r8>
  </property>
  <property fmtid="{D5CDD505-2E9C-101B-9397-08002B2CF9AE}" pid="3" name="_AuthorEmail">
    <vt:lpwstr>echo.ren@hbrchina.com</vt:lpwstr>
  </property>
  <property fmtid="{D5CDD505-2E9C-101B-9397-08002B2CF9AE}" pid="4" name="_AuthorEmailDisplayName">
    <vt:lpwstr>echo ren</vt:lpwstr>
  </property>
  <property fmtid="{D5CDD505-2E9C-101B-9397-08002B2CF9AE}" pid="5" name="_EmailSubject">
    <vt:lpwstr/>
  </property>
  <property fmtid="{D5CDD505-2E9C-101B-9397-08002B2CF9AE}" pid="6" name="_ReviewingToolsShownOnce">
    <vt:lpwstr/>
  </property>
</Properties>
</file>