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2825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703440" y="742680"/>
            <a:ext cx="5364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15720" y="9356760"/>
            <a:ext cx="70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7AED656-63A7-412A-ACF3-49653DB8D5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75520" y="9416880"/>
            <a:ext cx="434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ocID]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480" y="9377280"/>
            <a:ext cx="91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witt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5240" y="9328320"/>
            <a:ext cx="642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703440" y="74304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如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19320"/>
            <a:ext cx="99028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73160" y="1523520"/>
            <a:ext cx="8169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1" marL="231840" indent="-23040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4" marL="1211400" indent="-2160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5" marL="1211400" indent="-2160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6" marL="1211400" indent="-2160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" name="237008_h" descr=""/>
          <p:cNvPicPr/>
          <p:nvPr/>
        </p:nvPicPr>
        <p:blipFill>
          <a:blip r:embed="rId6"/>
          <a:srcRect l="0" t="40217" r="0" b="10315"/>
          <a:stretch/>
        </p:blipFill>
        <p:spPr>
          <a:xfrm>
            <a:off x="0" y="0"/>
            <a:ext cx="99028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07960" y="6572160"/>
            <a:ext cx="70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88ED57-C006-4683-AFB8-8E665A3076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97200" y="6497640"/>
            <a:ext cx="774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国人民大学商学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120" y="6524640"/>
            <a:ext cx="153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受欢迎的工资方案 </a:t>
            </a:r>
            <a:r>
              <a:rPr b="0" lang="en-US" sz="1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 </a:t>
            </a:r>
            <a:r>
              <a:rPr b="0" lang="zh-CN" sz="1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哈佛商业案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5240" y="6470640"/>
            <a:ext cx="95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81880" y="228600"/>
            <a:ext cx="152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19320"/>
            <a:ext cx="99028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9902880" cy="1219320"/>
            <a:chOff x="0" y="0"/>
            <a:chExt cx="9902880" cy="1219320"/>
          </a:xfrm>
        </p:grpSpPr>
        <p:pic>
          <p:nvPicPr>
            <p:cNvPr id="47" name="237008_h" descr=""/>
            <p:cNvPicPr/>
            <p:nvPr/>
          </p:nvPicPr>
          <p:blipFill>
            <a:blip r:embed="rId2"/>
            <a:srcRect l="0" t="40217" r="0" b="10315"/>
            <a:stretch/>
          </p:blipFill>
          <p:spPr>
            <a:xfrm>
              <a:off x="0" y="0"/>
              <a:ext cx="99028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08000" y="3078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c0c0"/>
                  </a:solidFill>
                  <a:latin typeface="仿宋"/>
                  <a:ea typeface="仿宋"/>
                </a:rPr>
                <a:t>中国人民大学商学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楷体_GB2312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楷体_GB2312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233280" algn="ctr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3" marL="709560" algn="ctr">
              <a:lnSpc>
                <a:spcPct val="12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4" marL="995400" algn="ctr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楷体_GB2312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 lvl="5" marL="995400">
              <a:spcBef>
                <a:spcPts val="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 lvl="6" marL="995400">
              <a:spcBef>
                <a:spcPts val="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32160" y="3716280"/>
            <a:ext cx="60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单位：中国人民大学商学院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EAM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成员：严国良 张德强 安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56920" y="2220480"/>
            <a:ext cx="5543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Arial"/>
              </a:rPr>
              <a:t>不受欢迎的工资方案</a:t>
            </a:r>
            <a:br>
              <a:rPr sz="3200"/>
            </a:br>
            <a:r>
              <a:rPr b="1" lang="zh-CN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he case of the unpopular pay pla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55040" y="4835520"/>
            <a:ext cx="1904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3080" y="1413000"/>
            <a:ext cx="518472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改进方案的设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32520" y="4948200"/>
            <a:ext cx="3527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制度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QM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施准则相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特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c0c0c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行计划、战略策略和关键的行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31080" y="1341360"/>
            <a:ext cx="345744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薪酬制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工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绩效和团队绩效挂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队效益和企业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效益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挂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目标和整体目标统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4720" y="1701720"/>
            <a:ext cx="137160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团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4720" y="3895560"/>
            <a:ext cx="13716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1640" y="1701720"/>
            <a:ext cx="136872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楷体_GB2312"/>
              </a:rPr>
              <a:t>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46320" y="2387160"/>
            <a:ext cx="2480040" cy="1851480"/>
            <a:chOff x="2146320" y="2387160"/>
            <a:chExt cx="2480040" cy="1851480"/>
          </a:xfrm>
        </p:grpSpPr>
        <p:sp>
          <p:nvSpPr>
            <p:cNvPr id="180" name=""/>
            <p:cNvSpPr/>
            <p:nvPr/>
          </p:nvSpPr>
          <p:spPr>
            <a:xfrm>
              <a:off x="2359080" y="38545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收益共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77" idx="3"/>
              <a:endCxn id="178" idx="2"/>
            </p:cNvCxnSpPr>
            <p:nvPr/>
          </p:nvCxnSpPr>
          <p:spPr>
            <a:xfrm flipV="1">
              <a:off x="2146320" y="2387160"/>
              <a:ext cx="2480400" cy="1851840"/>
            </a:xfrm>
            <a:prstGeom prst="bentConnector2">
              <a:avLst/>
            </a:prstGeom>
            <a:ln w="38160">
              <a:solidFill>
                <a:srgbClr val="ff6600"/>
              </a:solidFill>
              <a:prstDash val="sysDot"/>
              <a:miter/>
              <a:headEnd len="med" type="arrow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1040760" y="2386800"/>
            <a:ext cx="454680" cy="1508400"/>
            <a:chOff x="1040760" y="2386800"/>
            <a:chExt cx="454680" cy="1508400"/>
          </a:xfrm>
        </p:grpSpPr>
        <p:cxnSp>
          <p:nvCxnSpPr>
            <p:cNvPr id="183" name=""/>
            <p:cNvCxnSpPr>
              <a:stCxn id="177" idx="0"/>
              <a:endCxn id="176" idx="2"/>
            </p:cNvCxnSpPr>
            <p:nvPr/>
          </p:nvCxnSpPr>
          <p:spPr>
            <a:xfrm flipV="1">
              <a:off x="1460160" y="2386800"/>
              <a:ext cx="1080" cy="1508760"/>
            </a:xfrm>
            <a:prstGeom prst="straightConnector1">
              <a:avLst/>
            </a:prstGeom>
            <a:ln w="38160">
              <a:solidFill>
                <a:srgbClr val="3366ff"/>
              </a:solidFill>
              <a:miter/>
              <a:headEnd len="med" type="arrow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1040760" y="240768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Tahoma"/>
                  <a:ea typeface="楷体_GB2312"/>
                </a:rPr>
                <a:t>个人绩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145960" y="1628640"/>
            <a:ext cx="1795680" cy="416520"/>
            <a:chOff x="2145960" y="1628640"/>
            <a:chExt cx="1795680" cy="416520"/>
          </a:xfrm>
        </p:grpSpPr>
        <p:cxnSp>
          <p:nvCxnSpPr>
            <p:cNvPr id="186" name=""/>
            <p:cNvCxnSpPr>
              <a:stCxn id="176" idx="3"/>
              <a:endCxn id="178" idx="1"/>
            </p:cNvCxnSpPr>
            <p:nvPr/>
          </p:nvCxnSpPr>
          <p:spPr>
            <a:xfrm>
              <a:off x="2145960" y="2044440"/>
              <a:ext cx="1796040" cy="10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</p:cxnSp>
        <p:sp>
          <p:nvSpPr>
            <p:cNvPr id="187" name=""/>
            <p:cNvSpPr/>
            <p:nvPr/>
          </p:nvSpPr>
          <p:spPr>
            <a:xfrm>
              <a:off x="2214720" y="1628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重要性和贡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2280" y="5229360"/>
            <a:ext cx="5097600" cy="812520"/>
            <a:chOff x="422280" y="5229360"/>
            <a:chExt cx="5097600" cy="812520"/>
          </a:xfrm>
        </p:grpSpPr>
        <p:sp>
          <p:nvSpPr>
            <p:cNvPr id="189" name=""/>
            <p:cNvSpPr/>
            <p:nvPr/>
          </p:nvSpPr>
          <p:spPr>
            <a:xfrm>
              <a:off x="2233440" y="5229360"/>
              <a:ext cx="1494000" cy="8125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5400000"/>
            </a:gra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Univers"/>
                </a:rPr>
                <a:t>岗位差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280" y="5229360"/>
              <a:ext cx="1504800" cy="8125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d4072"/>
                </a:gs>
                <a:gs pos="100000">
                  <a:srgbClr val="858df9"/>
                </a:gs>
              </a:gsLst>
              <a:lin ang="5400000"/>
            </a:gra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Univers"/>
                </a:rPr>
                <a:t>团队差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14720" y="5229360"/>
              <a:ext cx="1505160" cy="8125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Univers"/>
                </a:rPr>
                <a:t>个人差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032520" y="3141720"/>
            <a:ext cx="3456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资的决定要素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团队绩效</a:t>
            </a:r>
            <a:r>
              <a:rPr b="1" lang="en-US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: </a:t>
            </a:r>
            <a:r>
              <a:rPr b="1" lang="zh-CN" sz="1600" spc="-1" strike="noStrike">
                <a:solidFill>
                  <a:srgbClr val="cc3300"/>
                </a:solidFill>
                <a:latin typeface="仿宋"/>
                <a:ea typeface="楷体_GB2312"/>
              </a:rPr>
              <a:t>收益共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绩效：</a:t>
            </a:r>
            <a:r>
              <a:rPr b="1" lang="zh-CN" sz="1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个人激励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资准确率的参考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战略和人力资源策略匹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.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团队的差异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6680" y="1196640"/>
            <a:ext cx="8961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经理人的职责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资源配置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有限的资金和精力 回报最丰厚  损失尽可能减少不必要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双指标系统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业绩指标：团队整体绩效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TQM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重要性指标：产品生命周期 波士顿矩阵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实现目标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---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部门权重 长远目标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---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收益分享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全员参与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---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绩效表现 个人激励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考评方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楷体_GB2312"/>
              </a:rPr>
              <a:t>平衡记分卡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686520" indent="-4604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KPI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08400" y="3100320"/>
            <a:ext cx="5496120" cy="3568680"/>
            <a:chOff x="4208400" y="3100320"/>
            <a:chExt cx="5496120" cy="3568680"/>
          </a:xfrm>
        </p:grpSpPr>
        <p:sp>
          <p:nvSpPr>
            <p:cNvPr id="196" name=""/>
            <p:cNvSpPr/>
            <p:nvPr/>
          </p:nvSpPr>
          <p:spPr>
            <a:xfrm>
              <a:off x="4303800" y="3100320"/>
              <a:ext cx="5400720" cy="326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6960" y="3433680"/>
              <a:ext cx="1913040" cy="1114200"/>
            </a:xfrm>
            <a:prstGeom prst="rect">
              <a:avLst/>
            </a:prstGeom>
            <a:solidFill>
              <a:srgbClr val="9c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明星类业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6960" y="4547880"/>
              <a:ext cx="1913040" cy="1114560"/>
            </a:xfrm>
            <a:prstGeom prst="rect">
              <a:avLst/>
            </a:prstGeom>
            <a:solidFill>
              <a:srgbClr val="dde2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金牛类业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547880"/>
              <a:ext cx="1909800" cy="1114560"/>
            </a:xfrm>
            <a:prstGeom prst="rect">
              <a:avLst/>
            </a:prstGeom>
            <a:solidFill>
              <a:srgbClr val="8ad2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瘦狗类业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3433680"/>
              <a:ext cx="1909800" cy="1114200"/>
            </a:xfrm>
            <a:prstGeom prst="rect">
              <a:avLst/>
            </a:prstGeom>
            <a:solidFill>
              <a:srgbClr val="aca1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幼童类业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96000" y="3935160"/>
              <a:ext cx="0" cy="13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51520" y="5859360"/>
              <a:ext cx="213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53080" y="3628800"/>
              <a:ext cx="2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高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48760" y="5744880"/>
              <a:ext cx="2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3080" y="5356080"/>
              <a:ext cx="2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32400" y="5719680"/>
              <a:ext cx="28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高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58000" y="5968800"/>
              <a:ext cx="21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相对市场竞争位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8400" y="3935160"/>
              <a:ext cx="6066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市场增长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56280" y="4241160"/>
              <a:ext cx="339840" cy="6685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113520" y="4241160"/>
              <a:ext cx="1670040" cy="6685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64680" y="4854240"/>
              <a:ext cx="1047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494040" y="3768480"/>
              <a:ext cx="10479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64680" y="3768480"/>
              <a:ext cx="1047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20120" y="4630680"/>
              <a:ext cx="11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收获清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80520" y="351792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放弃退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37400" y="3517920"/>
              <a:ext cx="62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f5f5f"/>
                  </a:solidFill>
                  <a:latin typeface="Arial"/>
                  <a:ea typeface="楷体_GB2312"/>
                </a:rPr>
                <a:t>转化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83280" y="6303960"/>
              <a:ext cx="1870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.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平衡计分卡实现公司对团队的考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27440" y="3213000"/>
            <a:ext cx="2016000" cy="1295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战略目标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提高质量和响应市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7440" y="1268280"/>
            <a:ext cx="201600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财务指标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利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主营业务收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市场拓展单位成本降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27440" y="5157720"/>
            <a:ext cx="201600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客户策略目标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市场份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顾客满意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3800" y="3213000"/>
            <a:ext cx="201600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内部运营策略目标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质量指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安全与环境的改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91440" y="3213000"/>
            <a:ext cx="201600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财务学习与成长策略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市场拓展速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428000" y="2510640"/>
            <a:ext cx="541080" cy="793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428360" y="4416840"/>
            <a:ext cx="541080" cy="793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51080" y="3446640"/>
            <a:ext cx="541440" cy="793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5778360" y="3427560"/>
            <a:ext cx="541440" cy="793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88160" y="1844640"/>
            <a:ext cx="1152360" cy="1152720"/>
          </a:xfrm>
          <a:prstGeom prst="line">
            <a:avLst/>
          </a:prstGeom>
          <a:ln w="7632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7440" y="4797360"/>
            <a:ext cx="1224000" cy="935280"/>
          </a:xfrm>
          <a:prstGeom prst="line">
            <a:avLst/>
          </a:prstGeom>
          <a:ln w="7632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430360" y="1915920"/>
            <a:ext cx="1008000" cy="1150920"/>
          </a:xfrm>
          <a:prstGeom prst="line">
            <a:avLst/>
          </a:prstGeom>
          <a:ln w="7632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59440" y="4797000"/>
            <a:ext cx="1081080" cy="1079640"/>
          </a:xfrm>
          <a:prstGeom prst="line">
            <a:avLst/>
          </a:prstGeom>
          <a:ln w="7632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岗位的差异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72800" y="1523520"/>
            <a:ext cx="8126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理由：岗位不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工资的不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工作性质的不同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方法：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</a:rPr>
              <a:t>行业标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历史数据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51200" y="2933640"/>
          <a:ext cx="609588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2933640"/>
                    <a:ext cx="609588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.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人的差异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1412640"/>
            <a:ext cx="482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原方案执行的结果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优秀员工 公司绩效 管理状况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必须强调个人激励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优秀员工 辐射效应 绩效目标 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可变薪酬的目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有固定费用转移到变动费用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优异的成绩提供额外的薪酬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分担企业的风险 分享企业的财富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238720" y="1484280"/>
            <a:ext cx="4394160" cy="4649760"/>
            <a:chOff x="5238720" y="1484280"/>
            <a:chExt cx="4394160" cy="4649760"/>
          </a:xfrm>
        </p:grpSpPr>
        <p:sp>
          <p:nvSpPr>
            <p:cNvPr id="239" name=""/>
            <p:cNvSpPr/>
            <p:nvPr/>
          </p:nvSpPr>
          <p:spPr>
            <a:xfrm>
              <a:off x="5238720" y="1484280"/>
              <a:ext cx="4394160" cy="464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5120" y="1884240"/>
              <a:ext cx="2976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83080" y="1884240"/>
              <a:ext cx="1202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方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85120" y="3075120"/>
              <a:ext cx="29764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344520" indent="-343080">
                <a:lnSpc>
                  <a:spcPct val="100000"/>
                </a:lnSpc>
                <a:spcBef>
                  <a:spcPts val="400"/>
                </a:spcBef>
                <a:buClr>
                  <a:srgbClr val="003366"/>
                </a:buClr>
                <a:buFont typeface="楷体_GB231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结合了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ARS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343080">
                <a:lnSpc>
                  <a:spcPct val="100000"/>
                </a:lnSpc>
                <a:spcBef>
                  <a:spcPts val="400"/>
                </a:spcBef>
                <a:buClr>
                  <a:srgbClr val="003366"/>
                </a:buClr>
                <a:buFont typeface="楷体_GB231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矩阵使用特别措施，通过加权，表明了一个范围内的一系列业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343080">
                <a:lnSpc>
                  <a:spcPct val="100000"/>
                </a:lnSpc>
                <a:spcBef>
                  <a:spcPts val="400"/>
                </a:spcBef>
                <a:buClr>
                  <a:srgbClr val="003366"/>
                </a:buClr>
                <a:buFont typeface="楷体_GB231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提供了业绩的连续集如：最低门槛、基本目标、历史目标、杰出目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44520" indent="-343080">
                <a:lnSpc>
                  <a:spcPct val="100000"/>
                </a:lnSpc>
                <a:spcBef>
                  <a:spcPts val="400"/>
                </a:spcBef>
                <a:buClr>
                  <a:srgbClr val="003366"/>
                </a:buClr>
                <a:buFont typeface="楷体_GB231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员工因为任何业绩改善得到并增加了强化的机会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83080" y="3075120"/>
              <a:ext cx="12020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业绩矩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83080" y="2678040"/>
              <a:ext cx="4178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行为锚定等级法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B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83080" y="2281320"/>
              <a:ext cx="4178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目标管理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MB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83080" y="1884240"/>
              <a:ext cx="4178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3080" y="2678040"/>
              <a:ext cx="4178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83080" y="3075120"/>
              <a:ext cx="4178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3080" y="5513400"/>
              <a:ext cx="4178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83080" y="1884240"/>
              <a:ext cx="0" cy="3629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5120" y="1884240"/>
              <a:ext cx="0" cy="3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561600" y="1884240"/>
              <a:ext cx="0" cy="3629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83080" y="2281320"/>
              <a:ext cx="4178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85120" y="3075120"/>
              <a:ext cx="0" cy="243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07080" y="5773680"/>
              <a:ext cx="1513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c3300"/>
                  </a:solidFill>
                  <a:latin typeface="Arial"/>
                </a:rPr>
                <a:t>个人绩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15080" y="5773680"/>
              <a:ext cx="1513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c3300"/>
                  </a:solidFill>
                  <a:latin typeface="Arial"/>
                </a:rPr>
                <a:t>持续提高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40440" y="14842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对员工的绩效管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5.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附表：业绩矩阵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1440" y="155736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姓名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________ 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团队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部门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________ 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经理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________ 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业绩期间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________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1440" y="1989000"/>
          <a:ext cx="9288360" cy="3743640"/>
        </p:xfrm>
        <a:graphic>
          <a:graphicData uri="http://schemas.openxmlformats.org/drawingml/2006/table">
            <a:tbl>
              <a:tblPr/>
              <a:tblGrid>
                <a:gridCol w="1490760"/>
                <a:gridCol w="744480"/>
                <a:gridCol w="596880"/>
                <a:gridCol w="522360"/>
                <a:gridCol w="520560"/>
                <a:gridCol w="596880"/>
                <a:gridCol w="530280"/>
                <a:gridCol w="714240"/>
                <a:gridCol w="714600"/>
                <a:gridCol w="712800"/>
                <a:gridCol w="714240"/>
                <a:gridCol w="716040"/>
                <a:gridCol w="7142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衡量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权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1" name=""/>
          <p:cNvCxnSpPr/>
          <p:nvPr/>
        </p:nvCxnSpPr>
        <p:spPr>
          <a:xfrm>
            <a:off x="2790360" y="2565000"/>
            <a:ext cx="1080" cy="1080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71800" y="3135240"/>
            <a:ext cx="1368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可接受的最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低业绩水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/>
          <p:nvPr/>
        </p:nvCxnSpPr>
        <p:spPr>
          <a:xfrm flipV="1">
            <a:off x="3943440" y="2707560"/>
            <a:ext cx="573840" cy="1297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719440" y="4100400"/>
            <a:ext cx="2414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业绩基线</a:t>
            </a:r>
            <a:r>
              <a:rPr b="0" lang="en-US" sz="1600" spc="-1" strike="noStrike">
                <a:solidFill>
                  <a:srgbClr val="000000"/>
                </a:solidFill>
                <a:latin typeface="仿宋"/>
                <a:ea typeface="仿宋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历史水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/>
          <p:nvPr/>
        </p:nvCxnSpPr>
        <p:spPr>
          <a:xfrm>
            <a:off x="5598720" y="2637000"/>
            <a:ext cx="1080" cy="1080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>
            <a:off x="8480160" y="2637000"/>
            <a:ext cx="1080" cy="1080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7761240" y="3357720"/>
            <a:ext cx="1511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超常的业绩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低水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8520" y="3357720"/>
            <a:ext cx="1655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期望的业绩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目标水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438000" y="2707920"/>
            <a:ext cx="505080" cy="1297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21520" y="5950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得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59080" y="6019920"/>
            <a:ext cx="79236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87800" y="594828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67440" y="1557360"/>
            <a:ext cx="4453920" cy="4824360"/>
            <a:chOff x="5167440" y="1557360"/>
            <a:chExt cx="4453920" cy="4824360"/>
          </a:xfrm>
        </p:grpSpPr>
        <p:sp>
          <p:nvSpPr>
            <p:cNvPr id="274" name=""/>
            <p:cNvSpPr/>
            <p:nvPr/>
          </p:nvSpPr>
          <p:spPr>
            <a:xfrm>
              <a:off x="5167440" y="1557360"/>
              <a:ext cx="4103280" cy="475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238720" y="1596960"/>
              <a:ext cx="4382640" cy="4784760"/>
              <a:chOff x="5238720" y="1596960"/>
              <a:chExt cx="4382640" cy="478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5238720" y="5703840"/>
                <a:ext cx="14616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38720" y="5025960"/>
                <a:ext cx="14616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38720" y="4348080"/>
                <a:ext cx="14616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238720" y="3670200"/>
                <a:ext cx="14616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38720" y="2992320"/>
                <a:ext cx="14616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38720" y="2314440"/>
                <a:ext cx="14616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238720" y="1596960"/>
                <a:ext cx="14616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奖金表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60840" y="570384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00320" y="570384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6-1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160840" y="502596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00320" y="502596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11-12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60840" y="434808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00320" y="434808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-1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160840" y="367020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00320" y="367020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90-9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160840" y="299232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00320" y="299232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5-8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60840" y="231444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00320" y="2314440"/>
                <a:ext cx="1460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-7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60840" y="1596960"/>
                <a:ext cx="146016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支付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0320" y="1596960"/>
                <a:ext cx="146016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2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业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8720" y="1596960"/>
                <a:ext cx="2922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38720" y="6381720"/>
                <a:ext cx="2922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38720" y="1596960"/>
                <a:ext cx="0" cy="717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9621360" y="1596960"/>
                <a:ext cx="0" cy="717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160840" y="1596960"/>
                <a:ext cx="1460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38720" y="231444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621360" y="231444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38720" y="299232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621360" y="299232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8720" y="367020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621360" y="367020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38720" y="434808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621360" y="434808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38720" y="502596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621360" y="502596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38720" y="570384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621360" y="5703840"/>
                <a:ext cx="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160840" y="6381720"/>
                <a:ext cx="1460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022720" y="1341360"/>
            <a:ext cx="3961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440" y="1341360"/>
            <a:ext cx="381636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6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的工资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83080" y="1483920"/>
            <a:ext cx="3743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OP Chemical 1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工资单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化工部 项目经理 周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团队可分配收益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,320,000×0.05×100%=66,000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基础工资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,000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×40%=4000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绩效工资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业绩矩阵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35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6,000*10%=6,600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月工资：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$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,600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"/>
          <p:cNvSpPr/>
          <p:nvPr/>
        </p:nvSpPr>
        <p:spPr>
          <a:xfrm>
            <a:off x="558720" y="1413000"/>
            <a:ext cx="43830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OP Chem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可分配收益：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$1,32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03440" y="2205000"/>
          <a:ext cx="3600360" cy="3900600"/>
        </p:xfrm>
        <a:graphic>
          <a:graphicData uri="http://schemas.openxmlformats.org/drawingml/2006/table">
            <a:tbl>
              <a:tblPr/>
              <a:tblGrid>
                <a:gridCol w="1201680"/>
                <a:gridCol w="598320"/>
                <a:gridCol w="598680"/>
                <a:gridCol w="264960"/>
                <a:gridCol w="93672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部门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权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业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研发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工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包装团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财务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培训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聚合体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558720" y="3573360"/>
            <a:ext cx="3672000" cy="36036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3727080" y="2133720"/>
            <a:ext cx="1655640" cy="10080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006720" y="3357360"/>
            <a:ext cx="396072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511440" y="3428640"/>
            <a:ext cx="4103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案回顾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927080" y="1278000"/>
            <a:ext cx="4981680" cy="4599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98360" y="1413000"/>
            <a:ext cx="20890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资的决定要素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团队绩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绩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资准确率的参考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战略和人力资源策略匹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1280" y="3357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薪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65320" y="27813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基本工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34040" y="27748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可变工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4480" y="4748040"/>
            <a:ext cx="21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业绩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16840" y="3357720"/>
            <a:ext cx="278604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薪酬制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工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绩效和团队绩效挂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团队效益和企业效益挂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楷体_GB2312"/>
              </a:rPr>
              <a:t>个人目标和整体目标统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仿宋"/>
                <a:ea typeface="楷体_GB2312"/>
              </a:rPr>
              <a:t>顾客要素 提高质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27280" y="6087960"/>
            <a:ext cx="556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合作前提之下的竞争：团队利益和个人利益相统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61040" y="1413000"/>
            <a:ext cx="27864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资的决定要素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队绩效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1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全员参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绩效：</a:t>
            </a:r>
            <a:r>
              <a:rPr b="1" lang="zh-CN" sz="1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持续改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思考与提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83080" y="2548080"/>
            <a:ext cx="1268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89480" y="1700280"/>
            <a:ext cx="1456920" cy="1317240"/>
            <a:chOff x="4389480" y="1700280"/>
            <a:chExt cx="1456920" cy="131724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4475880" y="1757520"/>
              <a:ext cx="1317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389480" y="1700280"/>
              <a:ext cx="1456920" cy="1317240"/>
            </a:xfrm>
            <a:prstGeom prst="rect">
              <a:avLst/>
            </a:prstGeom>
            <a:noFill/>
            <a:ln w="9360">
              <a:solidFill>
                <a:srgbClr val="d0a6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782720" y="1700280"/>
            <a:ext cx="1341000" cy="1317240"/>
            <a:chOff x="1782720" y="1700280"/>
            <a:chExt cx="1341000" cy="131724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1849680" y="1758960"/>
              <a:ext cx="1207080" cy="120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782720" y="1700280"/>
              <a:ext cx="1341000" cy="1317240"/>
            </a:xfrm>
            <a:prstGeom prst="rect">
              <a:avLst/>
            </a:prstGeom>
            <a:noFill/>
            <a:ln w="9360">
              <a:solidFill>
                <a:srgbClr val="d0a6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099200" y="1712880"/>
            <a:ext cx="1442880" cy="1331640"/>
            <a:chOff x="7099200" y="1712880"/>
            <a:chExt cx="1442880" cy="133164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rcRect l="6783" t="42057" r="9806" b="0"/>
            <a:stretch/>
          </p:blipFill>
          <p:spPr>
            <a:xfrm>
              <a:off x="7173360" y="1769040"/>
              <a:ext cx="1294920" cy="12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099200" y="1712880"/>
              <a:ext cx="1442880" cy="1331640"/>
            </a:xfrm>
            <a:prstGeom prst="rect">
              <a:avLst/>
            </a:prstGeom>
            <a:noFill/>
            <a:ln w="9360">
              <a:solidFill>
                <a:srgbClr val="d0a6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695760" y="1704960"/>
            <a:ext cx="1440" cy="2997360"/>
          </a:xfrm>
          <a:prstGeom prst="line">
            <a:avLst/>
          </a:prstGeom>
          <a:ln w="648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77120" y="1747800"/>
            <a:ext cx="1440" cy="2997360"/>
          </a:xfrm>
          <a:prstGeom prst="line">
            <a:avLst/>
          </a:prstGeom>
          <a:ln w="648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4120" y="31734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优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90840" y="316080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不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03960" y="32004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其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515772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的职能不是让员工作出努力和忙忙碌碌，而是应该把他们的视野指向做出奉献和成果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彼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38000" y="2637000"/>
            <a:ext cx="55436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99"/>
                </a:solidFill>
                <a:latin typeface="Arial"/>
              </a:rPr>
              <a:t>谢谢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655040" y="4835520"/>
            <a:ext cx="1904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总提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3160" y="1523520"/>
            <a:ext cx="8169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背景介绍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方案分析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解决方案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思考提示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73160" y="1523520"/>
            <a:ext cx="816912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顶级化工公司（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</a:rPr>
              <a:t>TOP CHE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有着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历史，目前规模达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亿美元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三年前，公司开始推行全面质量计划，但旧的薪酬体系没有反映公司的生意理念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生产产品速度更快、质量更好、成本更低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现在，公司的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</a:rPr>
              <a:t>CE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山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维德打算采用副总裁吉伯设计的工资方案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背景介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73160" y="1523520"/>
            <a:ext cx="8169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全面质量管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含义：管理整个组织，使其能在对顾客重要的产品和服务的各个方面都表现卓越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思想要素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楷体_GB2312"/>
              </a:rPr>
              <a:t>顾客驱动的质量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领导行为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楷体_GB2312"/>
              </a:rPr>
              <a:t>持续改善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楷体_GB2312"/>
              </a:rPr>
              <a:t>员工参与和发展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快速发应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质量设计和预防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根据事实管理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协作关系发展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993600" indent="-284040">
              <a:lnSpc>
                <a:spcPct val="125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责任和权力相结合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面质量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815080" y="2852640"/>
            <a:ext cx="3384360" cy="3384720"/>
            <a:chOff x="5815080" y="2852640"/>
            <a:chExt cx="3384360" cy="3384720"/>
          </a:xfrm>
        </p:grpSpPr>
        <p:sp>
          <p:nvSpPr>
            <p:cNvPr id="104" name=""/>
            <p:cNvSpPr/>
            <p:nvPr/>
          </p:nvSpPr>
          <p:spPr>
            <a:xfrm>
              <a:off x="7534440" y="2852640"/>
              <a:ext cx="1665000" cy="1917720"/>
            </a:xfrm>
            <a:custGeom>
              <a:avLst/>
              <a:gdLst/>
              <a:ahLst/>
              <a:rect l="l" t="t" r="r" b="b"/>
              <a:pathLst>
                <a:path w="1260" h="1451">
                  <a:moveTo>
                    <a:pt x="3" y="0"/>
                  </a:moveTo>
                  <a:lnTo>
                    <a:pt x="35" y="1"/>
                  </a:lnTo>
                  <a:lnTo>
                    <a:pt x="68" y="3"/>
                  </a:lnTo>
                  <a:lnTo>
                    <a:pt x="100" y="6"/>
                  </a:lnTo>
                  <a:lnTo>
                    <a:pt x="131" y="9"/>
                  </a:lnTo>
                  <a:lnTo>
                    <a:pt x="162" y="13"/>
                  </a:lnTo>
                  <a:lnTo>
                    <a:pt x="193" y="18"/>
                  </a:lnTo>
                  <a:lnTo>
                    <a:pt x="225" y="23"/>
                  </a:lnTo>
                  <a:lnTo>
                    <a:pt x="255" y="30"/>
                  </a:lnTo>
                  <a:lnTo>
                    <a:pt x="285" y="37"/>
                  </a:lnTo>
                  <a:lnTo>
                    <a:pt x="315" y="44"/>
                  </a:lnTo>
                  <a:lnTo>
                    <a:pt x="345" y="53"/>
                  </a:lnTo>
                  <a:lnTo>
                    <a:pt x="374" y="62"/>
                  </a:lnTo>
                  <a:lnTo>
                    <a:pt x="404" y="72"/>
                  </a:lnTo>
                  <a:lnTo>
                    <a:pt x="433" y="83"/>
                  </a:lnTo>
                  <a:lnTo>
                    <a:pt x="461" y="94"/>
                  </a:lnTo>
                  <a:lnTo>
                    <a:pt x="489" y="106"/>
                  </a:lnTo>
                  <a:lnTo>
                    <a:pt x="517" y="119"/>
                  </a:lnTo>
                  <a:lnTo>
                    <a:pt x="545" y="132"/>
                  </a:lnTo>
                  <a:lnTo>
                    <a:pt x="572" y="145"/>
                  </a:lnTo>
                  <a:lnTo>
                    <a:pt x="599" y="160"/>
                  </a:lnTo>
                  <a:lnTo>
                    <a:pt x="625" y="175"/>
                  </a:lnTo>
                  <a:lnTo>
                    <a:pt x="651" y="190"/>
                  </a:lnTo>
                  <a:lnTo>
                    <a:pt x="676" y="206"/>
                  </a:lnTo>
                  <a:lnTo>
                    <a:pt x="702" y="223"/>
                  </a:lnTo>
                  <a:lnTo>
                    <a:pt x="726" y="240"/>
                  </a:lnTo>
                  <a:lnTo>
                    <a:pt x="751" y="259"/>
                  </a:lnTo>
                  <a:lnTo>
                    <a:pt x="774" y="277"/>
                  </a:lnTo>
                  <a:lnTo>
                    <a:pt x="798" y="296"/>
                  </a:lnTo>
                  <a:lnTo>
                    <a:pt x="820" y="316"/>
                  </a:lnTo>
                  <a:lnTo>
                    <a:pt x="843" y="336"/>
                  </a:lnTo>
                  <a:lnTo>
                    <a:pt x="866" y="356"/>
                  </a:lnTo>
                  <a:lnTo>
                    <a:pt x="887" y="377"/>
                  </a:lnTo>
                  <a:lnTo>
                    <a:pt x="908" y="398"/>
                  </a:lnTo>
                  <a:lnTo>
                    <a:pt x="928" y="421"/>
                  </a:lnTo>
                  <a:lnTo>
                    <a:pt x="948" y="444"/>
                  </a:lnTo>
                  <a:lnTo>
                    <a:pt x="967" y="467"/>
                  </a:lnTo>
                  <a:lnTo>
                    <a:pt x="986" y="490"/>
                  </a:lnTo>
                  <a:lnTo>
                    <a:pt x="1004" y="514"/>
                  </a:lnTo>
                  <a:lnTo>
                    <a:pt x="1023" y="538"/>
                  </a:lnTo>
                  <a:lnTo>
                    <a:pt x="1040" y="564"/>
                  </a:lnTo>
                  <a:lnTo>
                    <a:pt x="1057" y="589"/>
                  </a:lnTo>
                  <a:lnTo>
                    <a:pt x="1073" y="614"/>
                  </a:lnTo>
                  <a:lnTo>
                    <a:pt x="1088" y="640"/>
                  </a:lnTo>
                  <a:lnTo>
                    <a:pt x="1103" y="666"/>
                  </a:lnTo>
                  <a:lnTo>
                    <a:pt x="1117" y="693"/>
                  </a:lnTo>
                  <a:lnTo>
                    <a:pt x="1131" y="720"/>
                  </a:lnTo>
                  <a:lnTo>
                    <a:pt x="1144" y="748"/>
                  </a:lnTo>
                  <a:lnTo>
                    <a:pt x="1156" y="776"/>
                  </a:lnTo>
                  <a:lnTo>
                    <a:pt x="1168" y="804"/>
                  </a:lnTo>
                  <a:lnTo>
                    <a:pt x="1180" y="833"/>
                  </a:lnTo>
                  <a:lnTo>
                    <a:pt x="1190" y="861"/>
                  </a:lnTo>
                  <a:lnTo>
                    <a:pt x="1200" y="891"/>
                  </a:lnTo>
                  <a:lnTo>
                    <a:pt x="1209" y="921"/>
                  </a:lnTo>
                  <a:lnTo>
                    <a:pt x="1217" y="950"/>
                  </a:lnTo>
                  <a:lnTo>
                    <a:pt x="1224" y="980"/>
                  </a:lnTo>
                  <a:lnTo>
                    <a:pt x="1231" y="1010"/>
                  </a:lnTo>
                  <a:lnTo>
                    <a:pt x="1237" y="1042"/>
                  </a:lnTo>
                  <a:lnTo>
                    <a:pt x="1243" y="1073"/>
                  </a:lnTo>
                  <a:lnTo>
                    <a:pt x="1248" y="1104"/>
                  </a:lnTo>
                  <a:lnTo>
                    <a:pt x="1252" y="1135"/>
                  </a:lnTo>
                  <a:lnTo>
                    <a:pt x="1255" y="1166"/>
                  </a:lnTo>
                  <a:lnTo>
                    <a:pt x="1257" y="1198"/>
                  </a:lnTo>
                  <a:lnTo>
                    <a:pt x="1259" y="1231"/>
                  </a:lnTo>
                  <a:lnTo>
                    <a:pt x="1260" y="1263"/>
                  </a:lnTo>
                  <a:lnTo>
                    <a:pt x="921" y="1451"/>
                  </a:lnTo>
                  <a:lnTo>
                    <a:pt x="622" y="1246"/>
                  </a:lnTo>
                  <a:lnTo>
                    <a:pt x="622" y="1231"/>
                  </a:lnTo>
                  <a:lnTo>
                    <a:pt x="620" y="1215"/>
                  </a:lnTo>
                  <a:lnTo>
                    <a:pt x="616" y="1184"/>
                  </a:lnTo>
                  <a:lnTo>
                    <a:pt x="611" y="1154"/>
                  </a:lnTo>
                  <a:lnTo>
                    <a:pt x="608" y="1139"/>
                  </a:lnTo>
                  <a:lnTo>
                    <a:pt x="605" y="1125"/>
                  </a:lnTo>
                  <a:lnTo>
                    <a:pt x="597" y="1096"/>
                  </a:lnTo>
                  <a:lnTo>
                    <a:pt x="593" y="1082"/>
                  </a:lnTo>
                  <a:lnTo>
                    <a:pt x="588" y="1067"/>
                  </a:lnTo>
                  <a:lnTo>
                    <a:pt x="577" y="1039"/>
                  </a:lnTo>
                  <a:lnTo>
                    <a:pt x="572" y="1025"/>
                  </a:lnTo>
                  <a:lnTo>
                    <a:pt x="566" y="1012"/>
                  </a:lnTo>
                  <a:lnTo>
                    <a:pt x="559" y="998"/>
                  </a:lnTo>
                  <a:lnTo>
                    <a:pt x="553" y="985"/>
                  </a:lnTo>
                  <a:lnTo>
                    <a:pt x="539" y="959"/>
                  </a:lnTo>
                  <a:lnTo>
                    <a:pt x="530" y="947"/>
                  </a:lnTo>
                  <a:lnTo>
                    <a:pt x="523" y="934"/>
                  </a:lnTo>
                  <a:lnTo>
                    <a:pt x="506" y="910"/>
                  </a:lnTo>
                  <a:lnTo>
                    <a:pt x="498" y="898"/>
                  </a:lnTo>
                  <a:lnTo>
                    <a:pt x="489" y="887"/>
                  </a:lnTo>
                  <a:lnTo>
                    <a:pt x="480" y="874"/>
                  </a:lnTo>
                  <a:lnTo>
                    <a:pt x="471" y="863"/>
                  </a:lnTo>
                  <a:lnTo>
                    <a:pt x="461" y="852"/>
                  </a:lnTo>
                  <a:lnTo>
                    <a:pt x="451" y="841"/>
                  </a:lnTo>
                  <a:lnTo>
                    <a:pt x="431" y="821"/>
                  </a:lnTo>
                  <a:lnTo>
                    <a:pt x="410" y="801"/>
                  </a:lnTo>
                  <a:lnTo>
                    <a:pt x="399" y="791"/>
                  </a:lnTo>
                  <a:lnTo>
                    <a:pt x="388" y="782"/>
                  </a:lnTo>
                  <a:lnTo>
                    <a:pt x="375" y="773"/>
                  </a:lnTo>
                  <a:lnTo>
                    <a:pt x="364" y="764"/>
                  </a:lnTo>
                  <a:lnTo>
                    <a:pt x="352" y="755"/>
                  </a:lnTo>
                  <a:lnTo>
                    <a:pt x="340" y="747"/>
                  </a:lnTo>
                  <a:lnTo>
                    <a:pt x="328" y="739"/>
                  </a:lnTo>
                  <a:lnTo>
                    <a:pt x="315" y="731"/>
                  </a:lnTo>
                  <a:lnTo>
                    <a:pt x="290" y="716"/>
                  </a:lnTo>
                  <a:lnTo>
                    <a:pt x="277" y="709"/>
                  </a:lnTo>
                  <a:lnTo>
                    <a:pt x="264" y="702"/>
                  </a:lnTo>
                  <a:lnTo>
                    <a:pt x="237" y="690"/>
                  </a:lnTo>
                  <a:lnTo>
                    <a:pt x="223" y="684"/>
                  </a:lnTo>
                  <a:lnTo>
                    <a:pt x="209" y="678"/>
                  </a:lnTo>
                  <a:lnTo>
                    <a:pt x="181" y="669"/>
                  </a:lnTo>
                  <a:lnTo>
                    <a:pt x="152" y="660"/>
                  </a:lnTo>
                  <a:lnTo>
                    <a:pt x="137" y="656"/>
                  </a:lnTo>
                  <a:lnTo>
                    <a:pt x="123" y="653"/>
                  </a:lnTo>
                  <a:lnTo>
                    <a:pt x="108" y="649"/>
                  </a:lnTo>
                  <a:lnTo>
                    <a:pt x="93" y="647"/>
                  </a:lnTo>
                  <a:lnTo>
                    <a:pt x="63" y="642"/>
                  </a:lnTo>
                  <a:lnTo>
                    <a:pt x="47" y="640"/>
                  </a:lnTo>
                  <a:lnTo>
                    <a:pt x="31" y="639"/>
                  </a:lnTo>
                  <a:lnTo>
                    <a:pt x="16" y="638"/>
                  </a:lnTo>
                  <a:lnTo>
                    <a:pt x="0" y="637"/>
                  </a:lnTo>
                  <a:lnTo>
                    <a:pt x="197" y="34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2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15080" y="2854440"/>
              <a:ext cx="1890720" cy="1751040"/>
            </a:xfrm>
            <a:custGeom>
              <a:avLst/>
              <a:gdLst/>
              <a:ahLst/>
              <a:rect l="l" t="t" r="r" b="b"/>
              <a:pathLst>
                <a:path w="1431" h="1325">
                  <a:moveTo>
                    <a:pt x="638" y="1324"/>
                  </a:moveTo>
                  <a:lnTo>
                    <a:pt x="637" y="1302"/>
                  </a:lnTo>
                  <a:lnTo>
                    <a:pt x="637" y="1280"/>
                  </a:lnTo>
                  <a:lnTo>
                    <a:pt x="637" y="1248"/>
                  </a:lnTo>
                  <a:lnTo>
                    <a:pt x="638" y="1232"/>
                  </a:lnTo>
                  <a:lnTo>
                    <a:pt x="640" y="1217"/>
                  </a:lnTo>
                  <a:lnTo>
                    <a:pt x="644" y="1185"/>
                  </a:lnTo>
                  <a:lnTo>
                    <a:pt x="646" y="1170"/>
                  </a:lnTo>
                  <a:lnTo>
                    <a:pt x="649" y="1154"/>
                  </a:lnTo>
                  <a:lnTo>
                    <a:pt x="655" y="1125"/>
                  </a:lnTo>
                  <a:lnTo>
                    <a:pt x="659" y="1110"/>
                  </a:lnTo>
                  <a:lnTo>
                    <a:pt x="663" y="1095"/>
                  </a:lnTo>
                  <a:lnTo>
                    <a:pt x="673" y="1067"/>
                  </a:lnTo>
                  <a:lnTo>
                    <a:pt x="678" y="1052"/>
                  </a:lnTo>
                  <a:lnTo>
                    <a:pt x="683" y="1038"/>
                  </a:lnTo>
                  <a:lnTo>
                    <a:pt x="689" y="1024"/>
                  </a:lnTo>
                  <a:lnTo>
                    <a:pt x="695" y="1010"/>
                  </a:lnTo>
                  <a:lnTo>
                    <a:pt x="708" y="983"/>
                  </a:lnTo>
                  <a:lnTo>
                    <a:pt x="715" y="970"/>
                  </a:lnTo>
                  <a:lnTo>
                    <a:pt x="724" y="957"/>
                  </a:lnTo>
                  <a:lnTo>
                    <a:pt x="731" y="944"/>
                  </a:lnTo>
                  <a:lnTo>
                    <a:pt x="739" y="932"/>
                  </a:lnTo>
                  <a:lnTo>
                    <a:pt x="747" y="920"/>
                  </a:lnTo>
                  <a:lnTo>
                    <a:pt x="756" y="907"/>
                  </a:lnTo>
                  <a:lnTo>
                    <a:pt x="764" y="895"/>
                  </a:lnTo>
                  <a:lnTo>
                    <a:pt x="773" y="884"/>
                  </a:lnTo>
                  <a:lnTo>
                    <a:pt x="783" y="871"/>
                  </a:lnTo>
                  <a:lnTo>
                    <a:pt x="792" y="860"/>
                  </a:lnTo>
                  <a:lnTo>
                    <a:pt x="812" y="838"/>
                  </a:lnTo>
                  <a:lnTo>
                    <a:pt x="822" y="827"/>
                  </a:lnTo>
                  <a:lnTo>
                    <a:pt x="832" y="817"/>
                  </a:lnTo>
                  <a:lnTo>
                    <a:pt x="843" y="807"/>
                  </a:lnTo>
                  <a:lnTo>
                    <a:pt x="854" y="797"/>
                  </a:lnTo>
                  <a:lnTo>
                    <a:pt x="877" y="778"/>
                  </a:lnTo>
                  <a:lnTo>
                    <a:pt x="889" y="769"/>
                  </a:lnTo>
                  <a:lnTo>
                    <a:pt x="901" y="760"/>
                  </a:lnTo>
                  <a:lnTo>
                    <a:pt x="925" y="743"/>
                  </a:lnTo>
                  <a:lnTo>
                    <a:pt x="938" y="735"/>
                  </a:lnTo>
                  <a:lnTo>
                    <a:pt x="951" y="727"/>
                  </a:lnTo>
                  <a:lnTo>
                    <a:pt x="976" y="711"/>
                  </a:lnTo>
                  <a:lnTo>
                    <a:pt x="990" y="705"/>
                  </a:lnTo>
                  <a:lnTo>
                    <a:pt x="1003" y="698"/>
                  </a:lnTo>
                  <a:lnTo>
                    <a:pt x="1017" y="692"/>
                  </a:lnTo>
                  <a:lnTo>
                    <a:pt x="1030" y="686"/>
                  </a:lnTo>
                  <a:lnTo>
                    <a:pt x="1045" y="680"/>
                  </a:lnTo>
                  <a:lnTo>
                    <a:pt x="1059" y="675"/>
                  </a:lnTo>
                  <a:lnTo>
                    <a:pt x="1088" y="665"/>
                  </a:lnTo>
                  <a:lnTo>
                    <a:pt x="1117" y="657"/>
                  </a:lnTo>
                  <a:lnTo>
                    <a:pt x="1132" y="653"/>
                  </a:lnTo>
                  <a:lnTo>
                    <a:pt x="1147" y="649"/>
                  </a:lnTo>
                  <a:lnTo>
                    <a:pt x="1177" y="644"/>
                  </a:lnTo>
                  <a:lnTo>
                    <a:pt x="1192" y="642"/>
                  </a:lnTo>
                  <a:lnTo>
                    <a:pt x="1209" y="640"/>
                  </a:lnTo>
                  <a:lnTo>
                    <a:pt x="1224" y="638"/>
                  </a:lnTo>
                  <a:lnTo>
                    <a:pt x="1240" y="637"/>
                  </a:lnTo>
                  <a:lnTo>
                    <a:pt x="1431" y="334"/>
                  </a:lnTo>
                  <a:lnTo>
                    <a:pt x="1239" y="0"/>
                  </a:lnTo>
                  <a:lnTo>
                    <a:pt x="1207" y="1"/>
                  </a:lnTo>
                  <a:lnTo>
                    <a:pt x="1174" y="3"/>
                  </a:lnTo>
                  <a:lnTo>
                    <a:pt x="1142" y="6"/>
                  </a:lnTo>
                  <a:lnTo>
                    <a:pt x="1111" y="10"/>
                  </a:lnTo>
                  <a:lnTo>
                    <a:pt x="1080" y="15"/>
                  </a:lnTo>
                  <a:lnTo>
                    <a:pt x="1049" y="20"/>
                  </a:lnTo>
                  <a:lnTo>
                    <a:pt x="1018" y="26"/>
                  </a:lnTo>
                  <a:lnTo>
                    <a:pt x="987" y="32"/>
                  </a:lnTo>
                  <a:lnTo>
                    <a:pt x="957" y="40"/>
                  </a:lnTo>
                  <a:lnTo>
                    <a:pt x="928" y="48"/>
                  </a:lnTo>
                  <a:lnTo>
                    <a:pt x="898" y="57"/>
                  </a:lnTo>
                  <a:lnTo>
                    <a:pt x="868" y="66"/>
                  </a:lnTo>
                  <a:lnTo>
                    <a:pt x="839" y="76"/>
                  </a:lnTo>
                  <a:lnTo>
                    <a:pt x="811" y="88"/>
                  </a:lnTo>
                  <a:lnTo>
                    <a:pt x="783" y="100"/>
                  </a:lnTo>
                  <a:lnTo>
                    <a:pt x="755" y="112"/>
                  </a:lnTo>
                  <a:lnTo>
                    <a:pt x="728" y="125"/>
                  </a:lnTo>
                  <a:lnTo>
                    <a:pt x="699" y="138"/>
                  </a:lnTo>
                  <a:lnTo>
                    <a:pt x="673" y="152"/>
                  </a:lnTo>
                  <a:lnTo>
                    <a:pt x="646" y="167"/>
                  </a:lnTo>
                  <a:lnTo>
                    <a:pt x="620" y="182"/>
                  </a:lnTo>
                  <a:lnTo>
                    <a:pt x="595" y="198"/>
                  </a:lnTo>
                  <a:lnTo>
                    <a:pt x="570" y="214"/>
                  </a:lnTo>
                  <a:lnTo>
                    <a:pt x="544" y="231"/>
                  </a:lnTo>
                  <a:lnTo>
                    <a:pt x="520" y="250"/>
                  </a:lnTo>
                  <a:lnTo>
                    <a:pt x="496" y="268"/>
                  </a:lnTo>
                  <a:lnTo>
                    <a:pt x="472" y="287"/>
                  </a:lnTo>
                  <a:lnTo>
                    <a:pt x="449" y="306"/>
                  </a:lnTo>
                  <a:lnTo>
                    <a:pt x="427" y="325"/>
                  </a:lnTo>
                  <a:lnTo>
                    <a:pt x="405" y="346"/>
                  </a:lnTo>
                  <a:lnTo>
                    <a:pt x="382" y="366"/>
                  </a:lnTo>
                  <a:lnTo>
                    <a:pt x="361" y="388"/>
                  </a:lnTo>
                  <a:lnTo>
                    <a:pt x="341" y="410"/>
                  </a:lnTo>
                  <a:lnTo>
                    <a:pt x="320" y="433"/>
                  </a:lnTo>
                  <a:lnTo>
                    <a:pt x="301" y="455"/>
                  </a:lnTo>
                  <a:lnTo>
                    <a:pt x="282" y="478"/>
                  </a:lnTo>
                  <a:lnTo>
                    <a:pt x="263" y="502"/>
                  </a:lnTo>
                  <a:lnTo>
                    <a:pt x="245" y="526"/>
                  </a:lnTo>
                  <a:lnTo>
                    <a:pt x="227" y="550"/>
                  </a:lnTo>
                  <a:lnTo>
                    <a:pt x="210" y="576"/>
                  </a:lnTo>
                  <a:lnTo>
                    <a:pt x="194" y="602"/>
                  </a:lnTo>
                  <a:lnTo>
                    <a:pt x="178" y="627"/>
                  </a:lnTo>
                  <a:lnTo>
                    <a:pt x="163" y="653"/>
                  </a:lnTo>
                  <a:lnTo>
                    <a:pt x="149" y="680"/>
                  </a:lnTo>
                  <a:lnTo>
                    <a:pt x="135" y="707"/>
                  </a:lnTo>
                  <a:lnTo>
                    <a:pt x="122" y="735"/>
                  </a:lnTo>
                  <a:lnTo>
                    <a:pt x="109" y="762"/>
                  </a:lnTo>
                  <a:lnTo>
                    <a:pt x="97" y="790"/>
                  </a:lnTo>
                  <a:lnTo>
                    <a:pt x="86" y="819"/>
                  </a:lnTo>
                  <a:lnTo>
                    <a:pt x="74" y="847"/>
                  </a:lnTo>
                  <a:lnTo>
                    <a:pt x="64" y="876"/>
                  </a:lnTo>
                  <a:lnTo>
                    <a:pt x="55" y="906"/>
                  </a:lnTo>
                  <a:lnTo>
                    <a:pt x="47" y="936"/>
                  </a:lnTo>
                  <a:lnTo>
                    <a:pt x="39" y="966"/>
                  </a:lnTo>
                  <a:lnTo>
                    <a:pt x="31" y="996"/>
                  </a:lnTo>
                  <a:lnTo>
                    <a:pt x="25" y="1026"/>
                  </a:lnTo>
                  <a:lnTo>
                    <a:pt x="19" y="1058"/>
                  </a:lnTo>
                  <a:lnTo>
                    <a:pt x="14" y="1089"/>
                  </a:lnTo>
                  <a:lnTo>
                    <a:pt x="10" y="1120"/>
                  </a:lnTo>
                  <a:lnTo>
                    <a:pt x="6" y="1151"/>
                  </a:lnTo>
                  <a:lnTo>
                    <a:pt x="4" y="1183"/>
                  </a:lnTo>
                  <a:lnTo>
                    <a:pt x="2" y="1215"/>
                  </a:lnTo>
                  <a:lnTo>
                    <a:pt x="1" y="1247"/>
                  </a:lnTo>
                  <a:lnTo>
                    <a:pt x="0" y="1280"/>
                  </a:lnTo>
                  <a:lnTo>
                    <a:pt x="1" y="1302"/>
                  </a:lnTo>
                  <a:lnTo>
                    <a:pt x="2" y="1325"/>
                  </a:lnTo>
                  <a:lnTo>
                    <a:pt x="335" y="1129"/>
                  </a:lnTo>
                  <a:lnTo>
                    <a:pt x="638" y="1324"/>
                  </a:lnTo>
                  <a:close/>
                </a:path>
              </a:pathLst>
            </a:custGeom>
            <a:solidFill>
              <a:srgbClr val="b2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21200" y="4433760"/>
              <a:ext cx="1711440" cy="1803600"/>
            </a:xfrm>
            <a:custGeom>
              <a:avLst/>
              <a:gdLst/>
              <a:ahLst/>
              <a:rect l="l" t="t" r="r" b="b"/>
              <a:pathLst>
                <a:path w="1295" h="1364">
                  <a:moveTo>
                    <a:pt x="1295" y="1362"/>
                  </a:moveTo>
                  <a:lnTo>
                    <a:pt x="1096" y="1023"/>
                  </a:lnTo>
                  <a:lnTo>
                    <a:pt x="1295" y="727"/>
                  </a:lnTo>
                  <a:lnTo>
                    <a:pt x="1276" y="728"/>
                  </a:lnTo>
                  <a:lnTo>
                    <a:pt x="1246" y="727"/>
                  </a:lnTo>
                  <a:lnTo>
                    <a:pt x="1232" y="726"/>
                  </a:lnTo>
                  <a:lnTo>
                    <a:pt x="1217" y="725"/>
                  </a:lnTo>
                  <a:lnTo>
                    <a:pt x="1187" y="722"/>
                  </a:lnTo>
                  <a:lnTo>
                    <a:pt x="1159" y="717"/>
                  </a:lnTo>
                  <a:lnTo>
                    <a:pt x="1131" y="711"/>
                  </a:lnTo>
                  <a:lnTo>
                    <a:pt x="1117" y="708"/>
                  </a:lnTo>
                  <a:lnTo>
                    <a:pt x="1103" y="704"/>
                  </a:lnTo>
                  <a:lnTo>
                    <a:pt x="1076" y="696"/>
                  </a:lnTo>
                  <a:lnTo>
                    <a:pt x="1050" y="687"/>
                  </a:lnTo>
                  <a:lnTo>
                    <a:pt x="1037" y="682"/>
                  </a:lnTo>
                  <a:lnTo>
                    <a:pt x="1023" y="677"/>
                  </a:lnTo>
                  <a:lnTo>
                    <a:pt x="998" y="665"/>
                  </a:lnTo>
                  <a:lnTo>
                    <a:pt x="973" y="653"/>
                  </a:lnTo>
                  <a:lnTo>
                    <a:pt x="961" y="646"/>
                  </a:lnTo>
                  <a:lnTo>
                    <a:pt x="949" y="638"/>
                  </a:lnTo>
                  <a:lnTo>
                    <a:pt x="925" y="623"/>
                  </a:lnTo>
                  <a:lnTo>
                    <a:pt x="902" y="608"/>
                  </a:lnTo>
                  <a:lnTo>
                    <a:pt x="891" y="600"/>
                  </a:lnTo>
                  <a:lnTo>
                    <a:pt x="880" y="591"/>
                  </a:lnTo>
                  <a:lnTo>
                    <a:pt x="858" y="574"/>
                  </a:lnTo>
                  <a:lnTo>
                    <a:pt x="837" y="556"/>
                  </a:lnTo>
                  <a:lnTo>
                    <a:pt x="818" y="537"/>
                  </a:lnTo>
                  <a:lnTo>
                    <a:pt x="799" y="517"/>
                  </a:lnTo>
                  <a:lnTo>
                    <a:pt x="790" y="506"/>
                  </a:lnTo>
                  <a:lnTo>
                    <a:pt x="781" y="496"/>
                  </a:lnTo>
                  <a:lnTo>
                    <a:pt x="764" y="473"/>
                  </a:lnTo>
                  <a:lnTo>
                    <a:pt x="747" y="451"/>
                  </a:lnTo>
                  <a:lnTo>
                    <a:pt x="732" y="428"/>
                  </a:lnTo>
                  <a:lnTo>
                    <a:pt x="725" y="417"/>
                  </a:lnTo>
                  <a:lnTo>
                    <a:pt x="718" y="405"/>
                  </a:lnTo>
                  <a:lnTo>
                    <a:pt x="703" y="380"/>
                  </a:lnTo>
                  <a:lnTo>
                    <a:pt x="691" y="355"/>
                  </a:lnTo>
                  <a:lnTo>
                    <a:pt x="680" y="330"/>
                  </a:lnTo>
                  <a:lnTo>
                    <a:pt x="675" y="316"/>
                  </a:lnTo>
                  <a:lnTo>
                    <a:pt x="670" y="303"/>
                  </a:lnTo>
                  <a:lnTo>
                    <a:pt x="661" y="276"/>
                  </a:lnTo>
                  <a:lnTo>
                    <a:pt x="657" y="263"/>
                  </a:lnTo>
                  <a:lnTo>
                    <a:pt x="653" y="249"/>
                  </a:lnTo>
                  <a:lnTo>
                    <a:pt x="646" y="221"/>
                  </a:lnTo>
                  <a:lnTo>
                    <a:pt x="641" y="193"/>
                  </a:lnTo>
                  <a:lnTo>
                    <a:pt x="322" y="0"/>
                  </a:lnTo>
                  <a:lnTo>
                    <a:pt x="0" y="191"/>
                  </a:lnTo>
                  <a:lnTo>
                    <a:pt x="2" y="222"/>
                  </a:lnTo>
                  <a:lnTo>
                    <a:pt x="6" y="252"/>
                  </a:lnTo>
                  <a:lnTo>
                    <a:pt x="10" y="282"/>
                  </a:lnTo>
                  <a:lnTo>
                    <a:pt x="15" y="312"/>
                  </a:lnTo>
                  <a:lnTo>
                    <a:pt x="21" y="343"/>
                  </a:lnTo>
                  <a:lnTo>
                    <a:pt x="27" y="372"/>
                  </a:lnTo>
                  <a:lnTo>
                    <a:pt x="35" y="401"/>
                  </a:lnTo>
                  <a:lnTo>
                    <a:pt x="42" y="430"/>
                  </a:lnTo>
                  <a:lnTo>
                    <a:pt x="51" y="458"/>
                  </a:lnTo>
                  <a:lnTo>
                    <a:pt x="60" y="488"/>
                  </a:lnTo>
                  <a:lnTo>
                    <a:pt x="69" y="516"/>
                  </a:lnTo>
                  <a:lnTo>
                    <a:pt x="81" y="543"/>
                  </a:lnTo>
                  <a:lnTo>
                    <a:pt x="91" y="571"/>
                  </a:lnTo>
                  <a:lnTo>
                    <a:pt x="103" y="598"/>
                  </a:lnTo>
                  <a:lnTo>
                    <a:pt x="115" y="624"/>
                  </a:lnTo>
                  <a:lnTo>
                    <a:pt x="128" y="652"/>
                  </a:lnTo>
                  <a:lnTo>
                    <a:pt x="141" y="678"/>
                  </a:lnTo>
                  <a:lnTo>
                    <a:pt x="155" y="704"/>
                  </a:lnTo>
                  <a:lnTo>
                    <a:pt x="169" y="729"/>
                  </a:lnTo>
                  <a:lnTo>
                    <a:pt x="184" y="754"/>
                  </a:lnTo>
                  <a:lnTo>
                    <a:pt x="200" y="779"/>
                  </a:lnTo>
                  <a:lnTo>
                    <a:pt x="216" y="803"/>
                  </a:lnTo>
                  <a:lnTo>
                    <a:pt x="233" y="828"/>
                  </a:lnTo>
                  <a:lnTo>
                    <a:pt x="251" y="851"/>
                  </a:lnTo>
                  <a:lnTo>
                    <a:pt x="268" y="874"/>
                  </a:lnTo>
                  <a:lnTo>
                    <a:pt x="287" y="897"/>
                  </a:lnTo>
                  <a:lnTo>
                    <a:pt x="305" y="919"/>
                  </a:lnTo>
                  <a:lnTo>
                    <a:pt x="324" y="941"/>
                  </a:lnTo>
                  <a:lnTo>
                    <a:pt x="344" y="962"/>
                  </a:lnTo>
                  <a:lnTo>
                    <a:pt x="364" y="984"/>
                  </a:lnTo>
                  <a:lnTo>
                    <a:pt x="385" y="1004"/>
                  </a:lnTo>
                  <a:lnTo>
                    <a:pt x="407" y="1024"/>
                  </a:lnTo>
                  <a:lnTo>
                    <a:pt x="428" y="1043"/>
                  </a:lnTo>
                  <a:lnTo>
                    <a:pt x="450" y="1062"/>
                  </a:lnTo>
                  <a:lnTo>
                    <a:pt x="473" y="1081"/>
                  </a:lnTo>
                  <a:lnTo>
                    <a:pt x="495" y="1099"/>
                  </a:lnTo>
                  <a:lnTo>
                    <a:pt x="519" y="1116"/>
                  </a:lnTo>
                  <a:lnTo>
                    <a:pt x="542" y="1134"/>
                  </a:lnTo>
                  <a:lnTo>
                    <a:pt x="567" y="1151"/>
                  </a:lnTo>
                  <a:lnTo>
                    <a:pt x="592" y="1166"/>
                  </a:lnTo>
                  <a:lnTo>
                    <a:pt x="616" y="1182"/>
                  </a:lnTo>
                  <a:lnTo>
                    <a:pt x="642" y="1196"/>
                  </a:lnTo>
                  <a:lnTo>
                    <a:pt x="667" y="1211"/>
                  </a:lnTo>
                  <a:lnTo>
                    <a:pt x="693" y="1224"/>
                  </a:lnTo>
                  <a:lnTo>
                    <a:pt x="720" y="1237"/>
                  </a:lnTo>
                  <a:lnTo>
                    <a:pt x="747" y="1250"/>
                  </a:lnTo>
                  <a:lnTo>
                    <a:pt x="774" y="1262"/>
                  </a:lnTo>
                  <a:lnTo>
                    <a:pt x="801" y="1273"/>
                  </a:lnTo>
                  <a:lnTo>
                    <a:pt x="828" y="1283"/>
                  </a:lnTo>
                  <a:lnTo>
                    <a:pt x="856" y="1294"/>
                  </a:lnTo>
                  <a:lnTo>
                    <a:pt x="885" y="1304"/>
                  </a:lnTo>
                  <a:lnTo>
                    <a:pt x="914" y="1312"/>
                  </a:lnTo>
                  <a:lnTo>
                    <a:pt x="942" y="1321"/>
                  </a:lnTo>
                  <a:lnTo>
                    <a:pt x="971" y="1328"/>
                  </a:lnTo>
                  <a:lnTo>
                    <a:pt x="1001" y="1335"/>
                  </a:lnTo>
                  <a:lnTo>
                    <a:pt x="1030" y="1341"/>
                  </a:lnTo>
                  <a:lnTo>
                    <a:pt x="1061" y="1346"/>
                  </a:lnTo>
                  <a:lnTo>
                    <a:pt x="1091" y="1351"/>
                  </a:lnTo>
                  <a:lnTo>
                    <a:pt x="1121" y="1355"/>
                  </a:lnTo>
                  <a:lnTo>
                    <a:pt x="1151" y="1358"/>
                  </a:lnTo>
                  <a:lnTo>
                    <a:pt x="1182" y="1361"/>
                  </a:lnTo>
                  <a:lnTo>
                    <a:pt x="1214" y="1363"/>
                  </a:lnTo>
                  <a:lnTo>
                    <a:pt x="1245" y="1364"/>
                  </a:lnTo>
                  <a:lnTo>
                    <a:pt x="1276" y="1364"/>
                  </a:lnTo>
                  <a:lnTo>
                    <a:pt x="1281" y="1364"/>
                  </a:lnTo>
                  <a:lnTo>
                    <a:pt x="1285" y="1363"/>
                  </a:lnTo>
                  <a:lnTo>
                    <a:pt x="1290" y="1362"/>
                  </a:lnTo>
                  <a:lnTo>
                    <a:pt x="1295" y="1362"/>
                  </a:lnTo>
                  <a:close/>
                </a:path>
              </a:pathLst>
            </a:custGeom>
            <a:solidFill>
              <a:srgbClr val="b2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7760" y="4605480"/>
              <a:ext cx="1828800" cy="1628640"/>
            </a:xfrm>
            <a:custGeom>
              <a:avLst/>
              <a:gdLst/>
              <a:ahLst/>
              <a:rect l="l" t="t" r="r" b="b"/>
              <a:pathLst>
                <a:path w="1385" h="1233">
                  <a:moveTo>
                    <a:pt x="191" y="1233"/>
                  </a:moveTo>
                  <a:lnTo>
                    <a:pt x="0" y="903"/>
                  </a:lnTo>
                  <a:lnTo>
                    <a:pt x="194" y="592"/>
                  </a:lnTo>
                  <a:lnTo>
                    <a:pt x="221" y="588"/>
                  </a:lnTo>
                  <a:lnTo>
                    <a:pt x="248" y="582"/>
                  </a:lnTo>
                  <a:lnTo>
                    <a:pt x="262" y="579"/>
                  </a:lnTo>
                  <a:lnTo>
                    <a:pt x="275" y="575"/>
                  </a:lnTo>
                  <a:lnTo>
                    <a:pt x="302" y="567"/>
                  </a:lnTo>
                  <a:lnTo>
                    <a:pt x="327" y="558"/>
                  </a:lnTo>
                  <a:lnTo>
                    <a:pt x="354" y="548"/>
                  </a:lnTo>
                  <a:lnTo>
                    <a:pt x="379" y="537"/>
                  </a:lnTo>
                  <a:lnTo>
                    <a:pt x="391" y="531"/>
                  </a:lnTo>
                  <a:lnTo>
                    <a:pt x="403" y="525"/>
                  </a:lnTo>
                  <a:lnTo>
                    <a:pt x="427" y="511"/>
                  </a:lnTo>
                  <a:lnTo>
                    <a:pt x="450" y="497"/>
                  </a:lnTo>
                  <a:lnTo>
                    <a:pt x="472" y="482"/>
                  </a:lnTo>
                  <a:lnTo>
                    <a:pt x="494" y="467"/>
                  </a:lnTo>
                  <a:lnTo>
                    <a:pt x="506" y="458"/>
                  </a:lnTo>
                  <a:lnTo>
                    <a:pt x="516" y="450"/>
                  </a:lnTo>
                  <a:lnTo>
                    <a:pt x="526" y="441"/>
                  </a:lnTo>
                  <a:lnTo>
                    <a:pt x="536" y="432"/>
                  </a:lnTo>
                  <a:lnTo>
                    <a:pt x="546" y="423"/>
                  </a:lnTo>
                  <a:lnTo>
                    <a:pt x="556" y="414"/>
                  </a:lnTo>
                  <a:lnTo>
                    <a:pt x="565" y="405"/>
                  </a:lnTo>
                  <a:lnTo>
                    <a:pt x="575" y="395"/>
                  </a:lnTo>
                  <a:lnTo>
                    <a:pt x="584" y="385"/>
                  </a:lnTo>
                  <a:lnTo>
                    <a:pt x="593" y="375"/>
                  </a:lnTo>
                  <a:lnTo>
                    <a:pt x="610" y="353"/>
                  </a:lnTo>
                  <a:lnTo>
                    <a:pt x="626" y="332"/>
                  </a:lnTo>
                  <a:lnTo>
                    <a:pt x="642" y="310"/>
                  </a:lnTo>
                  <a:lnTo>
                    <a:pt x="656" y="287"/>
                  </a:lnTo>
                  <a:lnTo>
                    <a:pt x="671" y="264"/>
                  </a:lnTo>
                  <a:lnTo>
                    <a:pt x="683" y="240"/>
                  </a:lnTo>
                  <a:lnTo>
                    <a:pt x="689" y="228"/>
                  </a:lnTo>
                  <a:lnTo>
                    <a:pt x="695" y="215"/>
                  </a:lnTo>
                  <a:lnTo>
                    <a:pt x="705" y="189"/>
                  </a:lnTo>
                  <a:lnTo>
                    <a:pt x="715" y="164"/>
                  </a:lnTo>
                  <a:lnTo>
                    <a:pt x="723" y="138"/>
                  </a:lnTo>
                  <a:lnTo>
                    <a:pt x="731" y="111"/>
                  </a:lnTo>
                  <a:lnTo>
                    <a:pt x="737" y="84"/>
                  </a:lnTo>
                  <a:lnTo>
                    <a:pt x="742" y="57"/>
                  </a:lnTo>
                  <a:lnTo>
                    <a:pt x="746" y="28"/>
                  </a:lnTo>
                  <a:lnTo>
                    <a:pt x="747" y="14"/>
                  </a:lnTo>
                  <a:lnTo>
                    <a:pt x="748" y="0"/>
                  </a:lnTo>
                  <a:lnTo>
                    <a:pt x="1032" y="202"/>
                  </a:lnTo>
                  <a:lnTo>
                    <a:pt x="1385" y="4"/>
                  </a:lnTo>
                  <a:lnTo>
                    <a:pt x="1384" y="36"/>
                  </a:lnTo>
                  <a:lnTo>
                    <a:pt x="1382" y="66"/>
                  </a:lnTo>
                  <a:lnTo>
                    <a:pt x="1379" y="96"/>
                  </a:lnTo>
                  <a:lnTo>
                    <a:pt x="1375" y="126"/>
                  </a:lnTo>
                  <a:lnTo>
                    <a:pt x="1371" y="156"/>
                  </a:lnTo>
                  <a:lnTo>
                    <a:pt x="1366" y="185"/>
                  </a:lnTo>
                  <a:lnTo>
                    <a:pt x="1360" y="216"/>
                  </a:lnTo>
                  <a:lnTo>
                    <a:pt x="1354" y="245"/>
                  </a:lnTo>
                  <a:lnTo>
                    <a:pt x="1347" y="273"/>
                  </a:lnTo>
                  <a:lnTo>
                    <a:pt x="1339" y="302"/>
                  </a:lnTo>
                  <a:lnTo>
                    <a:pt x="1331" y="330"/>
                  </a:lnTo>
                  <a:lnTo>
                    <a:pt x="1322" y="359"/>
                  </a:lnTo>
                  <a:lnTo>
                    <a:pt x="1313" y="387"/>
                  </a:lnTo>
                  <a:lnTo>
                    <a:pt x="1301" y="414"/>
                  </a:lnTo>
                  <a:lnTo>
                    <a:pt x="1291" y="441"/>
                  </a:lnTo>
                  <a:lnTo>
                    <a:pt x="1279" y="468"/>
                  </a:lnTo>
                  <a:lnTo>
                    <a:pt x="1268" y="494"/>
                  </a:lnTo>
                  <a:lnTo>
                    <a:pt x="1255" y="522"/>
                  </a:lnTo>
                  <a:lnTo>
                    <a:pt x="1242" y="547"/>
                  </a:lnTo>
                  <a:lnTo>
                    <a:pt x="1228" y="573"/>
                  </a:lnTo>
                  <a:lnTo>
                    <a:pt x="1214" y="598"/>
                  </a:lnTo>
                  <a:lnTo>
                    <a:pt x="1200" y="623"/>
                  </a:lnTo>
                  <a:lnTo>
                    <a:pt x="1184" y="647"/>
                  </a:lnTo>
                  <a:lnTo>
                    <a:pt x="1169" y="671"/>
                  </a:lnTo>
                  <a:lnTo>
                    <a:pt x="1152" y="696"/>
                  </a:lnTo>
                  <a:lnTo>
                    <a:pt x="1135" y="719"/>
                  </a:lnTo>
                  <a:lnTo>
                    <a:pt x="1117" y="742"/>
                  </a:lnTo>
                  <a:lnTo>
                    <a:pt x="1099" y="764"/>
                  </a:lnTo>
                  <a:lnTo>
                    <a:pt x="1081" y="786"/>
                  </a:lnTo>
                  <a:lnTo>
                    <a:pt x="1062" y="808"/>
                  </a:lnTo>
                  <a:lnTo>
                    <a:pt x="1043" y="829"/>
                  </a:lnTo>
                  <a:lnTo>
                    <a:pt x="1023" y="851"/>
                  </a:lnTo>
                  <a:lnTo>
                    <a:pt x="1003" y="871"/>
                  </a:lnTo>
                  <a:lnTo>
                    <a:pt x="982" y="891"/>
                  </a:lnTo>
                  <a:lnTo>
                    <a:pt x="961" y="910"/>
                  </a:lnTo>
                  <a:lnTo>
                    <a:pt x="939" y="929"/>
                  </a:lnTo>
                  <a:lnTo>
                    <a:pt x="917" y="947"/>
                  </a:lnTo>
                  <a:lnTo>
                    <a:pt x="895" y="965"/>
                  </a:lnTo>
                  <a:lnTo>
                    <a:pt x="872" y="982"/>
                  </a:lnTo>
                  <a:lnTo>
                    <a:pt x="849" y="1000"/>
                  </a:lnTo>
                  <a:lnTo>
                    <a:pt x="826" y="1017"/>
                  </a:lnTo>
                  <a:lnTo>
                    <a:pt x="801" y="1032"/>
                  </a:lnTo>
                  <a:lnTo>
                    <a:pt x="776" y="1048"/>
                  </a:lnTo>
                  <a:lnTo>
                    <a:pt x="752" y="1063"/>
                  </a:lnTo>
                  <a:lnTo>
                    <a:pt x="727" y="1077"/>
                  </a:lnTo>
                  <a:lnTo>
                    <a:pt x="701" y="1090"/>
                  </a:lnTo>
                  <a:lnTo>
                    <a:pt x="676" y="1104"/>
                  </a:lnTo>
                  <a:lnTo>
                    <a:pt x="649" y="1116"/>
                  </a:lnTo>
                  <a:lnTo>
                    <a:pt x="622" y="1128"/>
                  </a:lnTo>
                  <a:lnTo>
                    <a:pt x="595" y="1139"/>
                  </a:lnTo>
                  <a:lnTo>
                    <a:pt x="568" y="1150"/>
                  </a:lnTo>
                  <a:lnTo>
                    <a:pt x="541" y="1161"/>
                  </a:lnTo>
                  <a:lnTo>
                    <a:pt x="514" y="1171"/>
                  </a:lnTo>
                  <a:lnTo>
                    <a:pt x="485" y="1180"/>
                  </a:lnTo>
                  <a:lnTo>
                    <a:pt x="456" y="1188"/>
                  </a:lnTo>
                  <a:lnTo>
                    <a:pt x="428" y="1196"/>
                  </a:lnTo>
                  <a:lnTo>
                    <a:pt x="399" y="1203"/>
                  </a:lnTo>
                  <a:lnTo>
                    <a:pt x="370" y="1209"/>
                  </a:lnTo>
                  <a:lnTo>
                    <a:pt x="340" y="1215"/>
                  </a:lnTo>
                  <a:lnTo>
                    <a:pt x="311" y="1220"/>
                  </a:lnTo>
                  <a:lnTo>
                    <a:pt x="281" y="1224"/>
                  </a:lnTo>
                  <a:lnTo>
                    <a:pt x="251" y="1228"/>
                  </a:lnTo>
                  <a:lnTo>
                    <a:pt x="221" y="1231"/>
                  </a:lnTo>
                  <a:lnTo>
                    <a:pt x="191" y="1233"/>
                  </a:lnTo>
                  <a:close/>
                </a:path>
              </a:pathLst>
            </a:custGeom>
            <a:solidFill>
              <a:srgbClr val="b2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8320" y="357012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计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49880" y="357012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处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41960" y="515304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检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8320" y="52023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执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2720" y="43578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PDCA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循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吉伯的工资方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0" y="1413000"/>
            <a:ext cx="8642520" cy="496872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方案：全面质量计划</a:t>
            </a:r>
            <a:r>
              <a:rPr b="0" lang="en-GB" sz="2400" spc="-1" strike="noStrike">
                <a:solidFill>
                  <a:srgbClr val="000099"/>
                </a:solidFill>
                <a:latin typeface="黑体"/>
                <a:ea typeface="黑体"/>
              </a:rPr>
              <a:t>92 (“QFA  PAY  PLAN 92</a:t>
            </a:r>
            <a:r>
              <a:rPr b="0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r>
              <a:rPr b="0" lang="en-GB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过去的工资分为两部分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基础工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过去工资的</a:t>
            </a:r>
            <a:r>
              <a:rPr b="1" lang="en-GB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%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由内部公平决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弹性工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过去工资的</a:t>
            </a:r>
            <a:r>
              <a:rPr b="1" lang="en-GB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以下因素决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队每年能力的提高</a:t>
            </a:r>
            <a:r>
              <a:rPr b="1" lang="en-GB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从以下方面考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93600" indent="-284040">
              <a:lnSpc>
                <a:spcPct val="125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量的提高占</a:t>
            </a:r>
            <a:r>
              <a:rPr b="1" lang="en-GB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993600" indent="-284040">
              <a:lnSpc>
                <a:spcPct val="125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场拓展的单位成本降低占</a:t>
            </a:r>
            <a:r>
              <a:rPr b="1" lang="en-GB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993600" indent="-284040">
              <a:lnSpc>
                <a:spcPct val="125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场拓展速度占</a:t>
            </a:r>
            <a:r>
              <a:rPr b="1" lang="en-GB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993600" indent="-284040">
              <a:lnSpc>
                <a:spcPct val="125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和环境的改善占</a:t>
            </a:r>
            <a:r>
              <a:rPr b="1" lang="en-GB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993600" indent="-284040">
              <a:lnSpc>
                <a:spcPct val="125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门财务表现占</a:t>
            </a:r>
            <a:r>
              <a:rPr b="1" lang="en-GB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工资方案的争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寻找关键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440" y="1646280"/>
            <a:ext cx="2519280" cy="4681440"/>
          </a:xfrm>
          <a:prstGeom prst="rect">
            <a:avLst/>
          </a:prstGeom>
          <a:noFill/>
          <a:ln w="2232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51080" y="1646280"/>
            <a:ext cx="2952720" cy="4681440"/>
          </a:xfrm>
          <a:prstGeom prst="rect">
            <a:avLst/>
          </a:prstGeom>
          <a:noFill/>
          <a:ln w="2232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5960" y="1295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方案优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0680" y="1295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方案不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62720" y="1646280"/>
            <a:ext cx="3168720" cy="4681440"/>
          </a:xfrm>
          <a:prstGeom prst="rect">
            <a:avLst/>
          </a:prstGeom>
          <a:noFill/>
          <a:ln w="2232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72520" y="1295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关键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1844640"/>
            <a:ext cx="2347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工资与团队绩效挂钩，能够促进全员参与，为团队绩效负责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把公司的战略任务分解到团队，有利于公司整体目标的实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能够引导员工把团队利益置于个人利益之上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1844640"/>
            <a:ext cx="2808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考虑部门差异，实行简单的“一刀切”；没有考虑到各团队对组织责任的不同，应该区别对待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考虑到个人对组织的贡献不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考虑到岗位的不同，激励效果的差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35800" y="1812960"/>
            <a:ext cx="3024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员参与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实现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队差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队绩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队重要性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岗位差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资不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性质不同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体差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激励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120" indent="-474840">
              <a:lnSpc>
                <a:spcPct val="125000"/>
              </a:lnSpc>
              <a:spcBef>
                <a:spcPts val="349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变薪酬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工资方案的目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440" y="3728880"/>
            <a:ext cx="2411280" cy="2505240"/>
          </a:xfrm>
          <a:prstGeom prst="cube">
            <a:avLst>
              <a:gd name="adj" fmla="val 25000"/>
            </a:avLst>
          </a:prstGeom>
          <a:solidFill>
            <a:srgbClr val="c0c0c0">
              <a:alpha val="43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3440" y="3728880"/>
            <a:ext cx="2411640" cy="2505240"/>
          </a:xfrm>
          <a:prstGeom prst="cube">
            <a:avLst>
              <a:gd name="adj" fmla="val 25000"/>
            </a:avLst>
          </a:prstGeom>
          <a:solidFill>
            <a:srgbClr val="c0c0c0">
              <a:alpha val="43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440" y="1844640"/>
            <a:ext cx="2411280" cy="2505240"/>
          </a:xfrm>
          <a:prstGeom prst="cube">
            <a:avLst>
              <a:gd name="adj" fmla="val 25000"/>
            </a:avLst>
          </a:prstGeom>
          <a:solidFill>
            <a:srgbClr val="c0c0c0">
              <a:alpha val="43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33440" y="1844640"/>
            <a:ext cx="2411640" cy="2505240"/>
          </a:xfrm>
          <a:prstGeom prst="cube">
            <a:avLst>
              <a:gd name="adj" fmla="val 25000"/>
            </a:avLst>
          </a:prstGeom>
          <a:solidFill>
            <a:srgbClr val="4f79ff">
              <a:alpha val="56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00000">
            <a:off x="4879440" y="3715920"/>
            <a:ext cx="1346400" cy="457200"/>
          </a:xfrm>
          <a:prstGeom prst="rightArrow">
            <a:avLst>
              <a:gd name="adj1" fmla="val 50000"/>
              <a:gd name="adj2" fmla="val 73622"/>
            </a:avLst>
          </a:prstGeom>
          <a:solidFill>
            <a:srgbClr val="ccecff"/>
          </a:solidFill>
          <a:ln w="28440">
            <a:solidFill>
              <a:srgbClr val="33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5400" y="13413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增加的收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440" y="2276640"/>
            <a:ext cx="1368360" cy="457200"/>
          </a:xfrm>
          <a:prstGeom prst="rightArrow">
            <a:avLst>
              <a:gd name="adj1" fmla="val 50000"/>
              <a:gd name="adj2" fmla="val 7482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61240" y="1373040"/>
            <a:ext cx="2724120" cy="1657440"/>
            <a:chOff x="6861240" y="1373040"/>
            <a:chExt cx="2724120" cy="1657440"/>
          </a:xfrm>
        </p:grpSpPr>
        <p:sp>
          <p:nvSpPr>
            <p:cNvPr id="134" name=""/>
            <p:cNvSpPr/>
            <p:nvPr/>
          </p:nvSpPr>
          <p:spPr>
            <a:xfrm>
              <a:off x="7350840" y="137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均分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61240" y="1916280"/>
              <a:ext cx="1104840" cy="1114200"/>
            </a:xfrm>
            <a:prstGeom prst="cube">
              <a:avLst>
                <a:gd name="adj" fmla="val 2500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61160" y="1916280"/>
              <a:ext cx="1104840" cy="1114200"/>
            </a:xfrm>
            <a:prstGeom prst="cube">
              <a:avLst>
                <a:gd name="adj" fmla="val 2500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80520" y="1916280"/>
              <a:ext cx="1104840" cy="1114200"/>
            </a:xfrm>
            <a:prstGeom prst="cube">
              <a:avLst>
                <a:gd name="adj" fmla="val 25000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607080" y="3639960"/>
            <a:ext cx="2849760" cy="2079720"/>
            <a:chOff x="6607080" y="3639960"/>
            <a:chExt cx="2849760" cy="2079720"/>
          </a:xfrm>
        </p:grpSpPr>
        <p:sp>
          <p:nvSpPr>
            <p:cNvPr id="139" name=""/>
            <p:cNvSpPr/>
            <p:nvPr/>
          </p:nvSpPr>
          <p:spPr>
            <a:xfrm>
              <a:off x="6607080" y="4221000"/>
              <a:ext cx="1409760" cy="149868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69000"/>
              </a:srgbClr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59720" y="4581360"/>
              <a:ext cx="1220760" cy="1138320"/>
            </a:xfrm>
            <a:prstGeom prst="cube">
              <a:avLst>
                <a:gd name="adj" fmla="val 25000"/>
              </a:avLst>
            </a:prstGeom>
            <a:solidFill>
              <a:srgbClr val="ffff00">
                <a:alpha val="80000"/>
              </a:srgbClr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96440" y="5157720"/>
              <a:ext cx="860400" cy="561960"/>
            </a:xfrm>
            <a:prstGeom prst="cube">
              <a:avLst>
                <a:gd name="adj" fmla="val 25000"/>
              </a:avLst>
            </a:prstGeom>
            <a:solidFill>
              <a:srgbClr val="00ff00">
                <a:alpha val="80000"/>
              </a:srgbClr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0200" y="3639960"/>
              <a:ext cx="127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收益共享 个人激励</a:t>
              </a:r>
              <a:br>
                <a:rPr sz="1600"/>
              </a:b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全员参与 持续改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3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薪酬设计的要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98640" y="3429000"/>
            <a:ext cx="2335320" cy="142920"/>
          </a:xfrm>
          <a:custGeom>
            <a:avLst/>
            <a:gdLst/>
            <a:ahLst/>
            <a:rect l="l" t="t" r="r" b="b"/>
            <a:pathLst>
              <a:path w="2234" h="107">
                <a:moveTo>
                  <a:pt x="2234" y="107"/>
                </a:moveTo>
                <a:lnTo>
                  <a:pt x="2014" y="5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079880" y="3243240"/>
            <a:ext cx="1743120" cy="1701720"/>
            <a:chOff x="4079880" y="3243240"/>
            <a:chExt cx="1743120" cy="1701720"/>
          </a:xfrm>
        </p:grpSpPr>
        <p:sp>
          <p:nvSpPr>
            <p:cNvPr id="146" name=""/>
            <p:cNvSpPr/>
            <p:nvPr/>
          </p:nvSpPr>
          <p:spPr>
            <a:xfrm>
              <a:off x="4079880" y="3243240"/>
              <a:ext cx="1743120" cy="1701720"/>
            </a:xfrm>
            <a:custGeom>
              <a:avLst/>
              <a:gdLst/>
              <a:ahLst/>
              <a:rect l="l" t="t" r="r" b="b"/>
              <a:pathLst>
                <a:path w="984" h="960">
                  <a:moveTo>
                    <a:pt x="273" y="960"/>
                  </a:moveTo>
                  <a:lnTo>
                    <a:pt x="0" y="617"/>
                  </a:lnTo>
                  <a:lnTo>
                    <a:pt x="97" y="190"/>
                  </a:lnTo>
                  <a:lnTo>
                    <a:pt x="492" y="0"/>
                  </a:lnTo>
                  <a:lnTo>
                    <a:pt x="886" y="190"/>
                  </a:lnTo>
                  <a:lnTo>
                    <a:pt x="984" y="618"/>
                  </a:lnTo>
                  <a:lnTo>
                    <a:pt x="710" y="960"/>
                  </a:lnTo>
                  <a:lnTo>
                    <a:pt x="273" y="960"/>
                  </a:lnTo>
                  <a:close/>
                </a:path>
              </a:pathLst>
            </a:custGeom>
            <a:solidFill>
              <a:srgbClr val="61a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2160" y="3927600"/>
              <a:ext cx="145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25000"/>
                </a:lnSpc>
                <a:spcBef>
                  <a:spcPts val="499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薪酬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28760" y="4046400"/>
            <a:ext cx="296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薪酬要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48160" y="4959360"/>
            <a:ext cx="2490840" cy="527040"/>
          </a:xfrm>
          <a:custGeom>
            <a:avLst/>
            <a:gdLst/>
            <a:ahLst/>
            <a:rect l="l" t="t" r="r" b="b"/>
            <a:pathLst>
              <a:path w="2450" h="275">
                <a:moveTo>
                  <a:pt x="0" y="0"/>
                </a:moveTo>
                <a:lnTo>
                  <a:pt x="128" y="274"/>
                </a:lnTo>
                <a:lnTo>
                  <a:pt x="2450" y="275"/>
                </a:lnTo>
              </a:path>
            </a:pathLst>
          </a:custGeom>
          <a:noFill/>
          <a:ln w="22320">
            <a:solidFill>
              <a:srgbClr val="3366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4950000"/>
            <a:ext cx="2575080" cy="536400"/>
          </a:xfrm>
          <a:custGeom>
            <a:avLst/>
            <a:gdLst/>
            <a:ahLst/>
            <a:rect l="l" t="t" r="r" b="b"/>
            <a:pathLst>
              <a:path w="2431" h="280">
                <a:moveTo>
                  <a:pt x="2431" y="0"/>
                </a:moveTo>
                <a:lnTo>
                  <a:pt x="2303" y="279"/>
                </a:lnTo>
                <a:lnTo>
                  <a:pt x="0" y="280"/>
                </a:lnTo>
              </a:path>
            </a:pathLst>
          </a:custGeom>
          <a:noFill/>
          <a:ln w="22320">
            <a:solidFill>
              <a:srgbClr val="3366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8280" y="5037120"/>
            <a:ext cx="296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董事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7440" y="2985840"/>
            <a:ext cx="2965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略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44960" y="2647800"/>
            <a:ext cx="0" cy="555840"/>
          </a:xfrm>
          <a:prstGeom prst="line">
            <a:avLst/>
          </a:prstGeom>
          <a:ln w="22320">
            <a:solidFill>
              <a:srgbClr val="3366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92560" y="2206440"/>
            <a:ext cx="3200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部环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5000" y="2638440"/>
            <a:ext cx="2627280" cy="0"/>
          </a:xfrm>
          <a:prstGeom prst="line">
            <a:avLst/>
          </a:prstGeom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30920" y="4346640"/>
            <a:ext cx="2255760" cy="149040"/>
          </a:xfrm>
          <a:custGeom>
            <a:avLst/>
            <a:gdLst/>
            <a:ahLst/>
            <a:rect l="l" t="t" r="r" b="b"/>
            <a:pathLst>
              <a:path w="2137" h="75">
                <a:moveTo>
                  <a:pt x="0" y="0"/>
                </a:moveTo>
                <a:lnTo>
                  <a:pt x="273" y="75"/>
                </a:lnTo>
                <a:lnTo>
                  <a:pt x="2137" y="74"/>
                </a:lnTo>
              </a:path>
            </a:pathLst>
          </a:custGeom>
          <a:noFill/>
          <a:ln w="22320">
            <a:solidFill>
              <a:srgbClr val="3366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16200" y="4346640"/>
            <a:ext cx="2262240" cy="92160"/>
          </a:xfrm>
          <a:custGeom>
            <a:avLst/>
            <a:gdLst/>
            <a:ahLst/>
            <a:rect l="l" t="t" r="r" b="b"/>
            <a:pathLst>
              <a:path w="2122" h="75">
                <a:moveTo>
                  <a:pt x="2122" y="0"/>
                </a:moveTo>
                <a:lnTo>
                  <a:pt x="1865" y="75"/>
                </a:lnTo>
                <a:lnTo>
                  <a:pt x="0" y="74"/>
                </a:lnTo>
              </a:path>
            </a:pathLst>
          </a:custGeom>
          <a:noFill/>
          <a:ln w="22320">
            <a:solidFill>
              <a:srgbClr val="3366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62440" y="3429000"/>
            <a:ext cx="2259360" cy="142920"/>
          </a:xfrm>
          <a:custGeom>
            <a:avLst/>
            <a:gdLst/>
            <a:ahLst/>
            <a:rect l="l" t="t" r="r" b="b"/>
            <a:pathLst>
              <a:path w="2252" h="107">
                <a:moveTo>
                  <a:pt x="0" y="107"/>
                </a:moveTo>
                <a:lnTo>
                  <a:pt x="238" y="5"/>
                </a:lnTo>
                <a:lnTo>
                  <a:pt x="2252" y="0"/>
                </a:lnTo>
              </a:path>
            </a:pathLst>
          </a:custGeom>
          <a:noFill/>
          <a:ln w="22320">
            <a:solidFill>
              <a:srgbClr val="3366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4046400"/>
            <a:ext cx="296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绩效评价标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2560" y="2979720"/>
            <a:ext cx="296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结构文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24600" y="5037120"/>
            <a:ext cx="296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益相关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2800" y="-36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薪酬方案设计的目标和原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9520" y="1523520"/>
            <a:ext cx="466884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公正合理性基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有利企业目标的实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绩效与竞争力的提高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工资确定的要素及依据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调控全体成员工作行为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为企业目标作贡献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工资的作用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不是职务或人价值的货币表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708120" indent="-474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是调拨工作者动机的管理杠杆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83080" y="1592280"/>
            <a:ext cx="4321440" cy="2917800"/>
            <a:chOff x="5383080" y="1592280"/>
            <a:chExt cx="4321440" cy="2917800"/>
          </a:xfrm>
        </p:grpSpPr>
        <p:sp>
          <p:nvSpPr>
            <p:cNvPr id="165" name=""/>
            <p:cNvSpPr/>
            <p:nvPr/>
          </p:nvSpPr>
          <p:spPr>
            <a:xfrm>
              <a:off x="5383080" y="3824280"/>
              <a:ext cx="1371600" cy="68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团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32920" y="3824280"/>
              <a:ext cx="1371600" cy="685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个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83080" y="1592280"/>
              <a:ext cx="1368720" cy="685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ahoma"/>
                  <a:ea typeface="楷体_GB2312"/>
                </a:rPr>
                <a:t>公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7" idx="2"/>
              <a:endCxn id="165" idx="0"/>
            </p:cNvCxnSpPr>
            <p:nvPr/>
          </p:nvCxnSpPr>
          <p:spPr>
            <a:xfrm flipH="1" rot="16200000">
              <a:off x="5294880" y="3049920"/>
              <a:ext cx="1546920" cy="21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69" name=""/>
            <p:cNvCxnSpPr>
              <a:stCxn id="165" idx="3"/>
              <a:endCxn id="166" idx="1"/>
            </p:cNvCxnSpPr>
            <p:nvPr/>
          </p:nvCxnSpPr>
          <p:spPr>
            <a:xfrm>
              <a:off x="6754680" y="4167000"/>
              <a:ext cx="1578960" cy="1080"/>
            </a:xfrm>
            <a:prstGeom prst="bentConnector2">
              <a:avLst/>
            </a:prstGeom>
            <a:ln w="38160">
              <a:solidFill>
                <a:srgbClr val="3366cc"/>
              </a:solidFill>
              <a:miter/>
              <a:tailEnd len="med" type="arrow" w="med"/>
            </a:ln>
          </p:spPr>
        </p:cxnSp>
        <p:cxnSp>
          <p:nvCxnSpPr>
            <p:cNvPr id="170" name=""/>
            <p:cNvCxnSpPr>
              <a:stCxn id="167" idx="3"/>
              <a:endCxn id="166" idx="0"/>
            </p:cNvCxnSpPr>
            <p:nvPr/>
          </p:nvCxnSpPr>
          <p:spPr>
            <a:xfrm>
              <a:off x="6751440" y="1935000"/>
              <a:ext cx="2267640" cy="1890000"/>
            </a:xfrm>
            <a:prstGeom prst="bentConnector2">
              <a:avLst/>
            </a:prstGeom>
            <a:ln w="38160">
              <a:solidFill>
                <a:srgbClr val="ff9900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171" name=""/>
          <p:cNvSpPr/>
          <p:nvPr/>
        </p:nvSpPr>
        <p:spPr>
          <a:xfrm>
            <a:off x="5383080" y="4724280"/>
            <a:ext cx="417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体目标与个人目标直接挂钩，才能产生极强的刺激效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：收益分享 全员参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竞争：个人激励 持续改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9:16:55Z</dcterms:created>
  <dc:creator>Hewitt Associates</dc:creator>
  <dc:description/>
  <dc:language>en-US</dc:language>
  <cp:lastModifiedBy>april.yuan</cp:lastModifiedBy>
  <cp:lastPrinted>2002-09-04T08:42:11Z</cp:lastPrinted>
  <dcterms:modified xsi:type="dcterms:W3CDTF">2005-12-09T02:24:50Z</dcterms:modified>
  <cp:revision>775</cp:revision>
  <dc:subject/>
  <dc:title>项目部分成果样本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4491824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