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04F3-5BD0-4D7D-BF10-888036B4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84300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99A9-CF46-41F5-AA8D-ED8F27358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55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C1FF-1BA0-43E6-A7C3-4D04AB2D0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84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20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84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20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CD0D-71FE-4A62-84E7-C621A2E03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263240"/>
            <a:ext cx="777384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777384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69560"/>
            <a:ext cx="7773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263240"/>
            <a:ext cx="777384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290C-B5D3-40B2-8E3A-2EC7B154A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384300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84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200" y="126324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84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200" y="3843000"/>
            <a:ext cx="250308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777384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7A57-AB83-4CA4-8F9D-EDADA4A0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3DCD-A4CC-4006-9F11-C99C0AEEE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87A7-BCAD-4AC3-8FA8-F39854468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69560"/>
            <a:ext cx="7773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0EE0-DE2A-4C73-B988-E030D906E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A0C2-B9F7-4D8F-9EC2-0EE37D55E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5520" y="384300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35BC-D955-4131-AE81-A80CDF8D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5520" y="1263240"/>
            <a:ext cx="379332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843000"/>
            <a:ext cx="7773840" cy="23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C67C-F62F-4535-A8BB-A15A29277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pColorBar"/>
          <p:cNvSpPr/>
          <p:nvPr/>
        </p:nvSpPr>
        <p:spPr>
          <a:xfrm>
            <a:off x="0" y="6515280"/>
            <a:ext cx="9144000" cy="34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63240"/>
            <a:ext cx="777384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37"/>
              </a:spcBef>
              <a:spcAft>
                <a:spcPts val="337"/>
              </a:spcAft>
              <a:buClr>
                <a:srgbClr val="0099ff"/>
              </a:buClr>
              <a:buSzPct val="90000"/>
              <a:buFont typeface="Wingdings" charset="2"/>
              <a:buChar char="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339840">
              <a:spcBef>
                <a:spcPts val="337"/>
              </a:spcBef>
              <a:spcAft>
                <a:spcPts val="337"/>
              </a:spcAft>
              <a:buClr>
                <a:srgbClr val="99ccff"/>
              </a:buClr>
              <a:buSzPct val="90000"/>
              <a:buFont typeface="Wingdings" charset="2"/>
              <a:buChar char="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43812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—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4040" indent="-32868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5320" indent="-33948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5320" indent="-33948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5320" indent="-33948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99160" y="6200280"/>
            <a:ext cx="2919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  <a:defRPr b="1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fld id="{9DBF9EC4-5F4D-4882-9BE2-E490DEBB00A2}" type="slidenum">
              <a:rPr b="1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pCopyright"/>
          <p:cNvSpPr/>
          <p:nvPr/>
        </p:nvSpPr>
        <p:spPr>
          <a:xfrm>
            <a:off x="366840" y="6516720"/>
            <a:ext cx="1461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光华启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836640"/>
            <a:ext cx="838836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0" y="104760"/>
            <a:ext cx="18288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1368000"/>
            <a:ext cx="71614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pCopyright"/>
          <p:cNvSpPr/>
          <p:nvPr/>
        </p:nvSpPr>
        <p:spPr>
          <a:xfrm>
            <a:off x="228600" y="6516720"/>
            <a:ext cx="1461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光华启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5772240"/>
            <a:ext cx="2697120" cy="857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—"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4080" indent="71280" algn="ctr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20880" algn="ctr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208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208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16112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不受欢迎的工资方案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4419720"/>
            <a:ext cx="595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北大光华启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董羿君　李春光　鲁杰钢　罗翔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4280" y="621036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析框架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3716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案例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44B2-931A-4612-9D83-585B400DE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案例回顾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p Chemic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三年前推出了基于团队的全面质量计划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，现在试图推行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相配套的新调整的薪酬体系时，但遇到了来自不同部门的不同声音，也面临着截然不同的选择方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320" y="2205000"/>
            <a:ext cx="2087640" cy="187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0040" y="2421000"/>
            <a:ext cx="50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17680" y="2421000"/>
            <a:ext cx="1152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础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17680" y="3213000"/>
            <a:ext cx="115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浮动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320" y="4797360"/>
            <a:ext cx="2087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6960" y="4941720"/>
            <a:ext cx="194472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团队绩效挂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6960" y="5373720"/>
            <a:ext cx="194472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企业绩效挂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94040" y="3862440"/>
            <a:ext cx="0" cy="9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9680" y="1989000"/>
            <a:ext cx="2519280" cy="4105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1628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新的薪酬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54400" y="2133720"/>
            <a:ext cx="2087640" cy="430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能鼓励员工参与团队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和跨部门合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54400" y="2779560"/>
            <a:ext cx="2087640" cy="432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会影响优秀绩效员工的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职工作和优秀人才招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54400" y="3500280"/>
            <a:ext cx="208764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新方案中没有对优秀的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励反而使优秀受制整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54400" y="4219560"/>
            <a:ext cx="2087640" cy="431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实现员工与管理者一起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担公司的风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54400" y="4869000"/>
            <a:ext cx="2087640" cy="431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促使优秀者主动承担帮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不优秀者的责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4400" y="5516640"/>
            <a:ext cx="2087640" cy="431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可以解决公司冗员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18040" y="1989000"/>
            <a:ext cx="3168360" cy="4105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62400" y="2133720"/>
            <a:ext cx="792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制定薪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副总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62400" y="2778120"/>
            <a:ext cx="792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研发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负责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2400" y="3500280"/>
            <a:ext cx="792000" cy="43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优秀团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代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62400" y="4221000"/>
            <a:ext cx="792000" cy="43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2400" y="4869000"/>
            <a:ext cx="792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培训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负责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62400" y="5516640"/>
            <a:ext cx="792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某团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主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6040" y="162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各方意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05680" y="2349360"/>
            <a:ext cx="1440000" cy="719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取消现薪酬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05680" y="3645000"/>
            <a:ext cx="144000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修改薪酬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5680" y="4941720"/>
            <a:ext cx="1440000" cy="719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强制推行现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6040" y="386064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13320" y="386064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89680" y="1989000"/>
            <a:ext cx="1873440" cy="4104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9720" y="1628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建议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05F7-5156-4FCA-9D86-8B7E094D6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分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意见冲突的原因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6588000" y="1808280"/>
            <a:ext cx="223200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08280"/>
            <a:ext cx="5256360" cy="40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90792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同样一套为配合公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体系而建立的薪酬调整方案为什么会引起如此大的意见冲突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952640"/>
            <a:ext cx="4753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4920" y="209700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制定薪酬副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4920" y="252900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4920" y="296064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员工培训负责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952640"/>
            <a:ext cx="503280" cy="151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2097000"/>
            <a:ext cx="2160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将薪酬部分浮动提高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使员工与管理者共担风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使优秀者承担培训责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26002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824280"/>
            <a:ext cx="50328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0200" y="3824280"/>
            <a:ext cx="4249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4920" y="396864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专业化部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4920" y="396864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影响本部门工作专一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4905360"/>
            <a:ext cx="50328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4905360"/>
            <a:ext cx="4249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4920" y="504972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秀绩效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920" y="504972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不能体现奖优罚劣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1951200"/>
            <a:ext cx="1942920" cy="865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高层管理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员工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部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720" y="2816280"/>
            <a:ext cx="1942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从各自所处视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看待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04028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5121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252900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4616280"/>
            <a:ext cx="223200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最后调整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应尽可能体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各方意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7640" y="4184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D275-823D-46DB-99E4-67732DB7E0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分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前解决方案可行性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从案例所给材料看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p Chemic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公司面临三种解决方案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413000"/>
            <a:ext cx="201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取消现薪酬调整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141720"/>
            <a:ext cx="201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强制推行薪酬调整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870440"/>
            <a:ext cx="201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修改薪酬调整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1413000"/>
            <a:ext cx="288108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专业员工不愿参与团队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秀团队不愿帮助其他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部分绩效不能转化为整体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1413000"/>
            <a:ext cx="201600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计划缺乏支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162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3141720"/>
            <a:ext cx="28810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专业员工离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秀团队瓦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整体绩效降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4870440"/>
            <a:ext cx="28810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如何兼顾部分与整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如何让员工尝试改进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如何让员工付出额外努力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3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3141720"/>
            <a:ext cx="201600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陷入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084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2428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465300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4869000"/>
            <a:ext cx="201600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新的方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5095-07D6-40DD-BEA7-CD2B9D9C4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决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企业希望达到目标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2276640"/>
            <a:ext cx="244944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1600200"/>
            <a:ext cx="4464000" cy="449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3880" y="907920"/>
            <a:ext cx="76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在提出更好解决方案之前，我们需要再次明确公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实施效果的关键影响因素和影响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5445000"/>
            <a:ext cx="1582920" cy="5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异的个人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4365720"/>
            <a:ext cx="15829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异的团队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448160"/>
            <a:ext cx="15829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异的部门业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8720" y="2276640"/>
            <a:ext cx="1582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异的公司业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2590920"/>
            <a:ext cx="1582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4211640" y="49417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2627280" y="2421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0481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038480"/>
            <a:ext cx="194472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4191120"/>
            <a:ext cx="1655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员工个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技能与业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4944960"/>
            <a:ext cx="165564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团队整体协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效率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508640"/>
            <a:ext cx="1081080" cy="291960"/>
          </a:xfrm>
          <a:prstGeom prst="leftArrow">
            <a:avLst>
              <a:gd name="adj1" fmla="val 50000"/>
              <a:gd name="adj2" fmla="val 925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1752480"/>
            <a:ext cx="1729080" cy="205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133720"/>
            <a:ext cx="147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更快的市场响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666880"/>
            <a:ext cx="147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更高质量的产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200400"/>
            <a:ext cx="147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更低的成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7280" y="1628640"/>
            <a:ext cx="89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34448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实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关键因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4508640"/>
            <a:ext cx="576360" cy="215640"/>
          </a:xfrm>
          <a:prstGeom prst="leftArrow">
            <a:avLst>
              <a:gd name="adj1" fmla="val 50000"/>
              <a:gd name="adj2" fmla="val 668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828800"/>
            <a:ext cx="114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公司目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A01C-3679-4123-9EBF-93BB3CB04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决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以公司总目标为导向的考核与薪酬体系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907920"/>
            <a:ext cx="77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鼓励优秀的个人与团队向业务相关的个人、团队提供支持与协助，使公司整体上形成协调、共进的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31840" y="1752480"/>
            <a:ext cx="1936800" cy="4114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47840" y="4405320"/>
            <a:ext cx="1471680" cy="12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团队目标完成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公司战略发展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贡献程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员工成长、团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建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89240" y="60958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考核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45120" y="4419720"/>
            <a:ext cx="1469880" cy="12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进度、成本、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业务系统性、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设计与实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其它团队部门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支持与协助，达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整体共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16400" y="6095880"/>
            <a:ext cx="12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考核要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62360" y="46483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考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3141720"/>
            <a:ext cx="1503360" cy="718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成果、质量、成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协助团队其他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员，最终实现共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989000"/>
            <a:ext cx="1520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态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45120" y="1989000"/>
            <a:ext cx="1469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任职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客户满意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2520" y="2624040"/>
            <a:ext cx="423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2520" y="4524480"/>
            <a:ext cx="423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团队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22680" y="3098880"/>
            <a:ext cx="1245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业绩考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62360" y="202896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考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53360" y="4419720"/>
            <a:ext cx="14713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团队、部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奖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团队、部门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责人进行奖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03840" y="609588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薪酬与激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81560" y="1752480"/>
            <a:ext cx="1936800" cy="419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06880" y="1752480"/>
            <a:ext cx="1728720" cy="419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3440" y="60958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考核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141720"/>
            <a:ext cx="140508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奖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培训与晋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971720"/>
            <a:ext cx="1547640" cy="7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员工基本工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激励措施执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7320" y="4108320"/>
            <a:ext cx="7745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952880"/>
            <a:ext cx="1273320" cy="228600"/>
          </a:xfrm>
          <a:prstGeom prst="rightArrow">
            <a:avLst>
              <a:gd name="adj1" fmla="val 50000"/>
              <a:gd name="adj2" fmla="val 13925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30400" y="2266920"/>
            <a:ext cx="1314720" cy="238320"/>
          </a:xfrm>
          <a:prstGeom prst="rightArrow">
            <a:avLst>
              <a:gd name="adj1" fmla="val 50000"/>
              <a:gd name="adj2" fmla="val 137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4952880"/>
            <a:ext cx="528480" cy="235080"/>
          </a:xfrm>
          <a:prstGeom prst="rightArrow">
            <a:avLst>
              <a:gd name="adj1" fmla="val 50000"/>
              <a:gd name="adj2" fmla="val 562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9920" y="3124080"/>
            <a:ext cx="1479600" cy="812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设定目标完成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团队的作用与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3860640"/>
            <a:ext cx="215640" cy="432000"/>
          </a:xfrm>
          <a:prstGeom prst="upArrow">
            <a:avLst>
              <a:gd name="adj1" fmla="val 50000"/>
              <a:gd name="adj2" fmla="val 5008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2209680"/>
            <a:ext cx="528480" cy="235080"/>
          </a:xfrm>
          <a:prstGeom prst="rightArrow">
            <a:avLst>
              <a:gd name="adj1" fmla="val 50000"/>
              <a:gd name="adj2" fmla="val 562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7800" y="3429000"/>
            <a:ext cx="1273320" cy="228600"/>
          </a:xfrm>
          <a:prstGeom prst="rightArrow">
            <a:avLst>
              <a:gd name="adj1" fmla="val 50000"/>
              <a:gd name="adj2" fmla="val 13925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3422520"/>
            <a:ext cx="528480" cy="235080"/>
          </a:xfrm>
          <a:prstGeom prst="rightArrow">
            <a:avLst>
              <a:gd name="adj1" fmla="val 50000"/>
              <a:gd name="adj2" fmla="val 562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CEF2-AB09-401F-BF7A-3DFD062C24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决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实施建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9079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新的考核与薪酬体系的优势表现在不影响原有工作绩效的同时，鼓励个人融入团队，鼓励优秀团队向需改进团队提供支持与协助，鼓励需改进团队主动学习优秀团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773360"/>
            <a:ext cx="424836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1916280"/>
            <a:ext cx="122364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QF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配套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薪酬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1916280"/>
            <a:ext cx="2592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基于层级、岗位、工作时间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薪酬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2852640"/>
            <a:ext cx="259236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团队绩效挂钩的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与企业绩效挂钩的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对主动帮助其他团队的额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奖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对是否主动学习团队的奖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2971800"/>
            <a:ext cx="719280" cy="289080"/>
          </a:xfrm>
          <a:custGeom>
            <a:avLst/>
            <a:gdLst>
              <a:gd name="textAreaLeft" fmla="*/ 89640 w 719280"/>
              <a:gd name="textAreaRight" fmla="*/ 629640 w 719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645000"/>
            <a:ext cx="144720" cy="0"/>
          </a:xfrm>
          <a:prstGeom prst="line">
            <a:avLst/>
          </a:prstGeom>
          <a:ln w="93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4869000"/>
            <a:ext cx="4248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向主动帮助其他团队的优秀团队提供额外奖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3645000"/>
            <a:ext cx="0" cy="1439640"/>
          </a:xfrm>
          <a:prstGeom prst="line">
            <a:avLst/>
          </a:prstGeom>
          <a:ln w="9360">
            <a:solidFill>
              <a:srgbClr val="00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229360"/>
            <a:ext cx="424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原因：优秀团队在帮助中需要付出额外的更多努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方式：建立新的奖励基金对每年在帮助其他团队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做作出突出贡献的团队给予特别奖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4120" y="4869000"/>
            <a:ext cx="3504600" cy="1368360"/>
            <a:chOff x="5334120" y="4869000"/>
            <a:chExt cx="3504600" cy="1368360"/>
          </a:xfrm>
        </p:grpSpPr>
        <p:sp>
          <p:nvSpPr>
            <p:cNvPr id="234" name=""/>
            <p:cNvSpPr/>
            <p:nvPr/>
          </p:nvSpPr>
          <p:spPr>
            <a:xfrm>
              <a:off x="5334120" y="4869000"/>
              <a:ext cx="35046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是否主动学习团队的奖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5229360"/>
              <a:ext cx="350460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主动学习的奖励已体现在与团队绩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挂钩的奖金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不主动学习团队的惩罚需要有明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准，难以实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356000" y="407664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5084640"/>
            <a:ext cx="718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1828800"/>
            <a:ext cx="33526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0160" y="1973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良性循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2508120"/>
            <a:ext cx="122544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团队绩效提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43720" y="250812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企业竞争力增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43720" y="344952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企业利润增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449520"/>
            <a:ext cx="122544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员工额外奖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2080" y="2581200"/>
            <a:ext cx="287280" cy="260280"/>
          </a:xfrm>
          <a:prstGeom prst="rightArrow">
            <a:avLst>
              <a:gd name="adj1" fmla="val 50000"/>
              <a:gd name="adj2" fmla="val 275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7881120" y="3070800"/>
            <a:ext cx="347400" cy="216000"/>
          </a:xfrm>
          <a:prstGeom prst="rightArrow">
            <a:avLst>
              <a:gd name="adj1" fmla="val 50000"/>
              <a:gd name="adj2" fmla="val 40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6080760" y="3070440"/>
            <a:ext cx="347400" cy="216000"/>
          </a:xfrm>
          <a:prstGeom prst="rightArrow">
            <a:avLst>
              <a:gd name="adj1" fmla="val 50000"/>
              <a:gd name="adj2" fmla="val 40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12080" y="3549600"/>
            <a:ext cx="287280" cy="260280"/>
          </a:xfrm>
          <a:prstGeom prst="rightArrow">
            <a:avLst>
              <a:gd name="adj1" fmla="val 50000"/>
              <a:gd name="adj2" fmla="val 275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3A01-BCD5-416E-A530-AFC768357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38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3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Q&amp;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C111-3CB5-4DA2-B60E-748F0B6B5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20:31:42Z</dcterms:created>
  <dc:creator>Towers Perrin</dc:creator>
  <dc:description>TCP (Two Color Projection) - August 2004, Release 8.4</dc:description>
  <dc:language>en-US</dc:language>
  <cp:lastModifiedBy>april.yuan</cp:lastModifiedBy>
  <cp:lastPrinted>1998-02-16T21:38:28Z</cp:lastPrinted>
  <dcterms:modified xsi:type="dcterms:W3CDTF">2005-12-09T02:00:27Z</dcterms:modified>
  <cp:revision>251</cp:revision>
  <dc:subject/>
  <dc:title>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PPresentationType">
    <vt:lpwstr>TCP</vt:lpwstr>
  </property>
  <property fmtid="{D5CDD505-2E9C-101B-9397-08002B2CF9AE}" pid="3" name="_AdHocReviewCycleID">
    <vt:r8>-1944409196</vt:r8>
  </property>
  <property fmtid="{D5CDD505-2E9C-101B-9397-08002B2CF9AE}" pid="4" name="_AuthorEmail">
    <vt:lpwstr>echo.ren@hbrchina.com</vt:lpwstr>
  </property>
  <property fmtid="{D5CDD505-2E9C-101B-9397-08002B2CF9AE}" pid="5" name="_AuthorEmailDisplayName">
    <vt:lpwstr>echo ren</vt:lpwstr>
  </property>
  <property fmtid="{D5CDD505-2E9C-101B-9397-08002B2CF9AE}" pid="6" name="_EmailSubject">
    <vt:lpwstr/>
  </property>
  <property fmtid="{D5CDD505-2E9C-101B-9397-08002B2CF9AE}" pid="7" name="_ReviewingToolsShownOnce">
    <vt:lpwstr/>
  </property>
  <property fmtid="{D5CDD505-2E9C-101B-9397-08002B2CF9AE}" pid="8" name="tpColorBar">
    <vt:bool>1</vt:bool>
  </property>
  <property fmtid="{D5CDD505-2E9C-101B-9397-08002B2CF9AE}" pid="9" name="tpColorBarBusiness">
    <vt:r8>4</vt:r8>
  </property>
  <property fmtid="{D5CDD505-2E9C-101B-9397-08002B2CF9AE}" pid="10" name="tpColorBarLegacy">
    <vt:bool>0</vt:bool>
  </property>
  <property fmtid="{D5CDD505-2E9C-101B-9397-08002B2CF9AE}" pid="11" name="tpLogoType">
    <vt:r8>4</vt:r8>
  </property>
  <property fmtid="{D5CDD505-2E9C-101B-9397-08002B2CF9AE}" pid="12" name="tpNewBrand">
    <vt:bool>1</vt:bool>
  </property>
</Properties>
</file>