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919A-F54F-4A20-8684-4FDE324B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BAE7-E778-4EF5-80DB-B6D9C9F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B765-EF4E-450E-A084-062C6E5B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BEF6-24A7-4A6D-A2D4-C9181E27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F27F-77E8-49B9-815A-D68D7C5C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5B8-00D8-4AF8-8DD2-2CB97905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F39F-AC03-4A72-9EBA-143FEDFA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723B-BCCB-49CB-B0FB-D133077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9641-C5CA-4D91-82BD-8CC61D81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5CB1-86DA-4F81-9DFF-C26ABE28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6035-0335-46B1-ADD9-E8F59091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1059-D07B-483C-A7EA-19817D3E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B585-D7F2-49A8-A60A-5D354E0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FDC9-DA8E-426F-A8D7-B4DE4072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5D4C-7685-4E4B-88A2-0B98C648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6931-CD23-4E2E-99B5-41553725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916D-F689-426B-8A3E-C405B8B3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259A-77D1-4E07-85BB-C7E6AFE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2976-D487-4431-B395-C9FE19AE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F67C-6D2E-4D74-A790-DB9DD02A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297A-C762-4E09-9168-DB446780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0AC4-3784-4426-AF78-2E58DC31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8D5C-9774-496D-A51C-4BEBE4C1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6AB8-C622-40A7-B883-79BE6978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2B5D-A785-48CF-A59D-092D784BE65C}" type="slidenum">
              <a:rPr b="0" lang="zh-CN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1619280" y="1699920"/>
            <a:ext cx="7067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9640" y="549360"/>
            <a:ext cx="827280" cy="8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692360" y="1373040"/>
            <a:ext cx="69832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8172360" y="130320"/>
            <a:ext cx="9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华文楷体"/>
              </a:rPr>
              <a:t>承 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3F8C-E400-4D86-843C-51352878A9C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Arial"/>
              </a:rPr>
              <a:t>没有最好   只有更好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924000" y="4581000"/>
            <a:ext cx="311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承 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小组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5410080"/>
            <a:ext cx="396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组员：王红亚   裴  磊牛晓虎   杜兆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解决方案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续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7640" y="2895480"/>
          <a:ext cx="23371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95480"/>
                    <a:ext cx="23371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568440" y="54936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557360"/>
            <a:ext cx="7067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00"/>
                </a:solidFill>
                <a:latin typeface="Arial"/>
                <a:ea typeface="黑体"/>
              </a:rPr>
              <a:t>目标薪酬激励体系</a:t>
            </a:r>
            <a:r>
              <a:rPr b="0" i="1" lang="zh-CN" sz="2400" spc="-1" strike="noStrike">
                <a:solidFill>
                  <a:srgbClr val="00ff00"/>
                </a:solidFill>
                <a:latin typeface="Arial"/>
                <a:ea typeface="黑体"/>
              </a:rPr>
              <a:t>—— 兼顾团队与个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81360" y="2374920"/>
          <a:ext cx="3662640" cy="34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1360" y="2374920"/>
                    <a:ext cx="36626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487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谢谢大家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14240" y="2361960"/>
            <a:ext cx="4605480" cy="34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49200" indent="-533160">
              <a:lnSpc>
                <a:spcPct val="160000"/>
              </a:lnSpc>
              <a:spcBef>
                <a:spcPts val="751"/>
              </a:spcBef>
              <a:buClr>
                <a:srgbClr val="ffffcc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99"/>
                </a:solidFill>
                <a:latin typeface="Arial"/>
              </a:rPr>
              <a:t>案例简介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1249200" indent="-533160">
              <a:lnSpc>
                <a:spcPct val="160000"/>
              </a:lnSpc>
              <a:spcBef>
                <a:spcPts val="751"/>
              </a:spcBef>
              <a:buClr>
                <a:srgbClr val="ffffcc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99"/>
                </a:solidFill>
                <a:latin typeface="Arial"/>
              </a:rPr>
              <a:t>聚焦薪酬制度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1249200" indent="-533160">
              <a:lnSpc>
                <a:spcPct val="160000"/>
              </a:lnSpc>
              <a:spcBef>
                <a:spcPts val="751"/>
              </a:spcBef>
              <a:buClr>
                <a:srgbClr val="ffffcc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99"/>
                </a:solidFill>
                <a:latin typeface="Arial"/>
              </a:rPr>
              <a:t>案例分析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1249200" indent="-533160">
              <a:lnSpc>
                <a:spcPct val="160000"/>
              </a:lnSpc>
              <a:spcBef>
                <a:spcPts val="751"/>
              </a:spcBef>
              <a:buClr>
                <a:srgbClr val="ffffcc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99"/>
                </a:solidFill>
                <a:latin typeface="Arial"/>
              </a:rPr>
              <a:t>解决方案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8172360" y="130320"/>
            <a:ext cx="9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华文楷体"/>
              </a:rPr>
              <a:t>承 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《一个不受欢迎的工资方案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案例简介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557360"/>
            <a:ext cx="68011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Bodoni MT Black"/>
              </a:rPr>
              <a:t>Top Chemica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历史的化工产品制造公司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49360"/>
            <a:ext cx="7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4920" y="5229360"/>
            <a:ext cx="4753080" cy="576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9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  <a:ea typeface="黑体"/>
              </a:rPr>
              <a:t>CEO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  <a:ea typeface="黑体"/>
              </a:rPr>
              <a:t>：推行新的薪酬分配方案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2494080"/>
            <a:ext cx="1871640" cy="1295280"/>
          </a:xfrm>
          <a:prstGeom prst="ellipse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原有薪酬分配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6120" y="3862440"/>
            <a:ext cx="839880" cy="822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冲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790800"/>
            <a:ext cx="720720" cy="432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796000" y="3718080"/>
            <a:ext cx="719280" cy="504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0560" y="595008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支持、反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421000"/>
            <a:ext cx="4464000" cy="1441440"/>
          </a:xfrm>
          <a:prstGeom prst="ellipse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2643120"/>
            <a:ext cx="3816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推行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QFA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质量管理体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以“生产为导向”的运行模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256536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5364000" y="4725720"/>
            <a:ext cx="360360" cy="503280"/>
          </a:xfrm>
          <a:custGeom>
            <a:avLst/>
            <a:gdLst>
              <a:gd name="textAreaLeft" fmla="*/ 56160 w 360360"/>
              <a:gd name="textAreaRight" fmla="*/ 315360 w 360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聚焦薪酬制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19280" y="1699920"/>
            <a:ext cx="7067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spcAft>
                <a:spcPts val="2251"/>
              </a:spcAft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99"/>
                </a:solidFill>
                <a:latin typeface="Arial"/>
              </a:rPr>
              <a:t>薪酬改革的目的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99"/>
                </a:solidFill>
                <a:latin typeface="Arial"/>
              </a:rPr>
              <a:t>是否推行新的薪酬方案？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8440" y="54936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3889080" cy="576360"/>
          </a:xfrm>
          <a:custGeom>
            <a:avLst/>
            <a:gdLst>
              <a:gd name="textAreaLeft" fmla="*/ 0 w 3889080"/>
              <a:gd name="textAreaRight" fmla="*/ 3889440 w 3889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8" y="0"/>
                </a:lnTo>
                <a:lnTo>
                  <a:pt x="21600" y="10800"/>
                </a:lnTo>
                <a:lnTo>
                  <a:pt x="184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全面贯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QF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体系的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4149720"/>
            <a:ext cx="3889080" cy="576360"/>
          </a:xfrm>
          <a:custGeom>
            <a:avLst/>
            <a:gdLst>
              <a:gd name="textAreaLeft" fmla="*/ 0 w 3889080"/>
              <a:gd name="textAreaRight" fmla="*/ 3889440 w 3889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8" y="0"/>
                </a:lnTo>
                <a:lnTo>
                  <a:pt x="21600" y="10800"/>
                </a:lnTo>
                <a:lnTo>
                  <a:pt x="184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组织架构变革的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4870440"/>
            <a:ext cx="3889080" cy="576360"/>
          </a:xfrm>
          <a:custGeom>
            <a:avLst/>
            <a:gdLst>
              <a:gd name="textAreaLeft" fmla="*/ 0 w 3889080"/>
              <a:gd name="textAreaRight" fmla="*/ 3889440 w 3889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8" y="0"/>
                </a:lnTo>
                <a:lnTo>
                  <a:pt x="21600" y="10800"/>
                </a:lnTo>
                <a:lnTo>
                  <a:pt x="184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公司发展战略的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3357720"/>
            <a:ext cx="2521080" cy="2089080"/>
          </a:xfrm>
          <a:prstGeom prst="irregularSeal2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须推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聚焦薪酬制度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续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9280" y="1699920"/>
            <a:ext cx="7067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2251"/>
              </a:spcAft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99"/>
                </a:solidFill>
                <a:latin typeface="Arial"/>
              </a:rPr>
              <a:t>薪酬设计的原则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公平性、竞争性、可行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薪酬文化：与企业文化的契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服从于企业整体发展战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明确的目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8440" y="54936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案例分析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06752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2251"/>
              </a:spcAft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99"/>
                </a:solidFill>
                <a:latin typeface="Arial"/>
              </a:rPr>
              <a:t>新的薪酬方案遇阻的主要原因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未能兼顾不同部门的差异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长期激励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缺乏鼓励持续创新和不断改进的指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049"/>
              </a:spcAft>
              <a:buClr>
                <a:srgbClr val="ffff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重团队激励忽视了个体的努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8440" y="54936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619280" y="1557000"/>
            <a:ext cx="706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00"/>
                </a:solidFill>
                <a:latin typeface="Arial"/>
              </a:rPr>
              <a:t>目标薪酬激励体系 </a:t>
            </a:r>
            <a:r>
              <a:rPr b="0" i="1" lang="zh-CN" sz="2400" spc="-1" strike="noStrike">
                <a:solidFill>
                  <a:srgbClr val="00ff00"/>
                </a:solidFill>
                <a:latin typeface="Arial"/>
              </a:rPr>
              <a:t>—— 兼顾工作性质差异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8440" y="54936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83000" y="4151160"/>
            <a:ext cx="1219320" cy="1690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13500000"/>
          </a:gradFill>
          <a:ln w="3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基本工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福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54480" y="4952880"/>
            <a:ext cx="1219320" cy="889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13500000"/>
          </a:gradFill>
          <a:ln w="3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基本工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福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9960" y="3616200"/>
            <a:ext cx="1219320" cy="2232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13500000"/>
          </a:gradFill>
          <a:ln w="3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基本工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福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9960" y="2736720"/>
            <a:ext cx="1219320" cy="4748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ececff"/>
              </a:gs>
              <a:gs pos="100000">
                <a:srgbClr val="00ff00"/>
              </a:gs>
            </a:gsLst>
            <a:lin ang="13500000"/>
          </a:gradFill>
          <a:ln w="3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长期激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54480" y="2739960"/>
            <a:ext cx="1219320" cy="833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ececff"/>
              </a:gs>
              <a:gs pos="100000">
                <a:srgbClr val="00ff00"/>
              </a:gs>
            </a:gsLst>
            <a:lin ang="13500000"/>
          </a:gradFill>
          <a:ln w="3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长期激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9960" y="3184560"/>
            <a:ext cx="1219320" cy="4413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短期激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54480" y="3573360"/>
            <a:ext cx="1219320" cy="1382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短期激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83000" y="2738520"/>
            <a:ext cx="1219320" cy="635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ececff"/>
              </a:gs>
              <a:gs pos="100000">
                <a:srgbClr val="00ff00"/>
              </a:gs>
            </a:gsLst>
            <a:lin ang="13500000"/>
          </a:gradFill>
          <a:ln w="3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长期激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83000" y="3368520"/>
            <a:ext cx="1219320" cy="9781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短期激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7400" y="594504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中等风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06480" y="5931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低风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8520" y="5943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高风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473120" y="2349000"/>
            <a:ext cx="3240" cy="352764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32080" y="5880240"/>
            <a:ext cx="547344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2997360"/>
            <a:ext cx="360360" cy="144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ececff"/>
              </a:gs>
              <a:gs pos="100000">
                <a:srgbClr val="00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3213000"/>
            <a:ext cx="360360" cy="1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0728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浮动薪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3789360"/>
            <a:ext cx="358920" cy="144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7280" y="36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固定薪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解决方案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736720"/>
            <a:ext cx="5041800" cy="0"/>
          </a:xfrm>
          <a:prstGeom prst="line">
            <a:avLst/>
          </a:prstGeom>
          <a:ln w="2844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56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 Narrow"/>
                <a:ea typeface="黑体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解决方案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续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100"/>
              </a:spcAft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ff00"/>
                </a:solidFill>
                <a:latin typeface="Arial"/>
              </a:rPr>
              <a:t>目标薪酬激励体系</a:t>
            </a:r>
            <a:r>
              <a:rPr b="0" lang="zh-CN" sz="3000" spc="-1" strike="noStrike">
                <a:solidFill>
                  <a:srgbClr val="00ff00"/>
                </a:solidFill>
                <a:latin typeface="Arial"/>
              </a:rPr>
              <a:t>——</a:t>
            </a:r>
            <a:r>
              <a:rPr b="0" i="1" lang="zh-CN" sz="2800" spc="-1" strike="noStrike">
                <a:solidFill>
                  <a:srgbClr val="00ff00"/>
                </a:solidFill>
                <a:latin typeface="Arial"/>
              </a:rPr>
              <a:t>兼顾工作性质差异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440" y="54936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11280" y="5510160"/>
            <a:ext cx="3768480" cy="6480"/>
          </a:xfrm>
          <a:prstGeom prst="line">
            <a:avLst/>
          </a:prstGeom>
          <a:ln w="64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1979280" y="4646160"/>
            <a:ext cx="144360" cy="770040"/>
          </a:xfrm>
          <a:custGeom>
            <a:avLst/>
            <a:gdLst>
              <a:gd name="textAreaLeft" fmla="*/ 92160 w 144360"/>
              <a:gd name="textAreaRight" fmla="*/ 144360 w 144360"/>
              <a:gd name="textAreaTop" fmla="*/ 19800 h 770040"/>
              <a:gd name="textAreaBottom" fmla="*/ 750240 h 77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2916360" y="2636640"/>
            <a:ext cx="271440" cy="1865160"/>
          </a:xfrm>
          <a:custGeom>
            <a:avLst/>
            <a:gdLst>
              <a:gd name="textAreaLeft" fmla="*/ 173520 w 271440"/>
              <a:gd name="textAreaRight" fmla="*/ 271800 w 271440"/>
              <a:gd name="textAreaTop" fmla="*/ 48600 h 1865160"/>
              <a:gd name="textAreaBottom" fmla="*/ 1816560 h 186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154"/>
                </a:lnTo>
                <a:cubicBezTo>
                  <a:pt x="10800" y="16054"/>
                  <a:pt x="5400" y="16954"/>
                  <a:pt x="0" y="16954"/>
                </a:cubicBezTo>
                <a:cubicBezTo>
                  <a:pt x="5400" y="16954"/>
                  <a:pt x="10800" y="17854"/>
                  <a:pt x="10800" y="18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4615200"/>
            <a:ext cx="2303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固定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取决于岗位重要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所需技能和专业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4575240"/>
            <a:ext cx="1323720" cy="0"/>
          </a:xfrm>
          <a:prstGeom prst="line">
            <a:avLst/>
          </a:prstGeom>
          <a:ln w="648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68800" y="2708640"/>
            <a:ext cx="1158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变动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以经营业绩为导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2637000"/>
            <a:ext cx="863640" cy="86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长期</a:t>
            </a:r>
            <a:br>
              <a:rPr sz="1700"/>
            </a:br>
            <a:r>
              <a:rPr b="1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激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3645000"/>
            <a:ext cx="863640" cy="86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短期</a:t>
            </a:r>
            <a:br>
              <a:rPr sz="1700"/>
            </a:br>
            <a:r>
              <a:rPr b="1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激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2720" y="4603680"/>
            <a:ext cx="863640" cy="86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工资</a:t>
            </a:r>
            <a:br>
              <a:rPr sz="1700"/>
            </a:br>
            <a:r>
              <a:rPr b="1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br>
              <a:rPr sz="1700"/>
            </a:br>
            <a:r>
              <a:rPr b="1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福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08720" y="4608360"/>
            <a:ext cx="3095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marL="169920" indent="-16848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5000"/>
              <a:buFont typeface="Wingdings" charset="2"/>
              <a:buChar char="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主要用于保障基本生活支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9920" indent="-16848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5000"/>
              <a:buFont typeface="Wingdings" charset="2"/>
              <a:buChar char="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占总收入的比重视不同岗位和职务而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4756320"/>
            <a:ext cx="936360" cy="753840"/>
          </a:xfrm>
          <a:custGeom>
            <a:avLst/>
            <a:gdLst>
              <a:gd name="textAreaLeft" fmla="*/ 0 w 936360"/>
              <a:gd name="textAreaRight" fmla="*/ 936720 w 93636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15" y="0"/>
                </a:lnTo>
                <a:lnTo>
                  <a:pt x="21600" y="10800"/>
                </a:lnTo>
                <a:lnTo>
                  <a:pt x="158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0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构成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原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74880"/>
            <a:ext cx="936720" cy="754200"/>
          </a:xfrm>
          <a:custGeom>
            <a:avLst/>
            <a:gdLst>
              <a:gd name="textAreaLeft" fmla="*/ 0 w 936720"/>
              <a:gd name="textAreaRight" fmla="*/ 937080 w 936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15" y="0"/>
                </a:lnTo>
                <a:lnTo>
                  <a:pt x="21600" y="10800"/>
                </a:lnTo>
                <a:lnTo>
                  <a:pt x="158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000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构成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原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8720" y="2421000"/>
            <a:ext cx="3240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marL="169920" indent="-16848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5000"/>
              <a:buFont typeface="Wingdings" charset="2"/>
              <a:buChar char="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主要用于奖励员工达到的业绩贡献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黑体"/>
              </a:rPr>
              <a:t>，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并激励其未来更佳的业绩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9920" indent="-16848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5000"/>
              <a:buFont typeface="Wingdings" charset="2"/>
              <a:buChar char="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占总收入的比重视不同岗位和职级而定：岗位风险越大、职级越高，该比重就越大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解决方案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续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8440" y="54936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2200" y="3911760"/>
            <a:ext cx="790200" cy="398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个人努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65960" y="3911760"/>
            <a:ext cx="790200" cy="398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个人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29280" y="3911760"/>
            <a:ext cx="1387440" cy="3988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组织奖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1920" y="3911760"/>
            <a:ext cx="790200" cy="3988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个人绩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75200" y="4892760"/>
            <a:ext cx="157788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强化手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80640" y="3051000"/>
            <a:ext cx="45504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3080" y="4894200"/>
            <a:ext cx="133992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目标绩效评估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9080" y="4892760"/>
            <a:ext cx="72936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主导需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7600" y="3051000"/>
            <a:ext cx="100368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绩效评估标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90640" y="3051000"/>
            <a:ext cx="86652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公平性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32280" y="2389320"/>
            <a:ext cx="17208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高成就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40120" y="5830920"/>
            <a:ext cx="1957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目标引导行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73440" y="4110120"/>
            <a:ext cx="565200" cy="792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3440" y="4110120"/>
            <a:ext cx="557280" cy="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6720" y="4118040"/>
            <a:ext cx="608040" cy="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052800" y="4109760"/>
            <a:ext cx="0" cy="79380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2800" y="3448080"/>
            <a:ext cx="0" cy="66204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42000" y="3448080"/>
            <a:ext cx="0" cy="66204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4322880"/>
            <a:ext cx="0" cy="52848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292720" y="4336560"/>
            <a:ext cx="0" cy="52884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03920" y="4140000"/>
            <a:ext cx="0" cy="72684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22560" y="2587680"/>
            <a:ext cx="0" cy="1324080"/>
          </a:xfrm>
          <a:prstGeom prst="line">
            <a:avLst/>
          </a:prstGeom>
          <a:ln w="381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2560" y="2587680"/>
            <a:ext cx="1789200" cy="0"/>
          </a:xfrm>
          <a:prstGeom prst="line">
            <a:avLst/>
          </a:prstGeom>
          <a:ln w="38160">
            <a:solidFill>
              <a:srgbClr val="ffff99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653080" y="2587680"/>
            <a:ext cx="2195640" cy="17280"/>
          </a:xfrm>
          <a:prstGeom prst="line">
            <a:avLst/>
          </a:prstGeom>
          <a:ln w="381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48720" y="2587680"/>
            <a:ext cx="0" cy="1324080"/>
          </a:xfrm>
          <a:prstGeom prst="line">
            <a:avLst/>
          </a:prstGeom>
          <a:ln w="38160">
            <a:solidFill>
              <a:srgbClr val="ffff99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122560" y="4308480"/>
            <a:ext cx="0" cy="1720800"/>
          </a:xfrm>
          <a:prstGeom prst="line">
            <a:avLst/>
          </a:prstGeom>
          <a:ln w="38160">
            <a:solidFill>
              <a:srgbClr val="ffff99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2560" y="6029280"/>
            <a:ext cx="1717560" cy="0"/>
          </a:xfrm>
          <a:prstGeom prst="line">
            <a:avLst/>
          </a:prstGeom>
          <a:ln w="381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4308480"/>
            <a:ext cx="0" cy="1720800"/>
          </a:xfrm>
          <a:prstGeom prst="line">
            <a:avLst/>
          </a:prstGeom>
          <a:ln w="381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772240" y="6029280"/>
            <a:ext cx="2076480" cy="0"/>
          </a:xfrm>
          <a:prstGeom prst="line">
            <a:avLst/>
          </a:prstGeom>
          <a:ln w="38160">
            <a:solidFill>
              <a:srgbClr val="ffff99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45360" y="3448080"/>
            <a:ext cx="0" cy="46368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19280" y="1557000"/>
            <a:ext cx="706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00"/>
                </a:solidFill>
                <a:latin typeface="Arial"/>
              </a:rPr>
              <a:t>目标薪酬激励体系</a:t>
            </a:r>
            <a:r>
              <a:rPr b="0" i="1" lang="zh-CN" sz="2400" spc="-1" strike="noStrike">
                <a:solidFill>
                  <a:srgbClr val="00ff00"/>
                </a:solidFill>
                <a:latin typeface="Arial"/>
              </a:rPr>
              <a:t>—— 可持续的改进与创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8:15:58Z</dcterms:created>
  <dc:creator>why</dc:creator>
  <dc:description/>
  <dc:language>en-US</dc:language>
  <cp:lastModifiedBy>april.yuan</cp:lastModifiedBy>
  <dcterms:modified xsi:type="dcterms:W3CDTF">2005-12-16T08:07:24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551610</vt:r8>
  </property>
  <property fmtid="{D5CDD505-2E9C-101B-9397-08002B2CF9AE}" pid="3" name="_AuthorEmail">
    <vt:lpwstr>echo.ren@hbrchina.com</vt:lpwstr>
  </property>
  <property fmtid="{D5CDD505-2E9C-101B-9397-08002B2CF9AE}" pid="4" name="_AuthorEmailDisplayName">
    <vt:lpwstr>echo ren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