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6B5D6-1F37-4D71-B939-68A3C2DC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54A92-79A3-4F5B-A655-B1933DFB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94D12-B621-42A5-8B82-21AD7932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92B57-DF4A-4B5D-BD84-9A7D54FB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C21F8-BA11-47FD-840E-3EE68889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29160-5906-4650-82E4-8E7C73A6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CA17E-0603-4B97-8AFC-641F942B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8E740-CF39-4963-95C8-434D2DAF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61E39-031A-409E-B195-1B7CF3A7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4D484-1E07-4761-8EC7-66B9B998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0BD85-351D-4E69-AB18-DCB6A0D9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ECFB4-88AA-4DA0-85D6-5E952921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4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Golden Part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lvl="4" marL="20574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223A-F81E-446C-A425-EE13F2F76650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Verdana"/>
              </a:rPr>
              <a:t>Top Chem</a:t>
            </a:r>
            <a:r>
              <a:rPr b="0" lang="zh-CN" sz="5500" spc="-1" strike="noStrike">
                <a:solidFill>
                  <a:srgbClr val="ffffff"/>
                </a:solidFill>
                <a:latin typeface="宋体"/>
              </a:rPr>
              <a:t>公司</a:t>
            </a:r>
            <a:r>
              <a:rPr b="0" lang="zh-CN" sz="5400" spc="-1" strike="noStrike">
                <a:solidFill>
                  <a:srgbClr val="ffffff"/>
                </a:solidFill>
                <a:latin typeface="宋体"/>
              </a:rPr>
              <a:t>薪酬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宋体"/>
              </a:rPr>
              <a:t>方案分析报告</a:t>
            </a:r>
            <a:endParaRPr b="1" lang="en-US" sz="5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团队名称：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Golden Partner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团队成员：杜  克  刘晓路  代少勇  常  伟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57913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楷体"/>
              </a:rPr>
              <a:t>2005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楷体"/>
              </a:rPr>
              <a:t>年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楷体"/>
              </a:rPr>
              <a:t>12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楷体"/>
              </a:rPr>
              <a:t>月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楷体"/>
              </a:rPr>
              <a:t>日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咨询建议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重新设计绩效及薪酬体系</a:t>
            </a:r>
            <a:endParaRPr b="1" lang="en-US" sz="4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1828800"/>
            <a:ext cx="1878120" cy="838080"/>
          </a:xfrm>
          <a:custGeom>
            <a:avLst/>
            <a:gdLst>
              <a:gd name="textAreaLeft" fmla="*/ 0 w 1878120"/>
              <a:gd name="textAreaRight" fmla="*/ 1878480 w 1878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问题呈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76600" y="1828800"/>
            <a:ext cx="1876320" cy="838080"/>
          </a:xfrm>
          <a:custGeom>
            <a:avLst/>
            <a:gdLst>
              <a:gd name="textAreaLeft" fmla="*/ 0 w 1876320"/>
              <a:gd name="textAreaRight" fmla="*/ 1876680 w 1876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问题诊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65920" y="1828800"/>
            <a:ext cx="1878120" cy="838080"/>
          </a:xfrm>
          <a:custGeom>
            <a:avLst/>
            <a:gdLst>
              <a:gd name="textAreaLeft" fmla="*/ 0 w 1878120"/>
              <a:gd name="textAreaRight" fmla="*/ 1878480 w 1878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思考启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81520" y="1828800"/>
            <a:ext cx="1878120" cy="838080"/>
          </a:xfrm>
          <a:custGeom>
            <a:avLst/>
            <a:gdLst>
              <a:gd name="textAreaLeft" fmla="*/ 0 w 1878120"/>
              <a:gd name="textAreaRight" fmla="*/ 1878480 w 1878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50000">
                <a:srgbClr val="000080"/>
              </a:gs>
              <a:gs pos="100000">
                <a:srgbClr val="00003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咨询建议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8" name=""/>
          <p:cNvCxnSpPr>
            <a:endCxn id="239" idx="3"/>
          </p:cNvCxnSpPr>
          <p:nvPr/>
        </p:nvCxnSpPr>
        <p:spPr>
          <a:xfrm rot="5400000">
            <a:off x="5238360" y="2838240"/>
            <a:ext cx="648360" cy="45792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40" name=""/>
          <p:cNvCxnSpPr>
            <a:endCxn id="241" idx="3"/>
          </p:cNvCxnSpPr>
          <p:nvPr/>
        </p:nvCxnSpPr>
        <p:spPr>
          <a:xfrm rot="5400000">
            <a:off x="5200200" y="3562200"/>
            <a:ext cx="724680" cy="45792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2057400" y="3048120"/>
            <a:ext cx="3276720" cy="6858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岗位分析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3809880"/>
            <a:ext cx="3276720" cy="6858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确定关键业绩指标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K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4572000"/>
            <a:ext cx="3276720" cy="6858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薪酬方案建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3" name=""/>
          <p:cNvCxnSpPr/>
          <p:nvPr/>
        </p:nvCxnSpPr>
        <p:spPr>
          <a:xfrm rot="5400000">
            <a:off x="5200200" y="4324320"/>
            <a:ext cx="724680" cy="45792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岗位分析</a:t>
            </a: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5" name=""/>
          <p:cNvSpPr/>
          <p:nvPr/>
        </p:nvSpPr>
        <p:spPr>
          <a:xfrm>
            <a:off x="7848720" y="15228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42280" y="15228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42200" y="1522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50000">
                <a:srgbClr val="000080">
                  <a:alpha val="50196"/>
                </a:srgbClr>
              </a:gs>
              <a:gs pos="100000">
                <a:srgbClr val="00003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648640" y="1522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257480"/>
            <a:ext cx="1676160" cy="9144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14" y="0"/>
                </a:lnTo>
                <a:lnTo>
                  <a:pt x="21600" y="10800"/>
                </a:lnTo>
                <a:lnTo>
                  <a:pt x="18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宋体"/>
              </a:rPr>
              <a:t>部门概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1257480"/>
            <a:ext cx="5486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部门名称、汇报关系、编写日期、在职者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2286000"/>
            <a:ext cx="1676160" cy="9144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14" y="0"/>
                </a:lnTo>
                <a:lnTo>
                  <a:pt x="21600" y="10800"/>
                </a:lnTo>
                <a:lnTo>
                  <a:pt x="18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宋体"/>
              </a:rPr>
              <a:t>部门职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2286000"/>
            <a:ext cx="5486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工作任务、培训、指导、服务、计划和沟通等方面的职能及各种责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3276720"/>
            <a:ext cx="1676160" cy="9144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14" y="0"/>
                </a:lnTo>
                <a:lnTo>
                  <a:pt x="21600" y="10800"/>
                </a:lnTo>
                <a:lnTo>
                  <a:pt x="18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宋体"/>
              </a:rPr>
              <a:t>部门目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19520" y="3276720"/>
            <a:ext cx="5486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部门工作所要达到的目标及提供的服务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如，工作数量、质量、时间要求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4267080"/>
            <a:ext cx="1676160" cy="9144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14" y="0"/>
                </a:lnTo>
                <a:lnTo>
                  <a:pt x="21600" y="10800"/>
                </a:lnTo>
                <a:lnTo>
                  <a:pt x="18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宋体"/>
              </a:rPr>
              <a:t>工作性质和范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4267080"/>
            <a:ext cx="5486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本部门与相关部门的关系，以及与组织内部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外部的沟通、协调、指导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5257800"/>
            <a:ext cx="1676160" cy="9144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14" y="0"/>
                </a:lnTo>
                <a:lnTo>
                  <a:pt x="21600" y="10800"/>
                </a:lnTo>
                <a:lnTo>
                  <a:pt x="18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宋体"/>
              </a:rPr>
              <a:t>任职资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5257800"/>
            <a:ext cx="5486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本部门人员专业知识与学历、年龄、相关经验、品行、能力、基本技能和其他特殊要求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6000" y="29160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关键业绩指标主要由三种考核类别构成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60" name=""/>
          <p:cNvSpPr/>
          <p:nvPr/>
        </p:nvSpPr>
        <p:spPr>
          <a:xfrm>
            <a:off x="7848720" y="15228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442280" y="15228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42200" y="1522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50000">
                <a:srgbClr val="000080">
                  <a:alpha val="50196"/>
                </a:srgbClr>
              </a:gs>
              <a:gs pos="100000">
                <a:srgbClr val="00003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648640" y="1522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2590920"/>
            <a:ext cx="1676520" cy="9144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14" y="0"/>
                </a:lnTo>
                <a:lnTo>
                  <a:pt x="21600" y="10800"/>
                </a:lnTo>
                <a:lnTo>
                  <a:pt x="18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财务类指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3809880"/>
            <a:ext cx="1676520" cy="9144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14" y="0"/>
                </a:lnTo>
                <a:lnTo>
                  <a:pt x="21600" y="10800"/>
                </a:lnTo>
                <a:lnTo>
                  <a:pt x="18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经营类指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5029200"/>
            <a:ext cx="1676520" cy="9144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14" y="0"/>
                </a:lnTo>
                <a:lnTo>
                  <a:pt x="21600" y="10800"/>
                </a:lnTo>
                <a:lnTo>
                  <a:pt x="18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管理类指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1828800"/>
            <a:ext cx="3505320" cy="53352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目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1828800"/>
            <a:ext cx="3353040" cy="533520"/>
          </a:xfrm>
          <a:custGeom>
            <a:avLst/>
            <a:gdLst>
              <a:gd name="textAreaLeft" fmla="*/ 0 w 3353040"/>
              <a:gd name="textAreaRight" fmla="*/ 3353400 w 3353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指标举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590920"/>
            <a:ext cx="3505320" cy="99036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面衡量价值创造的能力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7400" y="3809880"/>
            <a:ext cx="3505320" cy="99072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执行公司战略方针的同时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创造良好的工作环境与企业文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7400" y="5029200"/>
            <a:ext cx="3505320" cy="99072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最有效的营运杠杆确保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战略及财务目标的完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38680" y="2590920"/>
            <a:ext cx="3353040" cy="990360"/>
          </a:xfrm>
          <a:custGeom>
            <a:avLst/>
            <a:gdLst>
              <a:gd name="textAreaLeft" fmla="*/ 0 w 3353040"/>
              <a:gd name="textAreaRight" fmla="*/ 3353400 w 335304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投资资本回报率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OI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税息前利润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BI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现金流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3809880"/>
            <a:ext cx="3353040" cy="990720"/>
          </a:xfrm>
          <a:custGeom>
            <a:avLst/>
            <a:gdLst>
              <a:gd name="textAreaLeft" fmla="*/ 0 w 3353040"/>
              <a:gd name="textAreaRight" fmla="*/ 3353400 w 335304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销售收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市场份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采购成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5029200"/>
            <a:ext cx="3353040" cy="990720"/>
          </a:xfrm>
          <a:custGeom>
            <a:avLst/>
            <a:gdLst>
              <a:gd name="textAreaLeft" fmla="*/ 0 w 3353040"/>
              <a:gd name="textAreaRight" fmla="*/ 3353400 w 335304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部门、公司对其提供支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满意程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部门绩效考核示例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6" name=""/>
          <p:cNvSpPr/>
          <p:nvPr/>
        </p:nvSpPr>
        <p:spPr>
          <a:xfrm>
            <a:off x="2576520" y="5832360"/>
            <a:ext cx="471600" cy="26352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914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岗位职责描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914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考评标准及权重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1676520"/>
            <a:ext cx="457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76520" y="1447920"/>
            <a:ext cx="3521160" cy="2444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76520" y="1890720"/>
            <a:ext cx="2284560" cy="243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76520" y="2298600"/>
            <a:ext cx="1544760" cy="246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76520" y="2732040"/>
            <a:ext cx="927000" cy="2397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3106800"/>
            <a:ext cx="555480" cy="245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14600" y="1447920"/>
            <a:ext cx="0" cy="22860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47960" y="193212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5840" y="237024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1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76360" y="276552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71440" y="31068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76520" y="3443400"/>
            <a:ext cx="2284560" cy="2444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47960" y="350028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882760" y="150984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3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19920" y="1447920"/>
            <a:ext cx="281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按照公司年初制订的研发计划，实施计划并保证进度，每月提交进度报告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95680" y="2316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每月拜访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2-3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家客户，与客户技术部门交流，提供培训服务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19051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及时收集客户使用产品中遇到的技术问题，并当月提出解决方案并回复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52880" y="266688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合理使用并控制研发费用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29200" y="3048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培训、沟通，及时通告研发进展，提供新产品信息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62920" y="34290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重大创新及改进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1523880"/>
            <a:ext cx="182880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制订公司的研发战略和目标</a:t>
            </a: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,</a:t>
            </a: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执行公司的研发计划</a:t>
            </a: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,</a:t>
            </a: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保证研发进度；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解决客户使用中的技术问题</a:t>
            </a: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,</a:t>
            </a: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提供技术咨询；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负责对公司内部相关部门的技术培训；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合理使用、控制研发费用；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6320" y="1752480"/>
            <a:ext cx="533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6320" y="4191120"/>
            <a:ext cx="533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1295280"/>
            <a:ext cx="0" cy="4876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3962520"/>
            <a:ext cx="1828800" cy="14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制订公司的营销战略和目标</a:t>
            </a: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,</a:t>
            </a: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分解制订并执行公司年度营销计划</a:t>
            </a: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,</a:t>
            </a: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完成销售目标；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维护及提升品牌形象和价值，负责市场宣传和品牌推广；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合理使用、控制营销费用；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90920" y="3962520"/>
            <a:ext cx="4357440" cy="2286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76520" y="4343400"/>
            <a:ext cx="2284560" cy="243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76520" y="4729320"/>
            <a:ext cx="1544760" cy="2458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76520" y="5094360"/>
            <a:ext cx="927000" cy="23976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76520" y="5470560"/>
            <a:ext cx="928800" cy="243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14600" y="3886200"/>
            <a:ext cx="0" cy="22096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1640" y="437040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85840" y="480060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1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92200" y="512748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03040" y="5867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92200" y="554688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34320" y="388620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黑体"/>
              </a:rPr>
              <a:t>完成销售指标，配合研发部门将新品上市时间缩短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114800" y="4768920"/>
            <a:ext cx="4724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  <a:ea typeface="黑体"/>
              </a:rPr>
              <a:t>按照年初计划，参加</a:t>
            </a:r>
            <a:r>
              <a:rPr b="0" lang="zh-CN" sz="1100" spc="-1" strike="noStrike">
                <a:solidFill>
                  <a:srgbClr val="ffffff"/>
                </a:solidFill>
                <a:latin typeface="Times New Roman"/>
                <a:ea typeface="黑体"/>
              </a:rPr>
              <a:t>2-3</a:t>
            </a:r>
            <a:r>
              <a:rPr b="0" lang="zh-CN" sz="1100" spc="-1" strike="noStrike">
                <a:solidFill>
                  <a:srgbClr val="ffffff"/>
                </a:solidFill>
                <a:latin typeface="Times New Roman"/>
                <a:ea typeface="黑体"/>
              </a:rPr>
              <a:t>个国际专业化工展会，制订品牌宣传方案并实施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05520" y="4295880"/>
            <a:ext cx="3733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  <a:ea typeface="黑体"/>
              </a:rPr>
              <a:t>每月拜访</a:t>
            </a:r>
            <a:r>
              <a:rPr b="0" lang="zh-CN" sz="1100" spc="-1" strike="noStrike">
                <a:solidFill>
                  <a:srgbClr val="ffffff"/>
                </a:solidFill>
                <a:latin typeface="Times New Roman"/>
                <a:ea typeface="黑体"/>
              </a:rPr>
              <a:t>10-15</a:t>
            </a:r>
            <a:r>
              <a:rPr b="0" lang="zh-CN" sz="1100" spc="-1" strike="noStrike">
                <a:solidFill>
                  <a:srgbClr val="ffffff"/>
                </a:solidFill>
                <a:latin typeface="Times New Roman"/>
                <a:ea typeface="黑体"/>
              </a:rPr>
              <a:t>家客户，与客户采购部门沟通交流，提供产品及价格信息，每月开发</a:t>
            </a:r>
            <a:r>
              <a:rPr b="0" lang="zh-CN" sz="1100" spc="-1" strike="noStrike">
                <a:solidFill>
                  <a:srgbClr val="ffffff"/>
                </a:solidFill>
                <a:latin typeface="Times New Roman"/>
                <a:ea typeface="黑体"/>
              </a:rPr>
              <a:t>10-2</a:t>
            </a:r>
            <a:r>
              <a:rPr b="0" lang="zh-CN" sz="1100" spc="-1" strike="noStrike">
                <a:solidFill>
                  <a:srgbClr val="ffffff"/>
                </a:solidFill>
                <a:latin typeface="Times New Roman"/>
                <a:ea typeface="黑体"/>
              </a:rPr>
              <a:t>家新客户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5149800"/>
            <a:ext cx="449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  <a:ea typeface="黑体"/>
              </a:rPr>
              <a:t>合理使用并控制营销费用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29400" y="5530680"/>
            <a:ext cx="2209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与其它部门的配合和协作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05320" y="5835600"/>
            <a:ext cx="5333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营销方面的重大创新及改进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6320" y="1371600"/>
            <a:ext cx="87627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809880"/>
            <a:ext cx="8763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848720" y="15228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442280" y="15228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242200" y="1522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50000">
                <a:srgbClr val="000080">
                  <a:alpha val="50196"/>
                </a:srgbClr>
              </a:gs>
              <a:gs pos="100000">
                <a:srgbClr val="00003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648640" y="1522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66040" y="4038480"/>
            <a:ext cx="291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4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不同部门员工薪酬示例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514600"/>
            <a:ext cx="1219320" cy="3048120"/>
          </a:xfrm>
          <a:prstGeom prst="rect">
            <a:avLst/>
          </a:prstGeom>
          <a:gradFill rotWithShape="0">
            <a:gsLst>
              <a:gs pos="0">
                <a:srgbClr val="929275"/>
              </a:gs>
              <a:gs pos="50000">
                <a:srgbClr val="ffffcc"/>
              </a:gs>
              <a:gs pos="100000">
                <a:srgbClr val="92927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391520" y="2514600"/>
            <a:ext cx="1295280" cy="3048120"/>
          </a:xfrm>
          <a:prstGeom prst="rect">
            <a:avLst/>
          </a:prstGeom>
          <a:gradFill rotWithShape="0">
            <a:gsLst>
              <a:gs pos="0">
                <a:srgbClr val="929275"/>
              </a:gs>
              <a:gs pos="50000">
                <a:srgbClr val="ffffcc"/>
              </a:gs>
              <a:gs pos="100000">
                <a:srgbClr val="92927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23880" y="2514600"/>
            <a:ext cx="1752840" cy="3048120"/>
          </a:xfrm>
          <a:prstGeom prst="rect">
            <a:avLst/>
          </a:prstGeom>
          <a:gradFill rotWithShape="0">
            <a:gsLst>
              <a:gs pos="0">
                <a:srgbClr val="759292"/>
              </a:gs>
              <a:gs pos="50000">
                <a:srgbClr val="ccffff"/>
              </a:gs>
              <a:gs pos="100000">
                <a:srgbClr val="7592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6320" y="2514600"/>
            <a:ext cx="1295280" cy="30481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100000">
                <a:srgbClr val="99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2861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752480" y="12952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宋体"/>
                <a:ea typeface="宋体"/>
              </a:rPr>
              <a:t>固定工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76920" y="1295280"/>
            <a:ext cx="213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部门考评权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0" y="12952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员工考评权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23880" y="2743200"/>
            <a:ext cx="2667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原工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原工资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原工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52280" y="2362320"/>
            <a:ext cx="822960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研发：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营销：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培训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581280" y="2514600"/>
            <a:ext cx="1752840" cy="3048120"/>
          </a:xfrm>
          <a:prstGeom prst="rect">
            <a:avLst/>
          </a:prstGeom>
          <a:gradFill rotWithShape="0">
            <a:gsLst>
              <a:gs pos="0">
                <a:srgbClr val="929275"/>
              </a:gs>
              <a:gs pos="50000">
                <a:srgbClr val="ffffcc"/>
              </a:gs>
              <a:gs pos="100000">
                <a:srgbClr val="92927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81280" y="2714760"/>
            <a:ext cx="4953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原工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原工资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宋体"/>
              </a:rPr>
              <a:t>*                  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原工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638680" y="2438280"/>
            <a:ext cx="1752840" cy="18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部门考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80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宋体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1500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91520" y="2438280"/>
            <a:ext cx="1523880" cy="18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员工考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80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宋体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91520" y="3962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67080" y="5867280"/>
            <a:ext cx="4343400" cy="457200"/>
          </a:xfrm>
          <a:prstGeom prst="rect">
            <a:avLst/>
          </a:prstGeom>
          <a:gradFill rotWithShape="0">
            <a:gsLst>
              <a:gs pos="0">
                <a:srgbClr val="929275"/>
              </a:gs>
              <a:gs pos="50000">
                <a:srgbClr val="ffffcc"/>
              </a:gs>
              <a:gs pos="100000">
                <a:srgbClr val="92927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Garamond"/>
                <a:ea typeface="宋体"/>
              </a:rPr>
              <a:t>浮动工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400800" y="55627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0" y="5715000"/>
            <a:ext cx="3505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48720" y="15228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50000">
                <a:srgbClr val="000080">
                  <a:alpha val="50196"/>
                </a:srgbClr>
              </a:gs>
              <a:gs pos="100000">
                <a:srgbClr val="00003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442280" y="15228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242200" y="1522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648640" y="1522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16200000">
            <a:off x="2247840" y="1638360"/>
            <a:ext cx="457200" cy="990720"/>
          </a:xfrm>
          <a:custGeom>
            <a:avLst/>
            <a:gdLst>
              <a:gd name="textAreaLeft" fmla="*/ 118440 w 457200"/>
              <a:gd name="textAreaRight" fmla="*/ 338760 w 457200"/>
              <a:gd name="textAreaTop" fmla="*/ 242640 h 990720"/>
              <a:gd name="textAreaBottom" fmla="*/ 748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5296"/>
                </a:moveTo>
                <a:lnTo>
                  <a:pt x="10620" y="5296"/>
                </a:lnTo>
                <a:lnTo>
                  <a:pt x="10620" y="0"/>
                </a:lnTo>
                <a:lnTo>
                  <a:pt x="21600" y="10800"/>
                </a:lnTo>
                <a:lnTo>
                  <a:pt x="10620" y="21600"/>
                </a:lnTo>
                <a:lnTo>
                  <a:pt x="10620" y="16304"/>
                </a:lnTo>
                <a:lnTo>
                  <a:pt x="0" y="16304"/>
                </a:lnTo>
                <a:lnTo>
                  <a:pt x="5596" y="10800"/>
                </a:lnTo>
                <a:lnTo>
                  <a:pt x="0" y="5296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5981760" y="1638360"/>
            <a:ext cx="457200" cy="990720"/>
          </a:xfrm>
          <a:custGeom>
            <a:avLst/>
            <a:gdLst>
              <a:gd name="textAreaLeft" fmla="*/ 118440 w 457200"/>
              <a:gd name="textAreaRight" fmla="*/ 338760 w 457200"/>
              <a:gd name="textAreaTop" fmla="*/ 242640 h 990720"/>
              <a:gd name="textAreaBottom" fmla="*/ 748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5296"/>
                </a:moveTo>
                <a:lnTo>
                  <a:pt x="10620" y="5296"/>
                </a:lnTo>
                <a:lnTo>
                  <a:pt x="10620" y="0"/>
                </a:lnTo>
                <a:lnTo>
                  <a:pt x="21600" y="10800"/>
                </a:lnTo>
                <a:lnTo>
                  <a:pt x="10620" y="21600"/>
                </a:lnTo>
                <a:lnTo>
                  <a:pt x="10620" y="16304"/>
                </a:lnTo>
                <a:lnTo>
                  <a:pt x="0" y="16304"/>
                </a:lnTo>
                <a:lnTo>
                  <a:pt x="5596" y="10800"/>
                </a:lnTo>
                <a:lnTo>
                  <a:pt x="0" y="5296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7734240" y="1638360"/>
            <a:ext cx="457200" cy="990720"/>
          </a:xfrm>
          <a:custGeom>
            <a:avLst/>
            <a:gdLst>
              <a:gd name="textAreaLeft" fmla="*/ 118440 w 457200"/>
              <a:gd name="textAreaRight" fmla="*/ 338760 w 457200"/>
              <a:gd name="textAreaTop" fmla="*/ 242640 h 990720"/>
              <a:gd name="textAreaBottom" fmla="*/ 748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5296"/>
                </a:moveTo>
                <a:lnTo>
                  <a:pt x="10620" y="5296"/>
                </a:lnTo>
                <a:lnTo>
                  <a:pt x="10620" y="0"/>
                </a:lnTo>
                <a:lnTo>
                  <a:pt x="21600" y="10800"/>
                </a:lnTo>
                <a:lnTo>
                  <a:pt x="10620" y="21600"/>
                </a:lnTo>
                <a:lnTo>
                  <a:pt x="10620" y="16304"/>
                </a:lnTo>
                <a:lnTo>
                  <a:pt x="0" y="16304"/>
                </a:lnTo>
                <a:lnTo>
                  <a:pt x="5596" y="10800"/>
                </a:lnTo>
                <a:lnTo>
                  <a:pt x="0" y="5296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启示思考</a:t>
            </a: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828800"/>
            <a:ext cx="1878120" cy="838080"/>
          </a:xfrm>
          <a:custGeom>
            <a:avLst/>
            <a:gdLst>
              <a:gd name="textAreaLeft" fmla="*/ 0 w 1878120"/>
              <a:gd name="textAreaRight" fmla="*/ 1878480 w 1878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问题呈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76600" y="1828800"/>
            <a:ext cx="1876320" cy="838080"/>
          </a:xfrm>
          <a:custGeom>
            <a:avLst/>
            <a:gdLst>
              <a:gd name="textAreaLeft" fmla="*/ 0 w 1876320"/>
              <a:gd name="textAreaRight" fmla="*/ 1876680 w 1876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问题诊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65920" y="1828800"/>
            <a:ext cx="1878120" cy="838080"/>
          </a:xfrm>
          <a:custGeom>
            <a:avLst/>
            <a:gdLst>
              <a:gd name="textAreaLeft" fmla="*/ 0 w 1878120"/>
              <a:gd name="textAreaRight" fmla="*/ 1878480 w 1878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50000">
                <a:srgbClr val="000080"/>
              </a:gs>
              <a:gs pos="100000">
                <a:srgbClr val="00003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思考启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81520" y="1828800"/>
            <a:ext cx="1878120" cy="838080"/>
          </a:xfrm>
          <a:custGeom>
            <a:avLst/>
            <a:gdLst>
              <a:gd name="textAreaLeft" fmla="*/ 0 w 1878120"/>
              <a:gd name="textAreaRight" fmla="*/ 1878480 w 1878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咨询建议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绩效管理在企业管理中的重要地位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63" name=""/>
          <p:cNvSpPr/>
          <p:nvPr/>
        </p:nvSpPr>
        <p:spPr>
          <a:xfrm>
            <a:off x="3581280" y="1295280"/>
            <a:ext cx="1901880" cy="304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楷体"/>
                <a:ea typeface="华文楷体"/>
              </a:rPr>
              <a:t>公司发展战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81280" y="1600200"/>
            <a:ext cx="1901880" cy="60948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r>
              <a:rPr b="1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研发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r>
              <a:rPr b="1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营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r>
              <a:rPr b="1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营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81280" y="2681280"/>
            <a:ext cx="1901880" cy="304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楷体"/>
                <a:ea typeface="华文楷体"/>
              </a:rPr>
              <a:t>设定绩效目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581280" y="2986200"/>
            <a:ext cx="190188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r>
              <a:rPr b="1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短期目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r>
              <a:rPr b="1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长期目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708600" y="3733920"/>
            <a:ext cx="1901880" cy="304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楷体"/>
                <a:ea typeface="华文楷体"/>
              </a:rPr>
              <a:t>确认绩效障碍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708600" y="4038480"/>
            <a:ext cx="19018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32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r>
              <a:rPr b="1" lang="zh-CN" sz="1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人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r>
              <a:rPr b="1" lang="zh-CN" sz="1200" spc="-1" strike="noStrike">
                <a:solidFill>
                  <a:srgbClr val="ffffff"/>
                </a:solidFill>
                <a:latin typeface="华文楷体"/>
                <a:ea typeface="华文楷体"/>
              </a:rPr>
              <a:t>技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r>
              <a:rPr b="1" lang="zh-CN" sz="1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企业流程及组织架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64000" y="5334120"/>
            <a:ext cx="1901880" cy="304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楷体"/>
                <a:ea typeface="华文楷体"/>
              </a:rPr>
              <a:t>克服绩效障碍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64000" y="5638680"/>
            <a:ext cx="19018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32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r>
              <a:rPr b="1" lang="zh-CN" sz="1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人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r>
              <a:rPr b="1" lang="zh-CN" sz="1200" spc="-1" strike="noStrike">
                <a:solidFill>
                  <a:srgbClr val="ffffff"/>
                </a:solidFill>
                <a:latin typeface="华文楷体"/>
                <a:ea typeface="华文楷体"/>
              </a:rPr>
              <a:t>技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r>
              <a:rPr b="1" lang="zh-CN" sz="1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企业流程及组织架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832040" y="5334120"/>
            <a:ext cx="1901880" cy="304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楷体"/>
                <a:ea typeface="华文楷体"/>
              </a:rPr>
              <a:t>监控与评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32040" y="5638680"/>
            <a:ext cx="19018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r>
              <a:rPr b="1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平衡分数卡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r>
              <a:rPr b="1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意外报告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r>
              <a:rPr b="1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行动计划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3520" y="3733920"/>
            <a:ext cx="1901880" cy="304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楷体"/>
                <a:ea typeface="华文楷体"/>
              </a:rPr>
              <a:t>奖励与指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3520" y="4038480"/>
            <a:ext cx="1901880" cy="60984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员工评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激励制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5" name=""/>
          <p:cNvCxnSpPr/>
          <p:nvPr/>
        </p:nvCxnSpPr>
        <p:spPr>
          <a:xfrm>
            <a:off x="5486040" y="2819520"/>
            <a:ext cx="2097360" cy="900720"/>
          </a:xfrm>
          <a:prstGeom prst="curvedConnector2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6" name=""/>
          <p:cNvCxnSpPr/>
          <p:nvPr/>
        </p:nvCxnSpPr>
        <p:spPr>
          <a:xfrm rot="5400000">
            <a:off x="6796080" y="4358160"/>
            <a:ext cx="686520" cy="12661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69" idx="1"/>
            <a:endCxn id="371" idx="3"/>
          </p:cNvCxnSpPr>
          <p:nvPr/>
        </p:nvCxnSpPr>
        <p:spPr>
          <a:xfrm rot="10800000">
            <a:off x="3733200" y="5485680"/>
            <a:ext cx="1630800" cy="1080"/>
          </a:xfrm>
          <a:prstGeom prst="curvedConnector2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71" idx="0"/>
            <a:endCxn id="374" idx="2"/>
          </p:cNvCxnSpPr>
          <p:nvPr/>
        </p:nvCxnSpPr>
        <p:spPr>
          <a:xfrm flipV="1" rot="16200000">
            <a:off x="1789920" y="4341240"/>
            <a:ext cx="686520" cy="1299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73" idx="0"/>
            <a:endCxn id="365" idx="1"/>
          </p:cNvCxnSpPr>
          <p:nvPr/>
        </p:nvCxnSpPr>
        <p:spPr>
          <a:xfrm flipH="1" flipV="1" rot="5400000">
            <a:off x="2081880" y="2234880"/>
            <a:ext cx="901080" cy="2097360"/>
          </a:xfrm>
          <a:prstGeom prst="curvedConnector2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0" name=""/>
          <p:cNvCxnSpPr/>
          <p:nvPr/>
        </p:nvCxnSpPr>
        <p:spPr>
          <a:xfrm flipV="1" rot="10800000">
            <a:off x="4494960" y="2209320"/>
            <a:ext cx="1080" cy="472320"/>
          </a:xfrm>
          <a:prstGeom prst="curvedConnector2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3658320" y="36421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将企业经营方向转换为绩效标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901400" y="49377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启动实现绩效标准的行动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78560" y="493776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根据绩效标准监控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12880" y="419004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什么是我们的障碍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758680" y="419004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运用绩效管理影响员工行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710600" y="22849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确定经营方向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3520" y="1295280"/>
            <a:ext cx="1904760" cy="304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楷体"/>
                <a:ea typeface="华文楷体"/>
              </a:rPr>
              <a:t>企业愿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8" name=""/>
          <p:cNvCxnSpPr>
            <a:stCxn id="387" idx="3"/>
            <a:endCxn id="363" idx="1"/>
          </p:cNvCxnSpPr>
          <p:nvPr/>
        </p:nvCxnSpPr>
        <p:spPr>
          <a:xfrm>
            <a:off x="2437920" y="1447560"/>
            <a:ext cx="1143720" cy="1080"/>
          </a:xfrm>
          <a:prstGeom prst="bentConnector2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89" name=""/>
          <p:cNvSpPr/>
          <p:nvPr/>
        </p:nvSpPr>
        <p:spPr>
          <a:xfrm>
            <a:off x="6629400" y="1295280"/>
            <a:ext cx="1905120" cy="3049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楷体"/>
                <a:ea typeface="华文楷体"/>
              </a:rPr>
              <a:t>企业使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0" name=""/>
          <p:cNvCxnSpPr>
            <a:stCxn id="389" idx="1"/>
            <a:endCxn id="363" idx="3"/>
          </p:cNvCxnSpPr>
          <p:nvPr/>
        </p:nvCxnSpPr>
        <p:spPr>
          <a:xfrm rot="10800000">
            <a:off x="5482440" y="1447200"/>
            <a:ext cx="1146960" cy="1080"/>
          </a:xfrm>
          <a:prstGeom prst="bentConnector2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1" name=""/>
          <p:cNvSpPr/>
          <p:nvPr/>
        </p:nvSpPr>
        <p:spPr>
          <a:xfrm>
            <a:off x="7848720" y="15228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42280" y="15228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242200" y="1522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648640" y="1522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50000">
                <a:srgbClr val="000080">
                  <a:alpha val="50196"/>
                </a:srgbClr>
              </a:gs>
              <a:gs pos="100000">
                <a:srgbClr val="00003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440080" y="219384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Garamond"/>
                <a:ea typeface="华文隶书"/>
              </a:rPr>
              <a:t>谢谢各位评委老师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分析框架</a:t>
            </a: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828800"/>
            <a:ext cx="1878120" cy="838080"/>
          </a:xfrm>
          <a:custGeom>
            <a:avLst/>
            <a:gdLst>
              <a:gd name="textAreaLeft" fmla="*/ 0 w 1878120"/>
              <a:gd name="textAreaRight" fmla="*/ 1878480 w 1878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50000">
                <a:srgbClr val="000080"/>
              </a:gs>
              <a:gs pos="100000">
                <a:srgbClr val="00003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问题呈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76600" y="1828800"/>
            <a:ext cx="1876320" cy="838080"/>
          </a:xfrm>
          <a:custGeom>
            <a:avLst/>
            <a:gdLst>
              <a:gd name="textAreaLeft" fmla="*/ 0 w 1876320"/>
              <a:gd name="textAreaRight" fmla="*/ 1876680 w 1876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问题诊断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65920" y="1828800"/>
            <a:ext cx="1878120" cy="838080"/>
          </a:xfrm>
          <a:custGeom>
            <a:avLst/>
            <a:gdLst>
              <a:gd name="textAreaLeft" fmla="*/ 0 w 1878120"/>
              <a:gd name="textAreaRight" fmla="*/ 1878480 w 1878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思考启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1520" y="1828800"/>
            <a:ext cx="1878120" cy="838080"/>
          </a:xfrm>
          <a:custGeom>
            <a:avLst/>
            <a:gdLst>
              <a:gd name="textAreaLeft" fmla="*/ 0 w 1878120"/>
              <a:gd name="textAreaRight" fmla="*/ 1878480 w 1878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咨询建议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5" idx="0"/>
            <a:endCxn id="90" idx="1"/>
          </p:cNvCxnSpPr>
          <p:nvPr/>
        </p:nvCxnSpPr>
        <p:spPr>
          <a:xfrm flipH="1" rot="16200000">
            <a:off x="1285560" y="2772360"/>
            <a:ext cx="572400" cy="3610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91" name=""/>
          <p:cNvCxnSpPr/>
          <p:nvPr/>
        </p:nvCxnSpPr>
        <p:spPr>
          <a:xfrm flipH="1" rot="16200000">
            <a:off x="1187280" y="3409560"/>
            <a:ext cx="801000" cy="38160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92" name=""/>
          <p:cNvCxnSpPr/>
          <p:nvPr/>
        </p:nvCxnSpPr>
        <p:spPr>
          <a:xfrm flipH="1" rot="16200000">
            <a:off x="1187640" y="4171680"/>
            <a:ext cx="800640" cy="38160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93" name=""/>
          <p:cNvCxnSpPr/>
          <p:nvPr/>
        </p:nvCxnSpPr>
        <p:spPr>
          <a:xfrm flipH="1" rot="16200000">
            <a:off x="1187280" y="4933440"/>
            <a:ext cx="801000" cy="38160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sp>
        <p:nvSpPr>
          <p:cNvPr id="90" name=""/>
          <p:cNvSpPr/>
          <p:nvPr/>
        </p:nvSpPr>
        <p:spPr>
          <a:xfrm>
            <a:off x="1752480" y="2895480"/>
            <a:ext cx="2971800" cy="6858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  <a:ea typeface="宋体"/>
              </a:rPr>
              <a:t>案例背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3657600"/>
            <a:ext cx="2971800" cy="6858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  <a:ea typeface="宋体"/>
              </a:rPr>
              <a:t>公司面临的问题</a:t>
            </a:r>
            <a:r>
              <a:rPr b="1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4419720"/>
            <a:ext cx="2971800" cy="6858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  <a:ea typeface="宋体"/>
              </a:rPr>
              <a:t>公司的解决方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5181480"/>
            <a:ext cx="2971800" cy="6858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  <a:ea typeface="宋体"/>
              </a:rPr>
              <a:t>新方案引起的争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848720" y="15228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Garamond"/>
              </a:rPr>
              <a:t>案例背景及公司现状分析</a:t>
            </a:r>
            <a:endParaRPr b="1" lang="en-US" sz="4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4648320"/>
            <a:ext cx="2971800" cy="1600200"/>
          </a:xfrm>
          <a:prstGeom prst="rect">
            <a:avLst/>
          </a:prstGeom>
          <a:gradFill rotWithShape="0">
            <a:gsLst>
              <a:gs pos="0">
                <a:srgbClr val="00070e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  <a:ea typeface="宋体"/>
              </a:rPr>
              <a:t>方案遭到许多部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  <a:ea typeface="宋体"/>
              </a:rPr>
              <a:t>经理的反对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42280" y="15228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50000">
                <a:srgbClr val="000080"/>
              </a:gs>
              <a:gs pos="100000">
                <a:srgbClr val="00003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42200" y="1522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48640" y="1522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960" y="1143000"/>
            <a:ext cx="1930320" cy="838080"/>
          </a:xfrm>
          <a:custGeom>
            <a:avLst/>
            <a:gdLst>
              <a:gd name="textAreaLeft" fmla="*/ 0 w 1930320"/>
              <a:gd name="textAreaRight" fmla="*/ 1930680 w 1930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25" y="0"/>
                </a:lnTo>
                <a:lnTo>
                  <a:pt x="21600" y="10800"/>
                </a:lnTo>
                <a:lnTo>
                  <a:pt x="194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  <a:ea typeface="宋体"/>
              </a:rPr>
              <a:t>全面质量管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143000"/>
            <a:ext cx="6400800" cy="838080"/>
          </a:xfrm>
          <a:custGeom>
            <a:avLst/>
            <a:gdLst>
              <a:gd name="textAreaLeft" fmla="*/ 0 w 6400800"/>
              <a:gd name="textAreaRight" fmla="*/ 6401160 w 6400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  <a:ea typeface="宋体"/>
              </a:rPr>
              <a:t>以质量为中心，以全员参与为基础，通过让顾客满意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  <a:ea typeface="宋体"/>
              </a:rPr>
              <a:t>组织成员及社会受益而达到长期成功的管理方式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133720"/>
            <a:ext cx="426744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宋体"/>
              </a:rPr>
              <a:t>实行全面质量管理（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宋体"/>
              </a:rPr>
              <a:t>QFA)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宋体"/>
              </a:rPr>
              <a:t>后的改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666880"/>
            <a:ext cx="4267440" cy="18288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宋体"/>
              </a:rPr>
              <a:t>员工合作度有所提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宋体"/>
              </a:rPr>
              <a:t>新产品上市速度加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宋体"/>
              </a:rPr>
              <a:t>产品质量有所提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宋体"/>
              </a:rPr>
              <a:t>工作效率提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宋体"/>
              </a:rPr>
              <a:t>生产成本降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572000"/>
            <a:ext cx="426744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宋体"/>
              </a:rPr>
              <a:t>公司目前面临状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105520"/>
            <a:ext cx="426744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宋体"/>
              </a:rPr>
              <a:t>在实施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宋体"/>
              </a:rPr>
              <a:t>QFA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宋体"/>
              </a:rPr>
              <a:t>取得一定收效的同时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宋体"/>
              </a:rPr>
              <a:t>Top Chem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宋体"/>
              </a:rPr>
              <a:t>公司也面临非常严重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宋体"/>
              </a:rPr>
              <a:t>部门间协作问题 。 </a:t>
            </a:r>
            <a:r>
              <a:rPr b="1" lang="zh-CN" sz="2000" spc="-1" strike="noStrike">
                <a:solidFill>
                  <a:srgbClr val="ffffff"/>
                </a:solidFill>
                <a:latin typeface="Garamond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2133720"/>
            <a:ext cx="2971800" cy="533160"/>
          </a:xfrm>
          <a:prstGeom prst="rect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解决方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2666880"/>
            <a:ext cx="2971800" cy="18288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拟定出台新的薪酬方案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目的在于加强部门间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成员间的协作，以期能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与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宋体"/>
              </a:rPr>
              <a:t>QFA</a:t>
            </a:r>
            <a:r>
              <a:rPr b="1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相适应，提高公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整体业绩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3124080"/>
            <a:ext cx="914400" cy="2286000"/>
          </a:xfrm>
          <a:custGeom>
            <a:avLst/>
            <a:gdLst>
              <a:gd name="textAreaLeft" fmla="*/ 224640 w 914400"/>
              <a:gd name="textAreaRight" fmla="*/ 689760 w 914400"/>
              <a:gd name="textAreaTop" fmla="*/ 420480 h 2286000"/>
              <a:gd name="textAreaBottom" fmla="*/ 186552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3975"/>
                </a:moveTo>
                <a:lnTo>
                  <a:pt x="13200" y="3975"/>
                </a:lnTo>
                <a:lnTo>
                  <a:pt x="13200" y="0"/>
                </a:lnTo>
                <a:lnTo>
                  <a:pt x="21600" y="10800"/>
                </a:lnTo>
                <a:lnTo>
                  <a:pt x="13200" y="21600"/>
                </a:lnTo>
                <a:lnTo>
                  <a:pt x="13200" y="17625"/>
                </a:lnTo>
                <a:lnTo>
                  <a:pt x="0" y="17625"/>
                </a:lnTo>
                <a:lnTo>
                  <a:pt x="5308" y="10800"/>
                </a:lnTo>
                <a:lnTo>
                  <a:pt x="0" y="3975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新旧薪酬方案比较</a:t>
            </a: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1295280"/>
            <a:ext cx="3352680" cy="457200"/>
          </a:xfrm>
          <a:custGeom>
            <a:avLst/>
            <a:gdLst>
              <a:gd name="textAreaLeft" fmla="*/ 0 w 3352680"/>
              <a:gd name="textAreaRight" fmla="*/ 3353040 w 3352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  <a:ea typeface="宋体"/>
              </a:rPr>
              <a:t>旧的薪酬方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15228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42280" y="15228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50000">
                <a:srgbClr val="000080"/>
              </a:gs>
              <a:gs pos="100000">
                <a:srgbClr val="00003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42200" y="1522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648640" y="1522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295280"/>
            <a:ext cx="3352680" cy="457200"/>
          </a:xfrm>
          <a:custGeom>
            <a:avLst/>
            <a:gdLst>
              <a:gd name="textAreaLeft" fmla="*/ 0 w 3352680"/>
              <a:gd name="textAreaRight" fmla="*/ 3353040 w 3352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  <a:ea typeface="宋体"/>
              </a:rPr>
              <a:t>新的薪酬方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133720"/>
            <a:ext cx="1752480" cy="60948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52" y="0"/>
                </a:lnTo>
                <a:lnTo>
                  <a:pt x="21600" y="10800"/>
                </a:lnTo>
                <a:lnTo>
                  <a:pt x="1835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战略匹配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971800"/>
            <a:ext cx="1752480" cy="60948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52" y="0"/>
                </a:lnTo>
                <a:lnTo>
                  <a:pt x="21600" y="10800"/>
                </a:lnTo>
                <a:lnTo>
                  <a:pt x="1835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鼓励合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5638680"/>
            <a:ext cx="1752480" cy="6858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52" y="0"/>
                </a:lnTo>
                <a:lnTo>
                  <a:pt x="21600" y="10800"/>
                </a:lnTo>
                <a:lnTo>
                  <a:pt x="1835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薪酬结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3809880"/>
            <a:ext cx="1752480" cy="6858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52" y="0"/>
                </a:lnTo>
                <a:lnTo>
                  <a:pt x="21600" y="10800"/>
                </a:lnTo>
                <a:lnTo>
                  <a:pt x="1835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人员激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133720"/>
            <a:ext cx="335268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Garamond"/>
                <a:ea typeface="宋体"/>
              </a:rPr>
              <a:t>与公司战略不匹配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2971800"/>
            <a:ext cx="335268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Garamond"/>
                <a:ea typeface="宋体"/>
              </a:rPr>
              <a:t>不能有效鼓励部门间合作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5638680"/>
            <a:ext cx="335268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员工工资基本固定，只有</a:t>
            </a:r>
            <a:r>
              <a:rPr b="1" lang="zh-CN" sz="1900" spc="-1" strike="noStrike">
                <a:solidFill>
                  <a:srgbClr val="000000"/>
                </a:solidFill>
                <a:latin typeface="Garamond"/>
                <a:ea typeface="宋体"/>
              </a:rPr>
              <a:t>4%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的浮动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3809880"/>
            <a:ext cx="335268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公司整体业绩好坏对员工收入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影响不大，不能有效激励员工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2133720"/>
            <a:ext cx="3352680" cy="609480"/>
          </a:xfrm>
          <a:prstGeom prst="rect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Garamond"/>
                <a:ea typeface="宋体"/>
              </a:rPr>
              <a:t>  </a:t>
            </a:r>
            <a:r>
              <a:rPr b="1" lang="zh-CN" sz="1900" spc="-1" strike="noStrike">
                <a:solidFill>
                  <a:srgbClr val="ffffff"/>
                </a:solidFill>
                <a:latin typeface="Garamond"/>
                <a:ea typeface="宋体"/>
              </a:rPr>
              <a:t>期望符合公司的总体战略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62720" y="2971800"/>
            <a:ext cx="3352680" cy="609480"/>
          </a:xfrm>
          <a:prstGeom prst="rect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Garamond"/>
                <a:ea typeface="宋体"/>
              </a:rPr>
              <a:t>  </a:t>
            </a:r>
            <a:r>
              <a:rPr b="1" lang="zh-CN" sz="1900" spc="-1" strike="noStrike">
                <a:solidFill>
                  <a:srgbClr val="ffffff"/>
                </a:solidFill>
                <a:latin typeface="Garamond"/>
                <a:ea typeface="宋体"/>
              </a:rPr>
              <a:t>意图鼓励成员、部门间为提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Garamond"/>
                <a:ea typeface="宋体"/>
              </a:rPr>
              <a:t>  </a:t>
            </a:r>
            <a:r>
              <a:rPr b="1" lang="zh-CN" sz="1900" spc="-1" strike="noStrike">
                <a:solidFill>
                  <a:srgbClr val="ffffff"/>
                </a:solidFill>
                <a:latin typeface="Garamond"/>
                <a:ea typeface="宋体"/>
              </a:rPr>
              <a:t>高公司整体业绩而合作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3809880"/>
            <a:ext cx="3352680" cy="685800"/>
          </a:xfrm>
          <a:prstGeom prst="rect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Garamond"/>
                <a:ea typeface="宋体"/>
              </a:rPr>
              <a:t>  </a:t>
            </a:r>
            <a:r>
              <a:rPr b="1" lang="zh-CN" sz="1900" spc="-1" strike="noStrike">
                <a:solidFill>
                  <a:srgbClr val="ffffff"/>
                </a:solidFill>
                <a:latin typeface="Garamond"/>
                <a:ea typeface="宋体"/>
              </a:rPr>
              <a:t>公司整体业绩下降，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Garamond"/>
                <a:ea typeface="宋体"/>
              </a:rPr>
              <a:t>  </a:t>
            </a:r>
            <a:r>
              <a:rPr b="1" lang="zh-CN" sz="1900" spc="-1" strike="noStrike">
                <a:solidFill>
                  <a:srgbClr val="ffffff"/>
                </a:solidFill>
                <a:latin typeface="Garamond"/>
                <a:ea typeface="宋体"/>
              </a:rPr>
              <a:t>各部门将会受到惩罚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5638680"/>
            <a:ext cx="3352680" cy="685800"/>
          </a:xfrm>
          <a:prstGeom prst="rect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基本工资：原工资额的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7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浮动工资：原工资额的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4724280"/>
            <a:ext cx="1752480" cy="6858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52" y="0"/>
                </a:lnTo>
                <a:lnTo>
                  <a:pt x="21600" y="10800"/>
                </a:lnTo>
                <a:lnTo>
                  <a:pt x="1835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评定标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4724280"/>
            <a:ext cx="335268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以等级、职位等作为薪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评定标准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4724280"/>
            <a:ext cx="3352680" cy="685800"/>
          </a:xfrm>
          <a:prstGeom prst="rect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r>
              <a:rPr b="1" lang="zh-CN" sz="1900" spc="-1" strike="noStrike">
                <a:solidFill>
                  <a:srgbClr val="ffffff"/>
                </a:solidFill>
                <a:latin typeface="Garamond"/>
                <a:ea typeface="宋体"/>
              </a:rPr>
              <a:t>浮动部分将业绩考核作为标准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 flipH="1" rot="5400000">
            <a:off x="4495680" y="3428640"/>
            <a:ext cx="3809880" cy="761760"/>
          </a:xfrm>
          <a:custGeom>
            <a:avLst/>
            <a:gdLst>
              <a:gd name="textAreaLeft" fmla="*/ 685080 w 3809880"/>
              <a:gd name="textAreaRight" fmla="*/ 3124800 w 3809880"/>
              <a:gd name="textAreaTop" fmla="*/ 136800 h 761760"/>
              <a:gd name="textAreaBottom" fmla="*/ 624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57" y="21600"/>
                </a:lnTo>
                <a:lnTo>
                  <a:pt x="3843" y="2160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1143000"/>
            <a:ext cx="3048120" cy="5257800"/>
          </a:xfrm>
          <a:prstGeom prst="rightArrowCallout">
            <a:avLst>
              <a:gd name="adj1" fmla="val 49692"/>
              <a:gd name="adj2" fmla="val 32654"/>
              <a:gd name="adj3" fmla="val 5366"/>
              <a:gd name="adj4" fmla="val 92032"/>
            </a:avLst>
          </a:prstGeom>
          <a:gradFill rotWithShape="0">
            <a:gsLst>
              <a:gs pos="0">
                <a:srgbClr val="46172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新方案引起各方争议</a:t>
            </a:r>
            <a:endParaRPr b="1" lang="en-US" sz="4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7848720" y="15228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42280" y="15228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50000">
                <a:srgbClr val="000080"/>
              </a:gs>
              <a:gs pos="100000">
                <a:srgbClr val="00003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42200" y="1522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648640" y="1522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6000" y="1371600"/>
            <a:ext cx="2666880" cy="53352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价值所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6000" y="1905120"/>
            <a:ext cx="2666880" cy="152388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相比原薪酬体系有改进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鼓励部门间沟通合作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鼓励员工关心公司利益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Garamond"/>
                <a:ea typeface="宋体"/>
              </a:rPr>
              <a:t> </a:t>
            </a:r>
            <a:r>
              <a:rPr b="1" lang="zh-CN" sz="1700" spc="-1" strike="noStrike">
                <a:solidFill>
                  <a:srgbClr val="000000"/>
                </a:solidFill>
                <a:latin typeface="Garamond"/>
                <a:ea typeface="宋体"/>
              </a:rPr>
              <a:t>与公司总战略相匹配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6000" y="4038480"/>
            <a:ext cx="2666880" cy="53352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方案缺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6000" y="4572000"/>
            <a:ext cx="2666880" cy="152388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完善的考评体系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完善的考评指标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考核与业绩关联不大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对个人的激励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438280"/>
            <a:ext cx="2895480" cy="5335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员工观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2971800"/>
            <a:ext cx="2895480" cy="22096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新方案不鼓励多劳多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令研发人员无暇专心工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收入受其他部门表现影响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部分员工对方案缺乏理解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0920" y="1905120"/>
            <a:ext cx="2210040" cy="1447560"/>
          </a:xfrm>
          <a:prstGeom prst="rect">
            <a:avLst/>
          </a:prstGeom>
          <a:gradFill rotWithShape="0">
            <a:gsLst>
              <a:gs pos="0">
                <a:srgbClr val="00070e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ffff"/>
                </a:solidFill>
                <a:latin typeface="Times New Roman"/>
                <a:ea typeface="宋体"/>
              </a:rPr>
              <a:t>内部不公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ffff"/>
                </a:solidFill>
                <a:latin typeface="Times New Roman"/>
                <a:ea typeface="宋体"/>
              </a:rPr>
              <a:t>现象的产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30920" y="4267080"/>
            <a:ext cx="2210040" cy="1447920"/>
          </a:xfrm>
          <a:prstGeom prst="rect">
            <a:avLst/>
          </a:prstGeom>
          <a:gradFill rotWithShape="0">
            <a:gsLst>
              <a:gs pos="0">
                <a:srgbClr val="00070e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5ffff"/>
                </a:solidFill>
                <a:latin typeface="Times New Roman"/>
                <a:ea typeface="宋体"/>
              </a:rPr>
              <a:t>相互埋怨指责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5ffff"/>
                </a:solidFill>
                <a:latin typeface="Times New Roman"/>
                <a:ea typeface="宋体"/>
              </a:rPr>
              <a:t>的工作氛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3124080"/>
            <a:ext cx="2286000" cy="1295640"/>
          </a:xfrm>
          <a:custGeom>
            <a:avLst/>
            <a:gdLst>
              <a:gd name="textAreaLeft" fmla="*/ 521640 w 2286000"/>
              <a:gd name="textAreaRight" fmla="*/ 1764360 w 228600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5ffff"/>
                </a:solidFill>
                <a:latin typeface="Times New Roman"/>
                <a:ea typeface="宋体"/>
              </a:rPr>
              <a:t>多数员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5ffff"/>
                </a:solidFill>
                <a:latin typeface="Times New Roman"/>
                <a:ea typeface="宋体"/>
              </a:rPr>
              <a:t>对此不满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问题诊断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新的薪酬及绩效考核体系的分析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828800"/>
            <a:ext cx="1878120" cy="838080"/>
          </a:xfrm>
          <a:custGeom>
            <a:avLst/>
            <a:gdLst>
              <a:gd name="textAreaLeft" fmla="*/ 0 w 1878120"/>
              <a:gd name="textAreaRight" fmla="*/ 1878480 w 1878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问题呈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76600" y="1828800"/>
            <a:ext cx="1876320" cy="838080"/>
          </a:xfrm>
          <a:custGeom>
            <a:avLst/>
            <a:gdLst>
              <a:gd name="textAreaLeft" fmla="*/ 0 w 1876320"/>
              <a:gd name="textAreaRight" fmla="*/ 1876680 w 1876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50000">
                <a:srgbClr val="000080"/>
              </a:gs>
              <a:gs pos="100000">
                <a:srgbClr val="00003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问题诊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65920" y="1828800"/>
            <a:ext cx="1878120" cy="838080"/>
          </a:xfrm>
          <a:custGeom>
            <a:avLst/>
            <a:gdLst>
              <a:gd name="textAreaLeft" fmla="*/ 0 w 1878120"/>
              <a:gd name="textAreaRight" fmla="*/ 1878480 w 1878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思考启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1520" y="1828800"/>
            <a:ext cx="1878120" cy="838080"/>
          </a:xfrm>
          <a:custGeom>
            <a:avLst/>
            <a:gdLst>
              <a:gd name="textAreaLeft" fmla="*/ 0 w 1878120"/>
              <a:gd name="textAreaRight" fmla="*/ 1878480 w 1878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咨询建议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2" idx="0"/>
            <a:endCxn id="156" idx="1"/>
          </p:cNvCxnSpPr>
          <p:nvPr/>
        </p:nvCxnSpPr>
        <p:spPr>
          <a:xfrm flipH="1" rot="16200000">
            <a:off x="3385080" y="2738160"/>
            <a:ext cx="572400" cy="4294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57" name=""/>
          <p:cNvCxnSpPr>
            <a:endCxn id="158" idx="1"/>
          </p:cNvCxnSpPr>
          <p:nvPr/>
        </p:nvCxnSpPr>
        <p:spPr>
          <a:xfrm flipH="1" rot="16200000">
            <a:off x="3269160" y="3384360"/>
            <a:ext cx="801000" cy="43236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3886200" y="2895480"/>
            <a:ext cx="3276720" cy="6858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Garamond"/>
                <a:ea typeface="宋体"/>
              </a:rPr>
              <a:t>新方案缺陷</a:t>
            </a:r>
            <a:r>
              <a:rPr b="1" lang="en-US" sz="1900" spc="-1" strike="noStrike">
                <a:solidFill>
                  <a:srgbClr val="ffffff"/>
                </a:solidFill>
                <a:latin typeface="Garamond"/>
                <a:ea typeface="宋体"/>
              </a:rPr>
              <a:t>SMART</a:t>
            </a:r>
            <a:r>
              <a:rPr b="1" lang="zh-CN" sz="1900" spc="-1" strike="noStrike">
                <a:solidFill>
                  <a:srgbClr val="ffffff"/>
                </a:solidFill>
                <a:latin typeface="Garamond"/>
                <a:ea typeface="宋体"/>
              </a:rPr>
              <a:t>分析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3657600"/>
            <a:ext cx="3276720" cy="6858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Garamond"/>
                <a:ea typeface="宋体"/>
              </a:rPr>
              <a:t>绩效</a:t>
            </a:r>
            <a:r>
              <a:rPr b="1" lang="zh-CN" sz="1900" spc="-1" strike="noStrike">
                <a:solidFill>
                  <a:srgbClr val="ffffff"/>
                </a:solidFill>
                <a:latin typeface="Garamond"/>
                <a:ea typeface="宋体"/>
              </a:rPr>
              <a:t>/</a:t>
            </a:r>
            <a:r>
              <a:rPr b="1" lang="zh-CN" sz="1900" spc="-1" strike="noStrike">
                <a:solidFill>
                  <a:srgbClr val="ffffff"/>
                </a:solidFill>
                <a:latin typeface="Garamond"/>
                <a:ea typeface="宋体"/>
              </a:rPr>
              <a:t>薪酬体系的制度性缺陷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新方案缺陷的</a:t>
            </a:r>
            <a:r>
              <a:rPr b="1" lang="en-US" sz="4400" spc="-1" strike="noStrike">
                <a:solidFill>
                  <a:srgbClr val="ffffff"/>
                </a:solidFill>
                <a:latin typeface="宋体"/>
              </a:rPr>
              <a:t>SMART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分析</a:t>
            </a: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447920"/>
            <a:ext cx="1676160" cy="83808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14" y="0"/>
                </a:lnTo>
                <a:lnTo>
                  <a:pt x="21600" y="10800"/>
                </a:lnTo>
                <a:lnTo>
                  <a:pt x="18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具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Speci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438280"/>
            <a:ext cx="1676160" cy="83844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86" y="0"/>
                </a:lnTo>
                <a:lnTo>
                  <a:pt x="21600" y="10800"/>
                </a:lnTo>
                <a:lnTo>
                  <a:pt x="182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可量化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Measur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3429000"/>
            <a:ext cx="1676160" cy="83808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07" y="0"/>
                </a:lnTo>
                <a:lnTo>
                  <a:pt x="21600" y="10800"/>
                </a:lnTo>
                <a:lnTo>
                  <a:pt x="183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可实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Attainab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4419720"/>
            <a:ext cx="1676160" cy="83808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0" y="0"/>
                </a:lnTo>
                <a:lnTo>
                  <a:pt x="21600" y="10800"/>
                </a:lnTo>
                <a:lnTo>
                  <a:pt x="179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现实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Realis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5381640"/>
            <a:ext cx="1676160" cy="83808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50" y="0"/>
                </a:lnTo>
                <a:lnTo>
                  <a:pt x="21600" y="10800"/>
                </a:lnTo>
                <a:lnTo>
                  <a:pt x="184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时限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Time Bo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06640" y="1447920"/>
            <a:ext cx="40132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宋体"/>
                <a:ea typeface="宋体"/>
              </a:rPr>
              <a:t>指绩效考核要切中特定的工作指标，不能笼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03400" y="2438280"/>
            <a:ext cx="401652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宋体"/>
                <a:ea typeface="宋体"/>
              </a:rPr>
              <a:t>考核指标尽量量化，不能定量的指标通过详细、全面的描述定性的分析，使主观性尽可能降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03400" y="3429000"/>
            <a:ext cx="40165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宋体"/>
                <a:ea typeface="宋体"/>
              </a:rPr>
              <a:t>指绩效指标在付出努力的情况下可以实现，避免设立过高或过低的目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03400" y="4419720"/>
            <a:ext cx="40165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宋体"/>
                <a:ea typeface="宋体"/>
              </a:rPr>
              <a:t>绩效指标实实在在，可以证明和观察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03400" y="5381640"/>
            <a:ext cx="40165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宋体"/>
                <a:ea typeface="宋体"/>
              </a:rPr>
              <a:t>注重完成绩效指标的特定期限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2428920"/>
            <a:ext cx="2819520" cy="380772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23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对</a:t>
            </a:r>
            <a:r>
              <a:rPr b="1" i="1" lang="zh-CN" sz="1800" spc="-1" strike="noStrike">
                <a:solidFill>
                  <a:srgbClr val="ff0000"/>
                </a:solidFill>
                <a:latin typeface="Garamond"/>
                <a:ea typeface="宋体"/>
              </a:rPr>
              <a:t>不同部门 </a:t>
            </a:r>
            <a:r>
              <a:rPr b="1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缺乏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 有针对性的考核指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23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对</a:t>
            </a:r>
            <a:r>
              <a:rPr b="1" i="1" lang="zh-CN" sz="1800" spc="-1" strike="noStrike">
                <a:solidFill>
                  <a:srgbClr val="ff0000"/>
                </a:solidFill>
                <a:latin typeface="Garamond"/>
                <a:ea typeface="宋体"/>
              </a:rPr>
              <a:t>不同级别</a:t>
            </a:r>
            <a:r>
              <a:rPr b="1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员工缺乏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  针对性的考核指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23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考核指标</a:t>
            </a:r>
            <a:r>
              <a:rPr b="1" i="1" lang="zh-CN" sz="1800" spc="-1" strike="noStrike">
                <a:solidFill>
                  <a:srgbClr val="ff0000"/>
                </a:solidFill>
                <a:latin typeface="Garamond"/>
                <a:ea typeface="宋体"/>
              </a:rPr>
              <a:t>不可量化</a:t>
            </a:r>
            <a:r>
              <a:rPr b="1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  缺乏可操作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23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新的薪酬方案</a:t>
            </a:r>
            <a:r>
              <a:rPr b="1" lang="zh-CN" sz="1800" spc="-1" strike="noStrike">
                <a:solidFill>
                  <a:srgbClr val="ff0000"/>
                </a:solidFill>
                <a:latin typeface="Garamond"/>
                <a:ea typeface="宋体"/>
              </a:rPr>
              <a:t>只下不上</a:t>
            </a:r>
            <a:r>
              <a:rPr b="1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 只惩罚不奖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23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aramond"/>
                <a:ea typeface="宋体"/>
              </a:rPr>
              <a:t>缺乏对员工</a:t>
            </a:r>
            <a:r>
              <a:rPr b="1" lang="zh-CN" sz="1800" spc="-1" strike="noStrike">
                <a:solidFill>
                  <a:srgbClr val="ff0000"/>
                </a:solidFill>
                <a:latin typeface="Garamond"/>
                <a:ea typeface="宋体"/>
              </a:rPr>
              <a:t>个人的激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15228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50000">
                <a:srgbClr val="000080">
                  <a:alpha val="50196"/>
                </a:srgbClr>
              </a:gs>
              <a:gs pos="100000">
                <a:srgbClr val="00003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442280" y="15228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1522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648640" y="1522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1447920"/>
            <a:ext cx="2819520" cy="60948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新方案的缺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变动薪酬与固定工资的比例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7" name=""/>
          <p:cNvSpPr/>
          <p:nvPr/>
        </p:nvSpPr>
        <p:spPr>
          <a:xfrm>
            <a:off x="863640" y="1752480"/>
            <a:ext cx="457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宋体"/>
              </a:rPr>
              <a:t>工作的可客观衡量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29000" y="5915160"/>
            <a:ext cx="23446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宋体"/>
              </a:rPr>
              <a:t>工作的职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1600200"/>
            <a:ext cx="0" cy="380988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25520" y="1219320"/>
            <a:ext cx="4269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25520" y="5486400"/>
            <a:ext cx="4269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3800" y="5626080"/>
            <a:ext cx="4269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27800" y="5626080"/>
            <a:ext cx="4255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48720" y="15228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50000">
                <a:srgbClr val="000080">
                  <a:alpha val="50196"/>
                </a:srgbClr>
              </a:gs>
              <a:gs pos="100000">
                <a:srgbClr val="00003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442280" y="15228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42200" y="1522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648640" y="1522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1219320"/>
            <a:ext cx="2819520" cy="60948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较为平衡的比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1828800"/>
            <a:ext cx="2819520" cy="144792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变动薪酬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固定工资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3429000"/>
            <a:ext cx="2819520" cy="60948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较低比例的奖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28800" y="4038480"/>
            <a:ext cx="2819520" cy="144792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变动薪酬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固定工资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429000"/>
            <a:ext cx="2819520" cy="60948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较为平衡的比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1219320"/>
            <a:ext cx="2819520" cy="60948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较高比例的奖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1828800"/>
            <a:ext cx="2819520" cy="144792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变动薪酬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固定工资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4038480"/>
            <a:ext cx="2819520" cy="144792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变动薪酬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固定工资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2209680"/>
            <a:ext cx="457200" cy="381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2590920"/>
            <a:ext cx="457200" cy="380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2209680"/>
            <a:ext cx="457200" cy="457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2666880"/>
            <a:ext cx="457200" cy="304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4419720"/>
            <a:ext cx="457200" cy="228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4648320"/>
            <a:ext cx="457200" cy="5331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4419720"/>
            <a:ext cx="457200" cy="380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10280" y="4800600"/>
            <a:ext cx="457200" cy="380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80720" y="5791320"/>
            <a:ext cx="52578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076640" y="1752480"/>
            <a:ext cx="4915080" cy="4496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1523880"/>
            <a:ext cx="3809880" cy="4953240"/>
          </a:xfrm>
          <a:prstGeom prst="rightArrowCallout">
            <a:avLst>
              <a:gd name="adj1" fmla="val 37454"/>
              <a:gd name="adj2" fmla="val 24612"/>
              <a:gd name="adj3" fmla="val 5366"/>
              <a:gd name="adj4" fmla="val 92032"/>
            </a:avLst>
          </a:prstGeom>
          <a:gradFill rotWithShape="0">
            <a:gsLst>
              <a:gs pos="0">
                <a:srgbClr val="46172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完善的薪酬体系的特点及层次</a:t>
            </a:r>
            <a:endParaRPr b="1" lang="en-US" sz="4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2209680"/>
            <a:ext cx="1981080" cy="7318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企业整体业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91120" y="3581280"/>
            <a:ext cx="1981080" cy="7318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部门业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5029200"/>
            <a:ext cx="1981080" cy="7318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个人业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1219320"/>
            <a:ext cx="380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绩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效 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薪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酬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体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990720"/>
            <a:ext cx="8458200" cy="457200"/>
          </a:xfrm>
          <a:custGeom>
            <a:avLst/>
            <a:gdLst>
              <a:gd name="textAreaLeft" fmla="*/ 0 w 8458200"/>
              <a:gd name="textAreaRight" fmla="*/ 8458560 w 8458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好的考核指标不能只偏颇于某一个或某两个层次，要全面均衡不同层次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88840" y="1600200"/>
            <a:ext cx="2666880" cy="4749840"/>
            <a:chOff x="888840" y="1600200"/>
            <a:chExt cx="2666880" cy="4749840"/>
          </a:xfrm>
        </p:grpSpPr>
        <p:sp>
          <p:nvSpPr>
            <p:cNvPr id="214" name=""/>
            <p:cNvSpPr/>
            <p:nvPr/>
          </p:nvSpPr>
          <p:spPr>
            <a:xfrm>
              <a:off x="888840" y="1600200"/>
              <a:ext cx="2666880" cy="609480"/>
            </a:xfrm>
            <a:prstGeom prst="rect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Garamond"/>
                  <a:ea typeface="宋体"/>
                </a:rPr>
                <a:t>组织目标的匹配程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88840" y="2286000"/>
              <a:ext cx="2666880" cy="609480"/>
            </a:xfrm>
            <a:prstGeom prst="rect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aramond"/>
                  <a:ea typeface="宋体"/>
                </a:rPr>
                <a:t>适用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88840" y="2971800"/>
              <a:ext cx="2666880" cy="609480"/>
            </a:xfrm>
            <a:prstGeom prst="rect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aramond"/>
                  <a:ea typeface="宋体"/>
                </a:rPr>
                <a:t>公平性</a:t>
              </a:r>
              <a:r>
                <a:rPr b="0" lang="zh-CN" sz="1800" spc="-1" strike="noStrike">
                  <a:solidFill>
                    <a:srgbClr val="ffffff"/>
                  </a:solidFill>
                  <a:latin typeface="Garamond"/>
                  <a:ea typeface="宋体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88840" y="3657600"/>
              <a:ext cx="2666880" cy="609480"/>
            </a:xfrm>
            <a:prstGeom prst="rect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aramond"/>
                  <a:ea typeface="宋体"/>
                </a:rPr>
                <a:t>可实施性</a:t>
              </a:r>
              <a:r>
                <a:rPr b="0" lang="zh-CN" sz="1800" spc="-1" strike="noStrike">
                  <a:solidFill>
                    <a:srgbClr val="ffffff"/>
                  </a:solidFill>
                  <a:latin typeface="Garamond"/>
                  <a:ea typeface="宋体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88840" y="4368960"/>
              <a:ext cx="2666880" cy="609480"/>
            </a:xfrm>
            <a:prstGeom prst="rect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aramond"/>
                  <a:ea typeface="宋体"/>
                </a:rPr>
                <a:t>可衡量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88840" y="5054760"/>
              <a:ext cx="2666880" cy="609480"/>
            </a:xfrm>
            <a:prstGeom prst="rect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aramond"/>
                  <a:ea typeface="宋体"/>
                </a:rPr>
                <a:t>管理成本的合理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88840" y="5740560"/>
              <a:ext cx="2666880" cy="609480"/>
            </a:xfrm>
            <a:prstGeom prst="rect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aramond"/>
                  <a:ea typeface="宋体"/>
                </a:rPr>
                <a:t>激励作用</a:t>
              </a:r>
              <a:r>
                <a:rPr b="0" lang="zh-CN" sz="1800" spc="-1" strike="noStrike">
                  <a:solidFill>
                    <a:srgbClr val="ffffff"/>
                  </a:solidFill>
                  <a:latin typeface="Garamond"/>
                  <a:ea typeface="宋体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 rot="16200000">
            <a:off x="4991040" y="4152960"/>
            <a:ext cx="457200" cy="990720"/>
          </a:xfrm>
          <a:custGeom>
            <a:avLst/>
            <a:gdLst>
              <a:gd name="textAreaLeft" fmla="*/ 118440 w 457200"/>
              <a:gd name="textAreaRight" fmla="*/ 338760 w 457200"/>
              <a:gd name="textAreaTop" fmla="*/ 242640 h 990720"/>
              <a:gd name="textAreaBottom" fmla="*/ 748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5296"/>
                </a:moveTo>
                <a:lnTo>
                  <a:pt x="10620" y="5296"/>
                </a:lnTo>
                <a:lnTo>
                  <a:pt x="10620" y="0"/>
                </a:lnTo>
                <a:lnTo>
                  <a:pt x="21600" y="10800"/>
                </a:lnTo>
                <a:lnTo>
                  <a:pt x="10620" y="21600"/>
                </a:lnTo>
                <a:lnTo>
                  <a:pt x="10620" y="16304"/>
                </a:lnTo>
                <a:lnTo>
                  <a:pt x="0" y="16304"/>
                </a:lnTo>
                <a:lnTo>
                  <a:pt x="5596" y="10800"/>
                </a:lnTo>
                <a:lnTo>
                  <a:pt x="0" y="5296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991040" y="2781360"/>
            <a:ext cx="457200" cy="990720"/>
          </a:xfrm>
          <a:custGeom>
            <a:avLst/>
            <a:gdLst>
              <a:gd name="textAreaLeft" fmla="*/ 118440 w 457200"/>
              <a:gd name="textAreaRight" fmla="*/ 338760 w 457200"/>
              <a:gd name="textAreaTop" fmla="*/ 242640 h 990720"/>
              <a:gd name="textAreaBottom" fmla="*/ 748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5296"/>
                </a:moveTo>
                <a:lnTo>
                  <a:pt x="10620" y="5296"/>
                </a:lnTo>
                <a:lnTo>
                  <a:pt x="10620" y="0"/>
                </a:lnTo>
                <a:lnTo>
                  <a:pt x="21600" y="10800"/>
                </a:lnTo>
                <a:lnTo>
                  <a:pt x="10620" y="21600"/>
                </a:lnTo>
                <a:lnTo>
                  <a:pt x="10620" y="16304"/>
                </a:lnTo>
                <a:lnTo>
                  <a:pt x="0" y="16304"/>
                </a:lnTo>
                <a:lnTo>
                  <a:pt x="5596" y="10800"/>
                </a:lnTo>
                <a:lnTo>
                  <a:pt x="0" y="5296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72200" y="5410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29400" y="1905120"/>
            <a:ext cx="2209680" cy="121896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成本、利润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学习型组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企业长期价值最大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29400" y="3352680"/>
            <a:ext cx="2209680" cy="121932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组织业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部门学习成长能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对组织价值链的贡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29400" y="4800600"/>
            <a:ext cx="2209680" cy="121932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个人业绩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个人学习成长能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对组织价值链的贡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48720" y="15228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3b"/>
              </a:gs>
              <a:gs pos="50000">
                <a:srgbClr val="000080">
                  <a:alpha val="50196"/>
                </a:srgbClr>
              </a:gs>
              <a:gs pos="100000">
                <a:srgbClr val="00003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42280" y="152280"/>
            <a:ext cx="380880" cy="304920"/>
          </a:xfrm>
          <a:custGeom>
            <a:avLst/>
            <a:gdLst>
              <a:gd name="textAreaLeft" fmla="*/ 0 w 380880"/>
              <a:gd name="textAreaRight" fmla="*/ 38124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42200" y="1522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648640" y="152280"/>
            <a:ext cx="381240" cy="304920"/>
          </a:xfrm>
          <a:custGeom>
            <a:avLst/>
            <a:gdLst>
              <a:gd name="textAreaLeft" fmla="*/ 0 w 381240"/>
              <a:gd name="textAreaRight" fmla="*/ 381600 w 381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86" y="0"/>
                </a:lnTo>
                <a:lnTo>
                  <a:pt x="21600" y="10800"/>
                </a:lnTo>
                <a:lnTo>
                  <a:pt x="179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50000">
                <a:srgbClr val="99ccff">
                  <a:alpha val="50196"/>
                </a:srgbClr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5:31:14Z</dcterms:created>
  <dc:creator>Marc Wang</dc:creator>
  <dc:description/>
  <dc:language>en-US</dc:language>
  <cp:lastModifiedBy>april.yuan</cp:lastModifiedBy>
  <dcterms:modified xsi:type="dcterms:W3CDTF">2005-12-16T08:10:05Z</dcterms:modified>
  <cp:revision>291</cp:revision>
  <dc:subject/>
  <dc:title>The Chinese Stock Market:  Ups and Dow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7576587</vt:r8>
  </property>
  <property fmtid="{D5CDD505-2E9C-101B-9397-08002B2CF9AE}" pid="3" name="_AuthorEmail">
    <vt:lpwstr>echo.ren@hbrchina.com</vt:lpwstr>
  </property>
  <property fmtid="{D5CDD505-2E9C-101B-9397-08002B2CF9AE}" pid="4" name="_AuthorEmailDisplayName">
    <vt:lpwstr>echo ren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